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8763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Img"/>
          </p:nvPr>
        </p:nvSpPr>
        <p:spPr>
          <a:xfrm>
            <a:off x="1639800" y="685440"/>
            <a:ext cx="3578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4FD-6A9E-422C-B681-62765F196B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8083-09BA-4871-9F9A-69DD2BAFEC0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639800" y="685800"/>
            <a:ext cx="35784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К группы взаимосвязанных отраслей, которые выполняют общие задачи для получения нужной обществу конечной продукции или необходимых населению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383-BBFD-448A-9709-44042339E87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639800" y="685800"/>
            <a:ext cx="35784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30B-37CC-46C4-877C-5889B03E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AB6-4B10-4BC8-B6EB-FFF102F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830-838E-4839-95FF-C102463E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63B-C99D-4C0D-9562-F811354B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18CDD-95B4-4577-92C1-5CC08B4B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A6AE4-5A81-46B7-BF0E-206318B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439D4-57B8-4828-BA99-9618DED5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6524-4580-4D11-8E24-30E79E2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E3382-23DD-45E8-B2FB-A3D51DD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86B1-ACE0-47B4-A8A9-20D9C77B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0D2A-D829-4513-8F47-656DF41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580-9A23-424C-8B7D-AF70F204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31C48-EB96-4CD0-AF61-3696A04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D4A74-E0A1-4C93-8A88-5286496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405A-73E6-4A17-AF04-6DC962BE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4E6BC-6BBD-474F-9D03-E71866EE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9FA3C-5F98-4524-9FFF-D2CCB6B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B150-58C6-4799-902E-DAA46985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66A6-9127-4D5D-A7F5-4187D9E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2C5B-AC7B-4FED-954A-DEA71FC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DFFD-48F1-4065-98AA-3589DB91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293D-918B-4A4C-970D-079F82E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909-432B-459F-8C8B-1DA4FD3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4B47-9604-48AD-9B28-70BD6FB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A081-9102-435B-9905-18EC7005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2F7C6-1C62-4EC4-A656-2B23574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0B53-ABBE-40CF-99C0-10A11F0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7A70-8B50-4E44-8B6B-7F9AD1D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3DB2-FC82-45F5-9F3A-5CE4A1AD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5F85-5D06-4131-B15C-6FAE7B5C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2B9D-71DA-4FE9-95FC-27F77942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4DE9-9C92-40F5-8B90-3E08A76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09F9-EC4A-41B6-8E68-DB00E0A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9B2-68BF-45D1-BE1E-2CB451C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E7FA-F0EE-42F1-8DEE-BA1C9CB4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A0BC-3E1B-49BE-AC59-CF4D1E5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D80F-DE16-4F68-94AE-886FE161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02396-BA8D-4888-800B-87601ED2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4495-575B-45F2-970E-20011A5E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5A91-690C-4C76-B51C-0A17F80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F67AF-0FD6-4C48-9425-B12DA928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472F-24D7-4B35-9DDA-63265DAE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B0E4-F011-4155-B914-0A3517A5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853A-9407-4B29-9E29-6A938A44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4D5-5579-4253-83AC-42D8348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9085-418F-4982-A5B1-1B177B3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8E3A-12D2-4DA6-9A46-FAD5FB8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6EDC-1627-4597-882E-F20CEA07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B9786-9A16-4BAA-A235-DF4818C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714F-CF1F-43E7-8779-C3BD08E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9601-535D-4041-9D27-4056065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7FAA-2C90-4748-8349-190FA10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B785-3F12-4174-A4E5-5AE0D3C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FFCE4-E113-404C-8B15-9CF7D00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4AAA-61FB-48A7-8443-AEFDD643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D6B-9FE6-4AF0-8B2F-7E049A5B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63C1-FD69-4F54-97D0-6B5E587A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953E-9575-447C-B6C9-1BC97EC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C7FC7-CD87-469E-B08A-22B44D9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1043-069B-413C-B3B8-06C2758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716E-74F9-422E-8A99-95BF1716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D7336-6AAF-4CBE-AAD1-A3C2C64F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5224D-DF6F-4E56-882D-C68E1B7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73DA-59E9-4433-9E17-02CE48A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B66A-EEDA-4E57-93A6-2B9CB5F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1931-6114-4C2A-9FB7-F7E5E952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97C-14B0-4ADB-9920-30FBB93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1620-F593-480A-9AE2-791B0A5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12209-F686-4DD2-875B-945211A7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31D5-2DF1-44F6-A641-E9E52F77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1597-8BC5-48BC-83CE-8BEE7AD8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FAE9-757D-4152-BFE5-FF188417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BC9F-FC70-4D8A-A38B-BEB0B433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0C596-6700-472C-BCF2-A7AD327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1FF2-74DE-4382-9381-23D1DCC5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0793-A462-4CA8-ACF9-0CA9BA8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817B-86F8-4DE3-997D-3CF73769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61F-BF32-426D-8A79-C57EC7E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BECB-B840-4AC2-AFE9-C0E160D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EACD-DBFA-4558-8CB2-A32E298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D28A-E639-447A-A3A0-8D38159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108E9-37D3-4E5D-9E1B-3F999B41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F8B4-F9CA-4158-A012-1659B4BF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18F2-2879-4F10-91AB-0D7E2EE1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FA3A-AE8F-410D-8422-B959406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D481-355A-4FB9-98F1-9A46E61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E448-B84C-430E-905A-36A60AB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A0F1-3E0A-43D5-B13B-E5CE8035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2F1-99EC-43E6-9C22-1BECEF4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7200" y="355320"/>
            <a:ext cx="8229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71CBD-BEE5-49BB-8953-C626EF21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9D3A-6BD0-4D44-B208-E531823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EF3D-9558-46AC-A0A1-865602E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E46FD-E7E1-4FF6-9216-49C7BBA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7200" y="5069160"/>
            <a:ext cx="822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88917-128E-4BB7-A96A-7469155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204480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4240" y="5069160"/>
            <a:ext cx="40158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8FA4-C033-4DA6-B3B8-F762F1D7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3964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22080" y="204480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720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3964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22080" y="5069160"/>
            <a:ext cx="2649600" cy="27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2AC7-02AA-4F26-AF6A-E215FAF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8760240"/>
            <a:chOff x="0" y="0"/>
            <a:chExt cx="9142560" cy="87602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211536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8760240"/>
              <a:chOff x="0" y="0"/>
              <a:chExt cx="9142560" cy="876024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2109240"/>
                <a:ext cx="914112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8089200"/>
                <a:ext cx="9140760" cy="849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7434000"/>
                <a:ext cx="9140760" cy="6228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6823080"/>
                <a:ext cx="9140760" cy="6084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6297840"/>
                <a:ext cx="9140760" cy="6300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5798880"/>
                <a:ext cx="9140760" cy="730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5362920"/>
                <a:ext cx="9140760" cy="608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4934880"/>
                <a:ext cx="9140760" cy="7308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458208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423900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91068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3336480"/>
                <a:ext cx="9140760" cy="241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3606120"/>
                <a:ext cx="9140760" cy="486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3083040"/>
                <a:ext cx="9140760" cy="259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82744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59596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238716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48600"/>
                <a:ext cx="9140760" cy="6048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37692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963360"/>
                <a:ext cx="9140760" cy="48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68328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121680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474560"/>
                <a:ext cx="914076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706040"/>
                <a:ext cx="914076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91232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2118960"/>
                <a:chOff x="0" y="0"/>
                <a:chExt cx="9140760" cy="211896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218880"/>
                  <a:ext cx="1000080" cy="190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97200"/>
                  <a:ext cx="1066680" cy="20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1131840"/>
                <a:ext cx="9140760" cy="987120"/>
                <a:chOff x="0" y="1131840"/>
                <a:chExt cx="9140760" cy="9871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1253160"/>
                  <a:ext cx="485640" cy="86580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1131840"/>
                  <a:ext cx="552240" cy="9871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2107440"/>
                <a:ext cx="8255160" cy="6652800"/>
                <a:chOff x="419040" y="2107440"/>
                <a:chExt cx="8255160" cy="665280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2107440"/>
                  <a:ext cx="6696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2107440"/>
                  <a:ext cx="6364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2107440"/>
                  <a:ext cx="107460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2107440"/>
                  <a:ext cx="163656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2107440"/>
                  <a:ext cx="209412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2107440"/>
                  <a:ext cx="6382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2107440"/>
                  <a:ext cx="107460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2107440"/>
                  <a:ext cx="16444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2107440"/>
                  <a:ext cx="210672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2107440"/>
                <a:ext cx="1990800" cy="53384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2107440"/>
                <a:ext cx="1504800" cy="33973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2107440"/>
                <a:ext cx="998640" cy="1900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2107440"/>
                <a:ext cx="484200" cy="8658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2107440"/>
                <a:ext cx="2027160" cy="544788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2107440"/>
                <a:ext cx="1568520" cy="35067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2107440"/>
                <a:ext cx="1063440" cy="20217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2107440"/>
                <a:ext cx="549360" cy="9874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348840"/>
            <a:ext cx="82263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7975080"/>
            <a:ext cx="21301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7975080"/>
            <a:ext cx="28958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7975080"/>
            <a:ext cx="21304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D06-FE3F-4C72-9709-6474CA5522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2043000"/>
            <a:ext cx="822636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4"/>
          </p:nvPr>
        </p:nvSpPr>
        <p:spPr>
          <a:xfrm>
            <a:off x="3124080" y="7983000"/>
            <a:ext cx="2895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798300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27A-380A-40CD-A5F9-D3BD305451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4000" cy="698040"/>
            <a:chOff x="0" y="0"/>
            <a:chExt cx="9144000" cy="698040"/>
          </a:xfrm>
        </p:grpSpPr>
        <p:sp>
          <p:nvSpPr>
            <p:cNvPr id="109" name="Rectangle 5"/>
            <p:cNvSpPr/>
            <p:nvPr/>
          </p:nvSpPr>
          <p:spPr>
            <a:xfrm>
              <a:off x="0" y="0"/>
              <a:ext cx="285840" cy="6818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12920" y="172440"/>
              <a:ext cx="8731080" cy="35100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09680" y="172440"/>
              <a:ext cx="137880" cy="180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547560" y="0"/>
              <a:ext cx="139680" cy="176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547560" y="172440"/>
              <a:ext cx="139680" cy="180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274680" y="351000"/>
              <a:ext cx="136440" cy="178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131760" y="174240"/>
              <a:ext cx="141120" cy="176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409680" y="347040"/>
              <a:ext cx="137880" cy="176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274680" y="523800"/>
              <a:ext cx="136440" cy="174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25318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6"/>
          </p:nvPr>
        </p:nvSpPr>
        <p:spPr>
          <a:xfrm>
            <a:off x="456840" y="7980120"/>
            <a:ext cx="2133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1800" y="1817640"/>
            <a:ext cx="9145440" cy="6944760"/>
            <a:chOff x="1800" y="1817640"/>
            <a:chExt cx="9145440" cy="6944760"/>
          </a:xfrm>
        </p:grpSpPr>
        <p:grpSp>
          <p:nvGrpSpPr>
            <p:cNvPr id="158" name="Group 3"/>
            <p:cNvGrpSpPr/>
            <p:nvPr/>
          </p:nvGrpSpPr>
          <p:grpSpPr>
            <a:xfrm>
              <a:off x="31680" y="1817640"/>
              <a:ext cx="9115560" cy="6944760"/>
              <a:chOff x="31680" y="1817640"/>
              <a:chExt cx="9115560" cy="6944760"/>
            </a:xfrm>
          </p:grpSpPr>
          <p:sp>
            <p:nvSpPr>
              <p:cNvPr id="159" name="Freeform 4"/>
              <p:cNvSpPr/>
              <p:nvPr/>
            </p:nvSpPr>
            <p:spPr>
              <a:xfrm>
                <a:off x="2220840" y="2263680"/>
                <a:ext cx="4469040" cy="42796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5"/>
              <p:cNvSpPr/>
              <p:nvPr/>
            </p:nvSpPr>
            <p:spPr>
              <a:xfrm>
                <a:off x="1066680" y="2263680"/>
                <a:ext cx="6296040" cy="4799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6"/>
              <p:cNvSpPr/>
              <p:nvPr/>
            </p:nvSpPr>
            <p:spPr>
              <a:xfrm>
                <a:off x="31680" y="2168280"/>
                <a:ext cx="9099720" cy="63018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7"/>
              <p:cNvSpPr/>
              <p:nvPr/>
            </p:nvSpPr>
            <p:spPr>
              <a:xfrm>
                <a:off x="384120" y="2322360"/>
                <a:ext cx="8750520" cy="55980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8"/>
              <p:cNvSpPr/>
              <p:nvPr/>
            </p:nvSpPr>
            <p:spPr>
              <a:xfrm>
                <a:off x="7683480" y="1995840"/>
                <a:ext cx="1254240" cy="2413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9"/>
              <p:cNvSpPr/>
              <p:nvPr/>
            </p:nvSpPr>
            <p:spPr>
              <a:xfrm>
                <a:off x="8211960" y="1817640"/>
                <a:ext cx="919440" cy="226548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0"/>
              <p:cNvSpPr/>
              <p:nvPr/>
            </p:nvSpPr>
            <p:spPr>
              <a:xfrm>
                <a:off x="5224320" y="1963800"/>
                <a:ext cx="3922920" cy="485928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1"/>
              <p:cNvSpPr/>
              <p:nvPr/>
            </p:nvSpPr>
            <p:spPr>
              <a:xfrm>
                <a:off x="3755880" y="2164320"/>
                <a:ext cx="2221200" cy="2736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2"/>
              <p:cNvSpPr/>
              <p:nvPr/>
            </p:nvSpPr>
            <p:spPr>
              <a:xfrm>
                <a:off x="6786720" y="4119480"/>
                <a:ext cx="1993680" cy="16426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3"/>
              <p:cNvSpPr/>
              <p:nvPr/>
            </p:nvSpPr>
            <p:spPr>
              <a:xfrm>
                <a:off x="4626000" y="7050600"/>
                <a:ext cx="4521240" cy="15962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8640720" y="1870200"/>
                <a:ext cx="506520" cy="17319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5"/>
              <p:cNvSpPr/>
              <p:nvPr/>
            </p:nvSpPr>
            <p:spPr>
              <a:xfrm>
                <a:off x="7864560" y="7237080"/>
                <a:ext cx="1025280" cy="7952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6"/>
              <p:cNvSpPr/>
              <p:nvPr/>
            </p:nvSpPr>
            <p:spPr>
              <a:xfrm>
                <a:off x="79200" y="4867920"/>
                <a:ext cx="4343400" cy="389448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7"/>
            <p:cNvGrpSpPr/>
            <p:nvPr/>
          </p:nvGrpSpPr>
          <p:grpSpPr>
            <a:xfrm>
              <a:off x="1800" y="4651920"/>
              <a:ext cx="2196360" cy="3441240"/>
              <a:chOff x="1800" y="4651920"/>
              <a:chExt cx="2196360" cy="3441240"/>
            </a:xfrm>
          </p:grpSpPr>
          <p:sp>
            <p:nvSpPr>
              <p:cNvPr id="173" name="Rectangle 18"/>
              <p:cNvSpPr/>
              <p:nvPr/>
            </p:nvSpPr>
            <p:spPr>
              <a:xfrm rot="6798600">
                <a:off x="83520" y="7876080"/>
                <a:ext cx="1497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Rectangle 19"/>
              <p:cNvSpPr/>
              <p:nvPr/>
            </p:nvSpPr>
            <p:spPr>
              <a:xfrm rot="6798600">
                <a:off x="36360" y="787104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Rectangle 20"/>
              <p:cNvSpPr/>
              <p:nvPr/>
            </p:nvSpPr>
            <p:spPr>
              <a:xfrm rot="6798600">
                <a:off x="-6120" y="7859160"/>
                <a:ext cx="1519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Rectangle 21"/>
              <p:cNvSpPr/>
              <p:nvPr/>
            </p:nvSpPr>
            <p:spPr>
              <a:xfrm rot="5999400">
                <a:off x="318240" y="787896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Rectangle 22"/>
              <p:cNvSpPr/>
              <p:nvPr/>
            </p:nvSpPr>
            <p:spPr>
              <a:xfrm rot="5999400">
                <a:off x="275760" y="78868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Rectangle 23"/>
              <p:cNvSpPr/>
              <p:nvPr/>
            </p:nvSpPr>
            <p:spPr>
              <a:xfrm rot="6249600">
                <a:off x="228600" y="7885440"/>
                <a:ext cx="139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Rectangle 24"/>
              <p:cNvSpPr/>
              <p:nvPr/>
            </p:nvSpPr>
            <p:spPr>
              <a:xfrm rot="6237600">
                <a:off x="182160" y="78814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Rectangle 25"/>
              <p:cNvSpPr/>
              <p:nvPr/>
            </p:nvSpPr>
            <p:spPr>
              <a:xfrm rot="5380200">
                <a:off x="560520" y="7848000"/>
                <a:ext cx="1418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Rectangle 26"/>
              <p:cNvSpPr/>
              <p:nvPr/>
            </p:nvSpPr>
            <p:spPr>
              <a:xfrm rot="5380200">
                <a:off x="513720" y="78526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" name="Rectangle 27"/>
              <p:cNvSpPr/>
              <p:nvPr/>
            </p:nvSpPr>
            <p:spPr>
              <a:xfrm rot="5583000">
                <a:off x="466200" y="78652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" name="Rectangle 28"/>
              <p:cNvSpPr/>
              <p:nvPr/>
            </p:nvSpPr>
            <p:spPr>
              <a:xfrm rot="5737200">
                <a:off x="415440" y="787320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4" name="Rectangle 29"/>
              <p:cNvSpPr/>
              <p:nvPr/>
            </p:nvSpPr>
            <p:spPr>
              <a:xfrm rot="4715400">
                <a:off x="805320" y="7765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5" name="Rectangle 30"/>
              <p:cNvSpPr/>
              <p:nvPr/>
            </p:nvSpPr>
            <p:spPr>
              <a:xfrm rot="4924800">
                <a:off x="759240" y="77760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6" name="Rectangle 31"/>
              <p:cNvSpPr/>
              <p:nvPr/>
            </p:nvSpPr>
            <p:spPr>
              <a:xfrm rot="4924800">
                <a:off x="710640" y="78040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7" name="Rectangle 32"/>
              <p:cNvSpPr/>
              <p:nvPr/>
            </p:nvSpPr>
            <p:spPr>
              <a:xfrm rot="5041200">
                <a:off x="662400" y="78102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8" name="Rectangle 33"/>
              <p:cNvSpPr/>
              <p:nvPr/>
            </p:nvSpPr>
            <p:spPr>
              <a:xfrm rot="3816600">
                <a:off x="1042200" y="76298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9" name="Rectangle 34"/>
              <p:cNvSpPr/>
              <p:nvPr/>
            </p:nvSpPr>
            <p:spPr>
              <a:xfrm rot="3816600">
                <a:off x="994680" y="7666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0" name="Rectangle 35"/>
              <p:cNvSpPr/>
              <p:nvPr/>
            </p:nvSpPr>
            <p:spPr>
              <a:xfrm rot="4104000">
                <a:off x="948600" y="76888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1" name="Rectangle 36"/>
              <p:cNvSpPr/>
              <p:nvPr/>
            </p:nvSpPr>
            <p:spPr>
              <a:xfrm rot="4324800">
                <a:off x="899640" y="771516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2" name="Rectangle 37"/>
              <p:cNvSpPr/>
              <p:nvPr/>
            </p:nvSpPr>
            <p:spPr>
              <a:xfrm rot="3367800">
                <a:off x="1256400" y="74700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 rot="3367800">
                <a:off x="1212480" y="75016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 rot="3367800">
                <a:off x="1169280" y="75387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" name="Rectangle 40"/>
              <p:cNvSpPr/>
              <p:nvPr/>
            </p:nvSpPr>
            <p:spPr>
              <a:xfrm rot="3816600">
                <a:off x="1126440" y="757332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6" name="Rectangle 41"/>
              <p:cNvSpPr/>
              <p:nvPr/>
            </p:nvSpPr>
            <p:spPr>
              <a:xfrm rot="2302200">
                <a:off x="1464840" y="727524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7" name="Rectangle 42"/>
              <p:cNvSpPr/>
              <p:nvPr/>
            </p:nvSpPr>
            <p:spPr>
              <a:xfrm rot="2302200">
                <a:off x="1426680" y="7311600"/>
                <a:ext cx="10980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8" name="Rectangle 43"/>
              <p:cNvSpPr/>
              <p:nvPr/>
            </p:nvSpPr>
            <p:spPr>
              <a:xfrm rot="2707200">
                <a:off x="1377360" y="735408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9" name="Rectangle 44"/>
              <p:cNvSpPr/>
              <p:nvPr/>
            </p:nvSpPr>
            <p:spPr>
              <a:xfrm rot="2707200">
                <a:off x="1337400" y="73904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0" name="Rectangle 45"/>
              <p:cNvSpPr/>
              <p:nvPr/>
            </p:nvSpPr>
            <p:spPr>
              <a:xfrm rot="1525800">
                <a:off x="1630080" y="70419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1" name="Rectangle 46"/>
              <p:cNvSpPr/>
              <p:nvPr/>
            </p:nvSpPr>
            <p:spPr>
              <a:xfrm rot="1525800">
                <a:off x="1601280" y="7093080"/>
                <a:ext cx="10980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2" name="Rectangle 47"/>
              <p:cNvSpPr/>
              <p:nvPr/>
            </p:nvSpPr>
            <p:spPr>
              <a:xfrm rot="1788000">
                <a:off x="1571760" y="71373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3" name="Rectangle 48"/>
              <p:cNvSpPr/>
              <p:nvPr/>
            </p:nvSpPr>
            <p:spPr>
              <a:xfrm rot="1788000">
                <a:off x="1538280" y="71877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" name="Rectangle 49"/>
              <p:cNvSpPr/>
              <p:nvPr/>
            </p:nvSpPr>
            <p:spPr>
              <a:xfrm rot="841200">
                <a:off x="1766520" y="680508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" name="Rectangle 50"/>
              <p:cNvSpPr/>
              <p:nvPr/>
            </p:nvSpPr>
            <p:spPr>
              <a:xfrm rot="841200">
                <a:off x="1746360" y="6851160"/>
                <a:ext cx="109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6" name="Rectangle 51"/>
              <p:cNvSpPr/>
              <p:nvPr/>
            </p:nvSpPr>
            <p:spPr>
              <a:xfrm rot="1308600">
                <a:off x="1723680" y="690408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" name="Rectangle 52"/>
              <p:cNvSpPr/>
              <p:nvPr/>
            </p:nvSpPr>
            <p:spPr>
              <a:xfrm rot="1308600">
                <a:off x="1688760" y="6946920"/>
                <a:ext cx="109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8" name="Rectangle 53"/>
              <p:cNvSpPr/>
              <p:nvPr/>
            </p:nvSpPr>
            <p:spPr>
              <a:xfrm rot="469800">
                <a:off x="1860120" y="654120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9" name="Rectangle 54"/>
              <p:cNvSpPr/>
              <p:nvPr/>
            </p:nvSpPr>
            <p:spPr>
              <a:xfrm rot="559800">
                <a:off x="1844640" y="65923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Rectangle 55"/>
              <p:cNvSpPr/>
              <p:nvPr/>
            </p:nvSpPr>
            <p:spPr>
              <a:xfrm rot="733800">
                <a:off x="1831680" y="66445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Rectangle 56"/>
              <p:cNvSpPr/>
              <p:nvPr/>
            </p:nvSpPr>
            <p:spPr>
              <a:xfrm rot="733800">
                <a:off x="1811160" y="670176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Rectangle 57"/>
              <p:cNvSpPr/>
              <p:nvPr/>
            </p:nvSpPr>
            <p:spPr>
              <a:xfrm rot="21306000">
                <a:off x="1922400" y="6279480"/>
                <a:ext cx="12852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Rectangle 58"/>
              <p:cNvSpPr/>
              <p:nvPr/>
            </p:nvSpPr>
            <p:spPr>
              <a:xfrm rot="21599400">
                <a:off x="1906560" y="633204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Rectangle 59"/>
              <p:cNvSpPr/>
              <p:nvPr/>
            </p:nvSpPr>
            <p:spPr>
              <a:xfrm rot="21599400">
                <a:off x="1905120" y="638244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Rectangle 60"/>
              <p:cNvSpPr/>
              <p:nvPr/>
            </p:nvSpPr>
            <p:spPr>
              <a:xfrm rot="213600">
                <a:off x="1887120" y="64357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Rectangle 61"/>
              <p:cNvSpPr/>
              <p:nvPr/>
            </p:nvSpPr>
            <p:spPr>
              <a:xfrm rot="20917200">
                <a:off x="1934640" y="601128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Rectangle 62"/>
              <p:cNvSpPr/>
              <p:nvPr/>
            </p:nvSpPr>
            <p:spPr>
              <a:xfrm rot="21119400">
                <a:off x="1936440" y="60663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Rectangle 63"/>
              <p:cNvSpPr/>
              <p:nvPr/>
            </p:nvSpPr>
            <p:spPr>
              <a:xfrm rot="21119400">
                <a:off x="1936800" y="611532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Rectangle 64"/>
              <p:cNvSpPr/>
              <p:nvPr/>
            </p:nvSpPr>
            <p:spPr>
              <a:xfrm rot="21329400">
                <a:off x="1935000" y="6166080"/>
                <a:ext cx="12888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Rectangle 65"/>
              <p:cNvSpPr/>
              <p:nvPr/>
            </p:nvSpPr>
            <p:spPr>
              <a:xfrm rot="20467200">
                <a:off x="1915920" y="576396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Rectangle 66"/>
              <p:cNvSpPr/>
              <p:nvPr/>
            </p:nvSpPr>
            <p:spPr>
              <a:xfrm rot="20630400">
                <a:off x="1925280" y="580860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Rectangle 67"/>
              <p:cNvSpPr/>
              <p:nvPr/>
            </p:nvSpPr>
            <p:spPr>
              <a:xfrm rot="20630400">
                <a:off x="1929960" y="585720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Rectangle 68"/>
              <p:cNvSpPr/>
              <p:nvPr/>
            </p:nvSpPr>
            <p:spPr>
              <a:xfrm rot="20793600">
                <a:off x="1935000" y="5910120"/>
                <a:ext cx="13680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Rectangle 69"/>
              <p:cNvSpPr/>
              <p:nvPr/>
            </p:nvSpPr>
            <p:spPr>
              <a:xfrm rot="20055600">
                <a:off x="1849320" y="553068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Rectangle 70"/>
              <p:cNvSpPr/>
              <p:nvPr/>
            </p:nvSpPr>
            <p:spPr>
              <a:xfrm rot="20257800">
                <a:off x="1866960" y="5581800"/>
                <a:ext cx="13644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Rectangle 71"/>
              <p:cNvSpPr/>
              <p:nvPr/>
            </p:nvSpPr>
            <p:spPr>
              <a:xfrm rot="20257800">
                <a:off x="1879560" y="562824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Rectangle 72"/>
              <p:cNvSpPr/>
              <p:nvPr/>
            </p:nvSpPr>
            <p:spPr>
              <a:xfrm rot="20257800">
                <a:off x="1895400" y="56685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Rectangle 73"/>
              <p:cNvSpPr/>
              <p:nvPr/>
            </p:nvSpPr>
            <p:spPr>
              <a:xfrm rot="19671000">
                <a:off x="1747440" y="533052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Rectangle 74"/>
              <p:cNvSpPr/>
              <p:nvPr/>
            </p:nvSpPr>
            <p:spPr>
              <a:xfrm rot="19755600">
                <a:off x="1768320" y="536256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Rectangle 75"/>
              <p:cNvSpPr/>
              <p:nvPr/>
            </p:nvSpPr>
            <p:spPr>
              <a:xfrm rot="19847400">
                <a:off x="1792080" y="540684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Rectangle 76"/>
              <p:cNvSpPr/>
              <p:nvPr/>
            </p:nvSpPr>
            <p:spPr>
              <a:xfrm rot="19847400">
                <a:off x="1812600" y="5443920"/>
                <a:ext cx="136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Rectangle 77"/>
              <p:cNvSpPr/>
              <p:nvPr/>
            </p:nvSpPr>
            <p:spPr>
              <a:xfrm rot="19132800">
                <a:off x="1609560" y="5147640"/>
                <a:ext cx="13680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Rectangle 78"/>
              <p:cNvSpPr/>
              <p:nvPr/>
            </p:nvSpPr>
            <p:spPr>
              <a:xfrm rot="19132800">
                <a:off x="1643040" y="51861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 rot="19132800">
                <a:off x="1666800" y="522072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Rectangle 80"/>
              <p:cNvSpPr/>
              <p:nvPr/>
            </p:nvSpPr>
            <p:spPr>
              <a:xfrm rot="19257600">
                <a:off x="1695240" y="52527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Freeform 81"/>
              <p:cNvSpPr/>
              <p:nvPr/>
            </p:nvSpPr>
            <p:spPr>
              <a:xfrm>
                <a:off x="771480" y="5198400"/>
                <a:ext cx="285840" cy="3060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Rectangle 82"/>
              <p:cNvSpPr/>
              <p:nvPr/>
            </p:nvSpPr>
            <p:spPr>
              <a:xfrm rot="6575400">
                <a:off x="-614520" y="6366960"/>
                <a:ext cx="248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Rectangle 83"/>
              <p:cNvSpPr/>
              <p:nvPr/>
            </p:nvSpPr>
            <p:spPr>
              <a:xfrm rot="238200">
                <a:off x="6480" y="6381000"/>
                <a:ext cx="16365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Rectangle 84"/>
              <p:cNvSpPr/>
              <p:nvPr/>
            </p:nvSpPr>
            <p:spPr>
              <a:xfrm rot="18642600">
                <a:off x="1424160" y="5015160"/>
                <a:ext cx="164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Rectangle 85"/>
              <p:cNvSpPr/>
              <p:nvPr/>
            </p:nvSpPr>
            <p:spPr>
              <a:xfrm rot="18642600">
                <a:off x="1459080" y="5041800"/>
                <a:ext cx="164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Rectangle 86"/>
              <p:cNvSpPr/>
              <p:nvPr/>
            </p:nvSpPr>
            <p:spPr>
              <a:xfrm rot="18642600">
                <a:off x="1495080" y="5067000"/>
                <a:ext cx="174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Rectangle 87"/>
              <p:cNvSpPr/>
              <p:nvPr/>
            </p:nvSpPr>
            <p:spPr>
              <a:xfrm rot="18938400">
                <a:off x="1546200" y="508860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Rectangle 88"/>
              <p:cNvSpPr/>
              <p:nvPr/>
            </p:nvSpPr>
            <p:spPr>
              <a:xfrm rot="17961000">
                <a:off x="1236240" y="4921560"/>
                <a:ext cx="149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4" name="Rectangle 89"/>
              <p:cNvSpPr/>
              <p:nvPr/>
            </p:nvSpPr>
            <p:spPr>
              <a:xfrm rot="17961000">
                <a:off x="1278000" y="493596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5" name="Rectangle 90"/>
              <p:cNvSpPr/>
              <p:nvPr/>
            </p:nvSpPr>
            <p:spPr>
              <a:xfrm rot="18085200">
                <a:off x="1313280" y="4950360"/>
                <a:ext cx="164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Rectangle 91"/>
              <p:cNvSpPr/>
              <p:nvPr/>
            </p:nvSpPr>
            <p:spPr>
              <a:xfrm rot="18379200">
                <a:off x="1351080" y="4974840"/>
                <a:ext cx="164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Rectangle 92"/>
              <p:cNvSpPr/>
              <p:nvPr/>
            </p:nvSpPr>
            <p:spPr>
              <a:xfrm rot="17261400">
                <a:off x="1014480" y="485928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Rectangle 93"/>
              <p:cNvSpPr/>
              <p:nvPr/>
            </p:nvSpPr>
            <p:spPr>
              <a:xfrm rot="17349600">
                <a:off x="1059120" y="487116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9" name="Rectangle 94"/>
              <p:cNvSpPr/>
              <p:nvPr/>
            </p:nvSpPr>
            <p:spPr>
              <a:xfrm rot="17349600">
                <a:off x="1107000" y="488124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Rectangle 95"/>
              <p:cNvSpPr/>
              <p:nvPr/>
            </p:nvSpPr>
            <p:spPr>
              <a:xfrm rot="17611200">
                <a:off x="1154160" y="488952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1" name="Rectangle 96"/>
              <p:cNvSpPr/>
              <p:nvPr/>
            </p:nvSpPr>
            <p:spPr>
              <a:xfrm rot="16737600">
                <a:off x="785520" y="485712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2" name="Rectangle 97"/>
              <p:cNvSpPr/>
              <p:nvPr/>
            </p:nvSpPr>
            <p:spPr>
              <a:xfrm rot="16926600">
                <a:off x="830160" y="485316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Rectangle 98"/>
              <p:cNvSpPr/>
              <p:nvPr/>
            </p:nvSpPr>
            <p:spPr>
              <a:xfrm rot="16953000">
                <a:off x="879120" y="4847760"/>
                <a:ext cx="149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4" name="Rectangle 99"/>
              <p:cNvSpPr/>
              <p:nvPr/>
            </p:nvSpPr>
            <p:spPr>
              <a:xfrm rot="17019600">
                <a:off x="927000" y="484884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5" name="Rectangle 100"/>
              <p:cNvSpPr/>
              <p:nvPr/>
            </p:nvSpPr>
            <p:spPr>
              <a:xfrm rot="16404600">
                <a:off x="550800" y="489564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6" name="Rectangle 101"/>
              <p:cNvSpPr/>
              <p:nvPr/>
            </p:nvSpPr>
            <p:spPr>
              <a:xfrm rot="16239000">
                <a:off x="598320" y="488556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7" name="Rectangle 102"/>
              <p:cNvSpPr/>
              <p:nvPr/>
            </p:nvSpPr>
            <p:spPr>
              <a:xfrm rot="16311000">
                <a:off x="650880" y="4877280"/>
                <a:ext cx="139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8" name="Rectangle 103"/>
              <p:cNvSpPr/>
              <p:nvPr/>
            </p:nvSpPr>
            <p:spPr>
              <a:xfrm rot="16434600">
                <a:off x="699840" y="486720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9" name="Rectangle 104"/>
              <p:cNvSpPr/>
              <p:nvPr/>
            </p:nvSpPr>
            <p:spPr>
              <a:xfrm rot="15467400">
                <a:off x="313560" y="4984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Rectangle 105"/>
              <p:cNvSpPr/>
              <p:nvPr/>
            </p:nvSpPr>
            <p:spPr>
              <a:xfrm rot="15379200">
                <a:off x="363240" y="49644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Rectangle 106"/>
              <p:cNvSpPr/>
              <p:nvPr/>
            </p:nvSpPr>
            <p:spPr>
              <a:xfrm rot="15489000">
                <a:off x="410400" y="49442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Rectangle 107"/>
              <p:cNvSpPr/>
              <p:nvPr/>
            </p:nvSpPr>
            <p:spPr>
              <a:xfrm rot="15680400">
                <a:off x="450720" y="492192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108"/>
              <p:cNvSpPr/>
              <p:nvPr/>
            </p:nvSpPr>
            <p:spPr>
              <a:xfrm rot="14223600">
                <a:off x="-5040" y="51692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4" name="Rectangle 109"/>
              <p:cNvSpPr/>
              <p:nvPr/>
            </p:nvSpPr>
            <p:spPr>
              <a:xfrm rot="14431200">
                <a:off x="89640" y="51040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Rectangle 110"/>
              <p:cNvSpPr/>
              <p:nvPr/>
            </p:nvSpPr>
            <p:spPr>
              <a:xfrm rot="14797200">
                <a:off x="132480" y="50742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111"/>
              <p:cNvSpPr/>
              <p:nvPr/>
            </p:nvSpPr>
            <p:spPr>
              <a:xfrm rot="14797200">
                <a:off x="177120" y="50536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Rectangle 112"/>
              <p:cNvSpPr/>
              <p:nvPr/>
            </p:nvSpPr>
            <p:spPr>
              <a:xfrm rot="15142200">
                <a:off x="226440" y="5025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Rectangle 113"/>
              <p:cNvSpPr/>
              <p:nvPr/>
            </p:nvSpPr>
            <p:spPr>
              <a:xfrm rot="19723200">
                <a:off x="0" y="682092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Rectangle 114"/>
              <p:cNvSpPr/>
              <p:nvPr/>
            </p:nvSpPr>
            <p:spPr>
              <a:xfrm rot="3283800">
                <a:off x="757440" y="7057080"/>
                <a:ext cx="490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Rectangle 115"/>
              <p:cNvSpPr/>
              <p:nvPr/>
            </p:nvSpPr>
            <p:spPr>
              <a:xfrm rot="3283800">
                <a:off x="1800" y="5677560"/>
                <a:ext cx="490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Rectangle 116"/>
              <p:cNvSpPr/>
              <p:nvPr/>
            </p:nvSpPr>
            <p:spPr>
              <a:xfrm rot="19723200">
                <a:off x="1110960" y="5782680"/>
                <a:ext cx="50328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Rectangle 117"/>
              <p:cNvSpPr/>
              <p:nvPr/>
            </p:nvSpPr>
            <p:spPr>
              <a:xfrm rot="5908800">
                <a:off x="286560" y="7943400"/>
                <a:ext cx="28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Rectangle 118"/>
              <p:cNvSpPr/>
              <p:nvPr/>
            </p:nvSpPr>
            <p:spPr>
              <a:xfrm rot="6683400">
                <a:off x="38880" y="7943040"/>
                <a:ext cx="291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Rectangle 119"/>
              <p:cNvSpPr/>
              <p:nvPr/>
            </p:nvSpPr>
            <p:spPr>
              <a:xfrm rot="5245200">
                <a:off x="544320" y="78973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Rectangle 120"/>
              <p:cNvSpPr/>
              <p:nvPr/>
            </p:nvSpPr>
            <p:spPr>
              <a:xfrm rot="4500000">
                <a:off x="800280" y="78044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Rectangle 121"/>
              <p:cNvSpPr/>
              <p:nvPr/>
            </p:nvSpPr>
            <p:spPr>
              <a:xfrm rot="3805200">
                <a:off x="1035000" y="766404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Rectangle 122"/>
              <p:cNvSpPr/>
              <p:nvPr/>
            </p:nvSpPr>
            <p:spPr>
              <a:xfrm rot="3060000">
                <a:off x="1262160" y="74815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Rectangle 123"/>
              <p:cNvSpPr/>
              <p:nvPr/>
            </p:nvSpPr>
            <p:spPr>
              <a:xfrm rot="2089800">
                <a:off x="1488600" y="7265520"/>
                <a:ext cx="209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Rectangle 124"/>
              <p:cNvSpPr/>
              <p:nvPr/>
            </p:nvSpPr>
            <p:spPr>
              <a:xfrm rot="14431200">
                <a:off x="-57600" y="5085000"/>
                <a:ext cx="2674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Rectangle 125"/>
              <p:cNvSpPr/>
              <p:nvPr/>
            </p:nvSpPr>
            <p:spPr>
              <a:xfrm rot="15193200">
                <a:off x="187560" y="49363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Rectangle 126"/>
              <p:cNvSpPr/>
              <p:nvPr/>
            </p:nvSpPr>
            <p:spPr>
              <a:xfrm rot="16629000">
                <a:off x="679320" y="4797360"/>
                <a:ext cx="279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Rectangle 127"/>
              <p:cNvSpPr/>
              <p:nvPr/>
            </p:nvSpPr>
            <p:spPr>
              <a:xfrm rot="17301000">
                <a:off x="914760" y="4789440"/>
                <a:ext cx="3038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Rectangle 128"/>
              <p:cNvSpPr/>
              <p:nvPr/>
            </p:nvSpPr>
            <p:spPr>
              <a:xfrm rot="17923200">
                <a:off x="1141560" y="4838760"/>
                <a:ext cx="313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Rectangle 129"/>
              <p:cNvSpPr/>
              <p:nvPr/>
            </p:nvSpPr>
            <p:spPr>
              <a:xfrm rot="18411000">
                <a:off x="1344600" y="4928040"/>
                <a:ext cx="338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Rectangle 130"/>
              <p:cNvSpPr/>
              <p:nvPr/>
            </p:nvSpPr>
            <p:spPr>
              <a:xfrm rot="18989400">
                <a:off x="1561680" y="5062320"/>
                <a:ext cx="26532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6" name="Rectangle 131"/>
              <p:cNvSpPr/>
              <p:nvPr/>
            </p:nvSpPr>
            <p:spPr>
              <a:xfrm rot="19409400">
                <a:off x="1706400" y="5242680"/>
                <a:ext cx="27468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7" name="Rectangle 132"/>
              <p:cNvSpPr/>
              <p:nvPr/>
            </p:nvSpPr>
            <p:spPr>
              <a:xfrm rot="19871400">
                <a:off x="1820520" y="5450040"/>
                <a:ext cx="26496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8" name="Rectangle 133"/>
              <p:cNvSpPr/>
              <p:nvPr/>
            </p:nvSpPr>
            <p:spPr>
              <a:xfrm rot="20427600">
                <a:off x="1901880" y="5689080"/>
                <a:ext cx="2649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9" name="Rectangle 134"/>
              <p:cNvSpPr/>
              <p:nvPr/>
            </p:nvSpPr>
            <p:spPr>
              <a:xfrm rot="20845800">
                <a:off x="1933560" y="5942880"/>
                <a:ext cx="2649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0" name="Rectangle 135"/>
              <p:cNvSpPr/>
              <p:nvPr/>
            </p:nvSpPr>
            <p:spPr>
              <a:xfrm rot="21312000">
                <a:off x="1925280" y="6216840"/>
                <a:ext cx="26496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1" name="Rectangle 136"/>
              <p:cNvSpPr/>
              <p:nvPr/>
            </p:nvSpPr>
            <p:spPr>
              <a:xfrm rot="696600">
                <a:off x="1787040" y="6768000"/>
                <a:ext cx="2383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2" name="Rectangle 137"/>
              <p:cNvSpPr/>
              <p:nvPr/>
            </p:nvSpPr>
            <p:spPr>
              <a:xfrm rot="1529400">
                <a:off x="1652400" y="7028280"/>
                <a:ext cx="22212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3" name="Freeform 138"/>
              <p:cNvSpPr/>
              <p:nvPr/>
            </p:nvSpPr>
            <p:spPr>
              <a:xfrm>
                <a:off x="1349280" y="6360840"/>
                <a:ext cx="324000" cy="2430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4" name="Freeform 139"/>
              <p:cNvSpPr/>
              <p:nvPr/>
            </p:nvSpPr>
            <p:spPr>
              <a:xfrm>
                <a:off x="30240" y="5520960"/>
                <a:ext cx="142920" cy="1562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5" name="Freeform 140"/>
              <p:cNvSpPr/>
              <p:nvPr/>
            </p:nvSpPr>
            <p:spPr>
              <a:xfrm>
                <a:off x="154080" y="5376960"/>
                <a:ext cx="160200" cy="180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6" name="Freeform 141"/>
              <p:cNvSpPr/>
              <p:nvPr/>
            </p:nvSpPr>
            <p:spPr>
              <a:xfrm>
                <a:off x="1074600" y="7103160"/>
                <a:ext cx="131760" cy="1558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Freeform 142"/>
              <p:cNvSpPr/>
              <p:nvPr/>
            </p:nvSpPr>
            <p:spPr>
              <a:xfrm>
                <a:off x="1492200" y="5640480"/>
                <a:ext cx="142920" cy="1461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Freeform 143"/>
              <p:cNvSpPr/>
              <p:nvPr/>
            </p:nvSpPr>
            <p:spPr>
              <a:xfrm>
                <a:off x="1425600" y="5509080"/>
                <a:ext cx="142920" cy="1699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Freeform 144"/>
              <p:cNvSpPr/>
              <p:nvPr/>
            </p:nvSpPr>
            <p:spPr>
              <a:xfrm>
                <a:off x="11160" y="7782480"/>
                <a:ext cx="9360" cy="2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0" name="Freeform 145"/>
              <p:cNvSpPr/>
              <p:nvPr/>
            </p:nvSpPr>
            <p:spPr>
              <a:xfrm>
                <a:off x="11160" y="5180040"/>
                <a:ext cx="47520" cy="9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1" name="Freeform 146"/>
              <p:cNvSpPr/>
              <p:nvPr/>
            </p:nvSpPr>
            <p:spPr>
              <a:xfrm>
                <a:off x="11160" y="7795080"/>
                <a:ext cx="57240" cy="1353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2" name="Rectangle 147"/>
              <p:cNvSpPr/>
              <p:nvPr/>
            </p:nvSpPr>
            <p:spPr>
              <a:xfrm rot="244800">
                <a:off x="1868040" y="6492960"/>
                <a:ext cx="25560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3" name="Rectangle 148"/>
              <p:cNvSpPr/>
              <p:nvPr/>
            </p:nvSpPr>
            <p:spPr>
              <a:xfrm rot="16001400">
                <a:off x="430200" y="4842000"/>
                <a:ext cx="279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4" name="Freeform 149"/>
              <p:cNvSpPr/>
              <p:nvPr/>
            </p:nvSpPr>
            <p:spPr>
              <a:xfrm>
                <a:off x="220680" y="7247160"/>
                <a:ext cx="228600" cy="312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5" name="Freeform 150"/>
              <p:cNvSpPr/>
              <p:nvPr/>
            </p:nvSpPr>
            <p:spPr>
              <a:xfrm rot="18742800">
                <a:off x="965160" y="7216200"/>
                <a:ext cx="13788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6" name="Freeform 151"/>
              <p:cNvSpPr/>
              <p:nvPr/>
            </p:nvSpPr>
            <p:spPr>
              <a:xfrm>
                <a:off x="372960" y="5077080"/>
                <a:ext cx="552600" cy="257976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07" name="Oval 152"/>
              <p:cNvSpPr/>
              <p:nvPr/>
            </p:nvSpPr>
            <p:spPr>
              <a:xfrm rot="19915200">
                <a:off x="469800" y="6179760"/>
                <a:ext cx="351000" cy="35316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91600"/>
            <a:ext cx="85406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7"/>
          </p:nvPr>
        </p:nvSpPr>
        <p:spPr>
          <a:xfrm>
            <a:off x="301320" y="7980120"/>
            <a:ext cx="2289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8"/>
          </p:nvPr>
        </p:nvSpPr>
        <p:spPr>
          <a:xfrm>
            <a:off x="3124080" y="7980120"/>
            <a:ext cx="2895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9"/>
          </p:nvPr>
        </p:nvSpPr>
        <p:spPr>
          <a:xfrm>
            <a:off x="6552720" y="7980120"/>
            <a:ext cx="22892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7F9B-CE22-45C3-A692-3A57FC5921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301680" y="2044440"/>
            <a:ext cx="8540640" cy="57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3692880" y="2286000"/>
            <a:ext cx="5508000" cy="6460920"/>
            <a:chOff x="3692880" y="2286000"/>
            <a:chExt cx="5508000" cy="6460920"/>
          </a:xfrm>
        </p:grpSpPr>
        <p:sp>
          <p:nvSpPr>
            <p:cNvPr id="350" name="Rectangle 3"/>
            <p:cNvSpPr/>
            <p:nvPr/>
          </p:nvSpPr>
          <p:spPr>
            <a:xfrm>
              <a:off x="6715080" y="2768400"/>
              <a:ext cx="312840" cy="207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Oval 4"/>
            <p:cNvSpPr/>
            <p:nvPr/>
          </p:nvSpPr>
          <p:spPr>
            <a:xfrm>
              <a:off x="6824520" y="2403720"/>
              <a:ext cx="74880" cy="95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Rectangle 5"/>
            <p:cNvSpPr/>
            <p:nvPr/>
          </p:nvSpPr>
          <p:spPr>
            <a:xfrm rot="994800">
              <a:off x="8262720" y="3031920"/>
              <a:ext cx="9360" cy="4205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Freeform 6"/>
            <p:cNvSpPr/>
            <p:nvPr/>
          </p:nvSpPr>
          <p:spPr>
            <a:xfrm>
              <a:off x="7732800" y="7115760"/>
              <a:ext cx="10476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Rectangle 7"/>
            <p:cNvSpPr/>
            <p:nvPr/>
          </p:nvSpPr>
          <p:spPr>
            <a:xfrm rot="91200">
              <a:off x="8710200" y="3113280"/>
              <a:ext cx="9720" cy="405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 rot="20673600">
              <a:off x="8953560" y="3084480"/>
              <a:ext cx="9360" cy="1787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 rot="20459400">
              <a:off x="5467320" y="3683520"/>
              <a:ext cx="9720" cy="4124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 rot="1114200">
              <a:off x="4376880" y="3693600"/>
              <a:ext cx="9360" cy="4298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Rectangle 11"/>
            <p:cNvSpPr/>
            <p:nvPr/>
          </p:nvSpPr>
          <p:spPr>
            <a:xfrm rot="254400">
              <a:off x="4817880" y="3792960"/>
              <a:ext cx="9360" cy="3866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361200" y="6127920"/>
              <a:ext cx="988920" cy="318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7559640" y="7284240"/>
              <a:ext cx="1581120" cy="255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7597800" y="7393680"/>
              <a:ext cx="1542960" cy="497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7626240" y="7284240"/>
              <a:ext cx="1514520" cy="1825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4856040" y="3125520"/>
              <a:ext cx="162000" cy="314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4856040" y="3427560"/>
              <a:ext cx="142920" cy="194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4856040" y="3585960"/>
              <a:ext cx="14292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8683560" y="2444040"/>
              <a:ext cx="162000" cy="316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8693280" y="2736360"/>
              <a:ext cx="13320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8683560" y="2906280"/>
              <a:ext cx="142920" cy="218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8616960" y="7150320"/>
              <a:ext cx="104760" cy="194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>
              <a:off x="4789440" y="2286000"/>
              <a:ext cx="4132440" cy="9007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Freeform 24"/>
            <p:cNvSpPr/>
            <p:nvPr/>
          </p:nvSpPr>
          <p:spPr>
            <a:xfrm>
              <a:off x="4657680" y="7653600"/>
              <a:ext cx="13356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Freeform 25"/>
            <p:cNvSpPr/>
            <p:nvPr/>
          </p:nvSpPr>
          <p:spPr>
            <a:xfrm>
              <a:off x="5999040" y="7854120"/>
              <a:ext cx="14292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Freeform 26"/>
            <p:cNvSpPr/>
            <p:nvPr/>
          </p:nvSpPr>
          <p:spPr>
            <a:xfrm>
              <a:off x="3809880" y="7854120"/>
              <a:ext cx="114480" cy="1825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Oval 27"/>
            <p:cNvSpPr/>
            <p:nvPr/>
          </p:nvSpPr>
          <p:spPr>
            <a:xfrm>
              <a:off x="3879720" y="7785360"/>
              <a:ext cx="2190960" cy="78876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5" name="Oval 28"/>
            <p:cNvSpPr/>
            <p:nvPr/>
          </p:nvSpPr>
          <p:spPr>
            <a:xfrm>
              <a:off x="3800520" y="7777080"/>
              <a:ext cx="2384280" cy="5839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Oval 29"/>
            <p:cNvSpPr/>
            <p:nvPr/>
          </p:nvSpPr>
          <p:spPr>
            <a:xfrm>
              <a:off x="3875040" y="7830000"/>
              <a:ext cx="2262240" cy="447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Freeform 30"/>
            <p:cNvSpPr/>
            <p:nvPr/>
          </p:nvSpPr>
          <p:spPr>
            <a:xfrm>
              <a:off x="5942160" y="7683840"/>
              <a:ext cx="142560" cy="194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Freeform 31"/>
            <p:cNvSpPr/>
            <p:nvPr/>
          </p:nvSpPr>
          <p:spPr>
            <a:xfrm>
              <a:off x="8607600" y="7308360"/>
              <a:ext cx="114120" cy="218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6727680" y="3596040"/>
              <a:ext cx="274680" cy="51508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6807240" y="3133800"/>
              <a:ext cx="120600" cy="486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1" name="AutoShape 34"/>
            <p:cNvSpPr/>
            <p:nvPr/>
          </p:nvSpPr>
          <p:spPr>
            <a:xfrm>
              <a:off x="6699240" y="3535200"/>
              <a:ext cx="325440" cy="10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6835680" y="3101040"/>
              <a:ext cx="400320" cy="3197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6618240" y="2882160"/>
              <a:ext cx="503280" cy="2800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0"/>
          </p:nvPr>
        </p:nvSpPr>
        <p:spPr>
          <a:xfrm>
            <a:off x="456840" y="802296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1"/>
          </p:nvPr>
        </p:nvSpPr>
        <p:spPr>
          <a:xfrm>
            <a:off x="3124080" y="8022960"/>
            <a:ext cx="2895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2"/>
          </p:nvPr>
        </p:nvSpPr>
        <p:spPr>
          <a:xfrm>
            <a:off x="6552720" y="802296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ADAB-95EB-4D7B-B8C2-5B0AD35176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2560" cy="8760240"/>
            <a:chOff x="0" y="0"/>
            <a:chExt cx="9142560" cy="8760240"/>
          </a:xfrm>
        </p:grpSpPr>
        <p:sp>
          <p:nvSpPr>
            <p:cNvPr id="426" name="Freeform 3"/>
            <p:cNvSpPr/>
            <p:nvPr/>
          </p:nvSpPr>
          <p:spPr>
            <a:xfrm>
              <a:off x="0" y="0"/>
              <a:ext cx="9140760" cy="211536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27" name="Group 4"/>
            <p:cNvGrpSpPr/>
            <p:nvPr/>
          </p:nvGrpSpPr>
          <p:grpSpPr>
            <a:xfrm>
              <a:off x="0" y="0"/>
              <a:ext cx="9142560" cy="8760240"/>
              <a:chOff x="0" y="0"/>
              <a:chExt cx="9142560" cy="8760240"/>
            </a:xfrm>
          </p:grpSpPr>
          <p:sp>
            <p:nvSpPr>
              <p:cNvPr id="428" name="Freeform 5"/>
              <p:cNvSpPr/>
              <p:nvPr/>
            </p:nvSpPr>
            <p:spPr>
              <a:xfrm>
                <a:off x="1440" y="2109240"/>
                <a:ext cx="914112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9" name="Freeform 6"/>
              <p:cNvSpPr/>
              <p:nvPr/>
            </p:nvSpPr>
            <p:spPr>
              <a:xfrm>
                <a:off x="0" y="8089200"/>
                <a:ext cx="9140760" cy="849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0" name="Freeform 7"/>
              <p:cNvSpPr/>
              <p:nvPr/>
            </p:nvSpPr>
            <p:spPr>
              <a:xfrm>
                <a:off x="0" y="7434000"/>
                <a:ext cx="9140760" cy="6228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1" name="Freeform 8"/>
              <p:cNvSpPr/>
              <p:nvPr/>
            </p:nvSpPr>
            <p:spPr>
              <a:xfrm>
                <a:off x="0" y="6823080"/>
                <a:ext cx="9140760" cy="6084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Freeform 9"/>
              <p:cNvSpPr/>
              <p:nvPr/>
            </p:nvSpPr>
            <p:spPr>
              <a:xfrm>
                <a:off x="0" y="6297840"/>
                <a:ext cx="9140760" cy="6300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Freeform 10"/>
              <p:cNvSpPr/>
              <p:nvPr/>
            </p:nvSpPr>
            <p:spPr>
              <a:xfrm>
                <a:off x="0" y="5798880"/>
                <a:ext cx="9140760" cy="730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Freeform 11"/>
              <p:cNvSpPr/>
              <p:nvPr/>
            </p:nvSpPr>
            <p:spPr>
              <a:xfrm>
                <a:off x="0" y="5362920"/>
                <a:ext cx="9140760" cy="608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Freeform 12"/>
              <p:cNvSpPr/>
              <p:nvPr/>
            </p:nvSpPr>
            <p:spPr>
              <a:xfrm>
                <a:off x="0" y="4934880"/>
                <a:ext cx="9140760" cy="7308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Freeform 13"/>
              <p:cNvSpPr/>
              <p:nvPr/>
            </p:nvSpPr>
            <p:spPr>
              <a:xfrm>
                <a:off x="0" y="458208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Freeform 14"/>
              <p:cNvSpPr/>
              <p:nvPr/>
            </p:nvSpPr>
            <p:spPr>
              <a:xfrm>
                <a:off x="0" y="423900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Freeform 15"/>
              <p:cNvSpPr/>
              <p:nvPr/>
            </p:nvSpPr>
            <p:spPr>
              <a:xfrm>
                <a:off x="0" y="391068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Freeform 16"/>
              <p:cNvSpPr/>
              <p:nvPr/>
            </p:nvSpPr>
            <p:spPr>
              <a:xfrm>
                <a:off x="0" y="3336480"/>
                <a:ext cx="9140760" cy="241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Freeform 17"/>
              <p:cNvSpPr/>
              <p:nvPr/>
            </p:nvSpPr>
            <p:spPr>
              <a:xfrm>
                <a:off x="0" y="3606120"/>
                <a:ext cx="9140760" cy="486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Freeform 18"/>
              <p:cNvSpPr/>
              <p:nvPr/>
            </p:nvSpPr>
            <p:spPr>
              <a:xfrm>
                <a:off x="0" y="3083040"/>
                <a:ext cx="9140760" cy="259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Freeform 19"/>
              <p:cNvSpPr/>
              <p:nvPr/>
            </p:nvSpPr>
            <p:spPr>
              <a:xfrm>
                <a:off x="0" y="282744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Freeform 20"/>
              <p:cNvSpPr/>
              <p:nvPr/>
            </p:nvSpPr>
            <p:spPr>
              <a:xfrm>
                <a:off x="0" y="259596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Freeform 21"/>
              <p:cNvSpPr/>
              <p:nvPr/>
            </p:nvSpPr>
            <p:spPr>
              <a:xfrm>
                <a:off x="0" y="238716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Freeform 22"/>
              <p:cNvSpPr/>
              <p:nvPr/>
            </p:nvSpPr>
            <p:spPr>
              <a:xfrm>
                <a:off x="0" y="48600"/>
                <a:ext cx="9140760" cy="6048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Freeform 23"/>
              <p:cNvSpPr/>
              <p:nvPr/>
            </p:nvSpPr>
            <p:spPr>
              <a:xfrm>
                <a:off x="0" y="37692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Freeform 24"/>
              <p:cNvSpPr/>
              <p:nvPr/>
            </p:nvSpPr>
            <p:spPr>
              <a:xfrm>
                <a:off x="0" y="963360"/>
                <a:ext cx="9140760" cy="48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Freeform 25"/>
              <p:cNvSpPr/>
              <p:nvPr/>
            </p:nvSpPr>
            <p:spPr>
              <a:xfrm>
                <a:off x="0" y="683280"/>
                <a:ext cx="9140760" cy="4680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>
                <a:off x="0" y="1216800"/>
                <a:ext cx="9140760" cy="4644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Freeform 27"/>
              <p:cNvSpPr/>
              <p:nvPr/>
            </p:nvSpPr>
            <p:spPr>
              <a:xfrm>
                <a:off x="0" y="1474560"/>
                <a:ext cx="914076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Freeform 28"/>
              <p:cNvSpPr/>
              <p:nvPr/>
            </p:nvSpPr>
            <p:spPr>
              <a:xfrm>
                <a:off x="0" y="1706040"/>
                <a:ext cx="9140760" cy="360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>
                <a:off x="0" y="1912320"/>
                <a:ext cx="9140760" cy="3672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53" name="Group 30"/>
              <p:cNvGrpSpPr/>
              <p:nvPr/>
            </p:nvGrpSpPr>
            <p:grpSpPr>
              <a:xfrm>
                <a:off x="0" y="0"/>
                <a:ext cx="9140760" cy="2118960"/>
                <a:chOff x="0" y="0"/>
                <a:chExt cx="9140760" cy="2118960"/>
              </a:xfrm>
            </p:grpSpPr>
            <p:sp>
              <p:nvSpPr>
                <p:cNvPr id="454" name="Freeform 31"/>
                <p:cNvSpPr/>
                <p:nvPr/>
              </p:nvSpPr>
              <p:spPr>
                <a:xfrm>
                  <a:off x="4522680" y="0"/>
                  <a:ext cx="669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2"/>
                <p:cNvSpPr/>
                <p:nvPr/>
              </p:nvSpPr>
              <p:spPr>
                <a:xfrm>
                  <a:off x="3809880" y="0"/>
                  <a:ext cx="246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3"/>
                <p:cNvSpPr/>
                <p:nvPr/>
              </p:nvSpPr>
              <p:spPr>
                <a:xfrm>
                  <a:off x="3122640" y="0"/>
                  <a:ext cx="380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4"/>
                <p:cNvSpPr/>
                <p:nvPr/>
              </p:nvSpPr>
              <p:spPr>
                <a:xfrm>
                  <a:off x="2467080" y="0"/>
                  <a:ext cx="560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5"/>
                <p:cNvSpPr/>
                <p:nvPr/>
              </p:nvSpPr>
              <p:spPr>
                <a:xfrm>
                  <a:off x="1800360" y="0"/>
                  <a:ext cx="714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6"/>
                <p:cNvSpPr/>
                <p:nvPr/>
              </p:nvSpPr>
              <p:spPr>
                <a:xfrm>
                  <a:off x="1133640" y="0"/>
                  <a:ext cx="857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7"/>
                <p:cNvSpPr/>
                <p:nvPr/>
              </p:nvSpPr>
              <p:spPr>
                <a:xfrm>
                  <a:off x="485640" y="0"/>
                  <a:ext cx="1019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8"/>
                <p:cNvSpPr/>
                <p:nvPr/>
              </p:nvSpPr>
              <p:spPr>
                <a:xfrm>
                  <a:off x="0" y="218880"/>
                  <a:ext cx="1000080" cy="190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9"/>
                <p:cNvSpPr/>
                <p:nvPr/>
              </p:nvSpPr>
              <p:spPr>
                <a:xfrm>
                  <a:off x="5065560" y="0"/>
                  <a:ext cx="24624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0"/>
                <p:cNvSpPr/>
                <p:nvPr/>
              </p:nvSpPr>
              <p:spPr>
                <a:xfrm>
                  <a:off x="5608800" y="0"/>
                  <a:ext cx="380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1"/>
                <p:cNvSpPr/>
                <p:nvPr/>
              </p:nvSpPr>
              <p:spPr>
                <a:xfrm>
                  <a:off x="6066000" y="0"/>
                  <a:ext cx="56988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2"/>
                <p:cNvSpPr/>
                <p:nvPr/>
              </p:nvSpPr>
              <p:spPr>
                <a:xfrm>
                  <a:off x="6570720" y="0"/>
                  <a:ext cx="71280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3"/>
                <p:cNvSpPr/>
                <p:nvPr/>
              </p:nvSpPr>
              <p:spPr>
                <a:xfrm>
                  <a:off x="7112160" y="0"/>
                  <a:ext cx="85860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4"/>
                <p:cNvSpPr/>
                <p:nvPr/>
              </p:nvSpPr>
              <p:spPr>
                <a:xfrm>
                  <a:off x="7569360" y="0"/>
                  <a:ext cx="1019160" cy="211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5"/>
                <p:cNvSpPr/>
                <p:nvPr/>
              </p:nvSpPr>
              <p:spPr>
                <a:xfrm>
                  <a:off x="8074080" y="97200"/>
                  <a:ext cx="1066680" cy="20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6"/>
              <p:cNvGrpSpPr/>
              <p:nvPr/>
            </p:nvGrpSpPr>
            <p:grpSpPr>
              <a:xfrm>
                <a:off x="0" y="1131840"/>
                <a:ext cx="9140760" cy="987120"/>
                <a:chOff x="0" y="1131840"/>
                <a:chExt cx="9140760" cy="987120"/>
              </a:xfrm>
            </p:grpSpPr>
            <p:sp>
              <p:nvSpPr>
                <p:cNvPr id="470" name="Freeform 47"/>
                <p:cNvSpPr/>
                <p:nvPr/>
              </p:nvSpPr>
              <p:spPr>
                <a:xfrm>
                  <a:off x="0" y="1253160"/>
                  <a:ext cx="485640" cy="86580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48"/>
                <p:cNvSpPr/>
                <p:nvPr/>
              </p:nvSpPr>
              <p:spPr>
                <a:xfrm>
                  <a:off x="8588520" y="1131840"/>
                  <a:ext cx="552240" cy="9871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49"/>
              <p:cNvGrpSpPr/>
              <p:nvPr/>
            </p:nvGrpSpPr>
            <p:grpSpPr>
              <a:xfrm>
                <a:off x="419040" y="2107440"/>
                <a:ext cx="8255160" cy="6652800"/>
                <a:chOff x="419040" y="2107440"/>
                <a:chExt cx="8255160" cy="6652800"/>
              </a:xfrm>
            </p:grpSpPr>
            <p:sp>
              <p:nvSpPr>
                <p:cNvPr id="473" name="Freeform 50"/>
                <p:cNvSpPr/>
                <p:nvPr/>
              </p:nvSpPr>
              <p:spPr>
                <a:xfrm>
                  <a:off x="4522680" y="2107440"/>
                  <a:ext cx="6696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51"/>
                <p:cNvSpPr/>
                <p:nvPr/>
              </p:nvSpPr>
              <p:spPr>
                <a:xfrm>
                  <a:off x="3419640" y="2107440"/>
                  <a:ext cx="6364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52"/>
                <p:cNvSpPr/>
                <p:nvPr/>
              </p:nvSpPr>
              <p:spPr>
                <a:xfrm>
                  <a:off x="2428920" y="2107440"/>
                  <a:ext cx="107460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53"/>
                <p:cNvSpPr/>
                <p:nvPr/>
              </p:nvSpPr>
              <p:spPr>
                <a:xfrm>
                  <a:off x="1390680" y="2107440"/>
                  <a:ext cx="163656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54"/>
                <p:cNvSpPr/>
                <p:nvPr/>
              </p:nvSpPr>
              <p:spPr>
                <a:xfrm>
                  <a:off x="419040" y="2107440"/>
                  <a:ext cx="209412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5"/>
                <p:cNvSpPr/>
                <p:nvPr/>
              </p:nvSpPr>
              <p:spPr>
                <a:xfrm>
                  <a:off x="5065560" y="2107440"/>
                  <a:ext cx="6382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56"/>
                <p:cNvSpPr/>
                <p:nvPr/>
              </p:nvSpPr>
              <p:spPr>
                <a:xfrm>
                  <a:off x="5608800" y="2107440"/>
                  <a:ext cx="107460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57"/>
                <p:cNvSpPr/>
                <p:nvPr/>
              </p:nvSpPr>
              <p:spPr>
                <a:xfrm>
                  <a:off x="6067440" y="2107440"/>
                  <a:ext cx="164448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58"/>
                <p:cNvSpPr/>
                <p:nvPr/>
              </p:nvSpPr>
              <p:spPr>
                <a:xfrm>
                  <a:off x="6567480" y="2107440"/>
                  <a:ext cx="2106720" cy="665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Freeform 59"/>
              <p:cNvSpPr/>
              <p:nvPr/>
            </p:nvSpPr>
            <p:spPr>
              <a:xfrm>
                <a:off x="0" y="2107440"/>
                <a:ext cx="1990800" cy="53384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3" name="Freeform 60"/>
              <p:cNvSpPr/>
              <p:nvPr/>
            </p:nvSpPr>
            <p:spPr>
              <a:xfrm>
                <a:off x="0" y="2107440"/>
                <a:ext cx="1504800" cy="33973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Freeform 61"/>
              <p:cNvSpPr/>
              <p:nvPr/>
            </p:nvSpPr>
            <p:spPr>
              <a:xfrm>
                <a:off x="0" y="2107440"/>
                <a:ext cx="998640" cy="1900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Freeform 62"/>
              <p:cNvSpPr/>
              <p:nvPr/>
            </p:nvSpPr>
            <p:spPr>
              <a:xfrm>
                <a:off x="0" y="2107440"/>
                <a:ext cx="484200" cy="8658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Freeform 63"/>
              <p:cNvSpPr/>
              <p:nvPr/>
            </p:nvSpPr>
            <p:spPr>
              <a:xfrm>
                <a:off x="7113600" y="2107440"/>
                <a:ext cx="2027160" cy="544788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Freeform 64"/>
              <p:cNvSpPr/>
              <p:nvPr/>
            </p:nvSpPr>
            <p:spPr>
              <a:xfrm>
                <a:off x="7572240" y="2107440"/>
                <a:ext cx="1568520" cy="35067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Freeform 65"/>
              <p:cNvSpPr/>
              <p:nvPr/>
            </p:nvSpPr>
            <p:spPr>
              <a:xfrm>
                <a:off x="8077320" y="2107440"/>
                <a:ext cx="1063440" cy="20217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Freeform 66"/>
              <p:cNvSpPr/>
              <p:nvPr/>
            </p:nvSpPr>
            <p:spPr>
              <a:xfrm>
                <a:off x="8591400" y="2107440"/>
                <a:ext cx="549360" cy="9874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348840"/>
            <a:ext cx="82263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5400" y="2043000"/>
            <a:ext cx="822636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3"/>
          </p:nvPr>
        </p:nvSpPr>
        <p:spPr>
          <a:xfrm>
            <a:off x="455400" y="7975080"/>
            <a:ext cx="21301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4"/>
          </p:nvPr>
        </p:nvSpPr>
        <p:spPr>
          <a:xfrm>
            <a:off x="3124080" y="7975080"/>
            <a:ext cx="28958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15"/>
          </p:nvPr>
        </p:nvSpPr>
        <p:spPr>
          <a:xfrm>
            <a:off x="6553080" y="7975080"/>
            <a:ext cx="213048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FEAD-7A26-45AE-BEA4-847548F67E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0" y="0"/>
            <a:ext cx="9144000" cy="8762760"/>
            <a:chOff x="0" y="0"/>
            <a:chExt cx="9144000" cy="8762760"/>
          </a:xfrm>
        </p:grpSpPr>
        <p:sp>
          <p:nvSpPr>
            <p:cNvPr id="532" name="Rectangle 3"/>
            <p:cNvSpPr/>
            <p:nvPr/>
          </p:nvSpPr>
          <p:spPr>
            <a:xfrm>
              <a:off x="0" y="0"/>
              <a:ext cx="3505320" cy="87627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3" name="Rectangle 4"/>
            <p:cNvSpPr/>
            <p:nvPr/>
          </p:nvSpPr>
          <p:spPr>
            <a:xfrm>
              <a:off x="1716120" y="2160000"/>
              <a:ext cx="7427880" cy="3237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4" name="Group 5"/>
            <p:cNvGrpSpPr/>
            <p:nvPr/>
          </p:nvGrpSpPr>
          <p:grpSpPr>
            <a:xfrm>
              <a:off x="0" y="1362960"/>
              <a:ext cx="2867040" cy="4034160"/>
              <a:chOff x="0" y="1362960"/>
              <a:chExt cx="2867040" cy="403416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573120" y="4578120"/>
                <a:ext cx="576360" cy="819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6" name="Rectangle 7"/>
              <p:cNvSpPr/>
              <p:nvPr/>
            </p:nvSpPr>
            <p:spPr>
              <a:xfrm>
                <a:off x="1716120" y="2160000"/>
                <a:ext cx="574560" cy="821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7" name="Rectangle 8"/>
              <p:cNvSpPr/>
              <p:nvPr/>
            </p:nvSpPr>
            <p:spPr>
              <a:xfrm>
                <a:off x="2281320" y="1362960"/>
                <a:ext cx="585720" cy="8110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8" name="Rectangle 9"/>
              <p:cNvSpPr/>
              <p:nvPr/>
            </p:nvSpPr>
            <p:spPr>
              <a:xfrm>
                <a:off x="1141560" y="4578120"/>
                <a:ext cx="583920" cy="819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9" name="Rectangle 10"/>
              <p:cNvSpPr/>
              <p:nvPr/>
            </p:nvSpPr>
            <p:spPr>
              <a:xfrm>
                <a:off x="2281320" y="2160000"/>
                <a:ext cx="585720" cy="82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0" name="Rectangle 11"/>
              <p:cNvSpPr/>
              <p:nvPr/>
            </p:nvSpPr>
            <p:spPr>
              <a:xfrm>
                <a:off x="1141560" y="2969640"/>
                <a:ext cx="583920" cy="808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1" name="Rectangle 12"/>
              <p:cNvSpPr/>
              <p:nvPr/>
            </p:nvSpPr>
            <p:spPr>
              <a:xfrm>
                <a:off x="0" y="2969640"/>
                <a:ext cx="582480" cy="808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2" name="Rectangle 13"/>
              <p:cNvSpPr/>
              <p:nvPr/>
            </p:nvSpPr>
            <p:spPr>
              <a:xfrm>
                <a:off x="1716120" y="2969640"/>
                <a:ext cx="574560" cy="808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3" name="Rectangle 14"/>
              <p:cNvSpPr/>
              <p:nvPr/>
            </p:nvSpPr>
            <p:spPr>
              <a:xfrm>
                <a:off x="573120" y="3766680"/>
                <a:ext cx="576360" cy="823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4" name="Rectangle 15"/>
              <p:cNvSpPr/>
              <p:nvPr/>
            </p:nvSpPr>
            <p:spPr>
              <a:xfrm>
                <a:off x="1141560" y="3766680"/>
                <a:ext cx="583920" cy="823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25318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6"/>
          </p:nvPr>
        </p:nvSpPr>
        <p:spPr>
          <a:xfrm>
            <a:off x="456840" y="798300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17"/>
          </p:nvPr>
        </p:nvSpPr>
        <p:spPr>
          <a:xfrm>
            <a:off x="3124080" y="7983000"/>
            <a:ext cx="2895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18"/>
          </p:nvPr>
        </p:nvSpPr>
        <p:spPr>
          <a:xfrm>
            <a:off x="6552720" y="798300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98E8-F38D-4337-B89F-C6185692EA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1800" y="1817640"/>
            <a:ext cx="9145440" cy="6944760"/>
            <a:chOff x="1800" y="1817640"/>
            <a:chExt cx="9145440" cy="6944760"/>
          </a:xfrm>
        </p:grpSpPr>
        <p:grpSp>
          <p:nvGrpSpPr>
            <p:cNvPr id="587" name="Group 3"/>
            <p:cNvGrpSpPr/>
            <p:nvPr/>
          </p:nvGrpSpPr>
          <p:grpSpPr>
            <a:xfrm>
              <a:off x="31680" y="1817640"/>
              <a:ext cx="9115560" cy="6944760"/>
              <a:chOff x="31680" y="1817640"/>
              <a:chExt cx="9115560" cy="6944760"/>
            </a:xfrm>
          </p:grpSpPr>
          <p:sp>
            <p:nvSpPr>
              <p:cNvPr id="588" name="Freeform 4"/>
              <p:cNvSpPr/>
              <p:nvPr/>
            </p:nvSpPr>
            <p:spPr>
              <a:xfrm>
                <a:off x="2220840" y="2263680"/>
                <a:ext cx="4469040" cy="42796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9" name="Freeform 5"/>
              <p:cNvSpPr/>
              <p:nvPr/>
            </p:nvSpPr>
            <p:spPr>
              <a:xfrm>
                <a:off x="1066680" y="2263680"/>
                <a:ext cx="6296040" cy="4799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0" name="Freeform 6"/>
              <p:cNvSpPr/>
              <p:nvPr/>
            </p:nvSpPr>
            <p:spPr>
              <a:xfrm>
                <a:off x="31680" y="2168280"/>
                <a:ext cx="9099720" cy="63018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1" name="Freeform 7"/>
              <p:cNvSpPr/>
              <p:nvPr/>
            </p:nvSpPr>
            <p:spPr>
              <a:xfrm>
                <a:off x="384120" y="2322360"/>
                <a:ext cx="8750520" cy="55980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2" name="Freeform 8"/>
              <p:cNvSpPr/>
              <p:nvPr/>
            </p:nvSpPr>
            <p:spPr>
              <a:xfrm>
                <a:off x="7683480" y="1995840"/>
                <a:ext cx="1254240" cy="2413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3" name="Freeform 9"/>
              <p:cNvSpPr/>
              <p:nvPr/>
            </p:nvSpPr>
            <p:spPr>
              <a:xfrm>
                <a:off x="8211960" y="1817640"/>
                <a:ext cx="919440" cy="226548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4" name="Freeform 10"/>
              <p:cNvSpPr/>
              <p:nvPr/>
            </p:nvSpPr>
            <p:spPr>
              <a:xfrm>
                <a:off x="5224320" y="1963800"/>
                <a:ext cx="3922920" cy="485928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5" name="Freeform 11"/>
              <p:cNvSpPr/>
              <p:nvPr/>
            </p:nvSpPr>
            <p:spPr>
              <a:xfrm>
                <a:off x="3755880" y="2164320"/>
                <a:ext cx="2221200" cy="2736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6" name="Freeform 12"/>
              <p:cNvSpPr/>
              <p:nvPr/>
            </p:nvSpPr>
            <p:spPr>
              <a:xfrm>
                <a:off x="6786720" y="4119480"/>
                <a:ext cx="1993680" cy="16426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7" name="Freeform 13"/>
              <p:cNvSpPr/>
              <p:nvPr/>
            </p:nvSpPr>
            <p:spPr>
              <a:xfrm>
                <a:off x="4626000" y="7050600"/>
                <a:ext cx="4521240" cy="15962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8" name="Freeform 14"/>
              <p:cNvSpPr/>
              <p:nvPr/>
            </p:nvSpPr>
            <p:spPr>
              <a:xfrm>
                <a:off x="8640720" y="1870200"/>
                <a:ext cx="506520" cy="17319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9" name="Freeform 15"/>
              <p:cNvSpPr/>
              <p:nvPr/>
            </p:nvSpPr>
            <p:spPr>
              <a:xfrm>
                <a:off x="7864560" y="7237080"/>
                <a:ext cx="1025280" cy="7952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0" name="Freeform 16"/>
              <p:cNvSpPr/>
              <p:nvPr/>
            </p:nvSpPr>
            <p:spPr>
              <a:xfrm>
                <a:off x="79200" y="4867920"/>
                <a:ext cx="4343400" cy="389448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7"/>
            <p:cNvGrpSpPr/>
            <p:nvPr/>
          </p:nvGrpSpPr>
          <p:grpSpPr>
            <a:xfrm>
              <a:off x="1800" y="4651920"/>
              <a:ext cx="2196360" cy="3441240"/>
              <a:chOff x="1800" y="4651920"/>
              <a:chExt cx="2196360" cy="3441240"/>
            </a:xfrm>
          </p:grpSpPr>
          <p:sp>
            <p:nvSpPr>
              <p:cNvPr id="602" name="Rectangle 18"/>
              <p:cNvSpPr/>
              <p:nvPr/>
            </p:nvSpPr>
            <p:spPr>
              <a:xfrm rot="6798600">
                <a:off x="83520" y="7876080"/>
                <a:ext cx="1497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rot="6798600">
                <a:off x="36360" y="787104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4" name="Rectangle 20"/>
              <p:cNvSpPr/>
              <p:nvPr/>
            </p:nvSpPr>
            <p:spPr>
              <a:xfrm rot="6798600">
                <a:off x="-6120" y="7859160"/>
                <a:ext cx="1519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5" name="Rectangle 21"/>
              <p:cNvSpPr/>
              <p:nvPr/>
            </p:nvSpPr>
            <p:spPr>
              <a:xfrm rot="5999400">
                <a:off x="318240" y="787896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6" name="Rectangle 22"/>
              <p:cNvSpPr/>
              <p:nvPr/>
            </p:nvSpPr>
            <p:spPr>
              <a:xfrm rot="5999400">
                <a:off x="275760" y="78868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7" name="Rectangle 23"/>
              <p:cNvSpPr/>
              <p:nvPr/>
            </p:nvSpPr>
            <p:spPr>
              <a:xfrm rot="6249600">
                <a:off x="228600" y="7885440"/>
                <a:ext cx="139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8" name="Rectangle 24"/>
              <p:cNvSpPr/>
              <p:nvPr/>
            </p:nvSpPr>
            <p:spPr>
              <a:xfrm rot="6237600">
                <a:off x="182160" y="78814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9" name="Rectangle 25"/>
              <p:cNvSpPr/>
              <p:nvPr/>
            </p:nvSpPr>
            <p:spPr>
              <a:xfrm rot="5380200">
                <a:off x="560520" y="7848000"/>
                <a:ext cx="1418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0" name="Rectangle 26"/>
              <p:cNvSpPr/>
              <p:nvPr/>
            </p:nvSpPr>
            <p:spPr>
              <a:xfrm rot="5380200">
                <a:off x="513720" y="78526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1" name="Rectangle 27"/>
              <p:cNvSpPr/>
              <p:nvPr/>
            </p:nvSpPr>
            <p:spPr>
              <a:xfrm rot="5583000">
                <a:off x="466200" y="786528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2" name="Rectangle 28"/>
              <p:cNvSpPr/>
              <p:nvPr/>
            </p:nvSpPr>
            <p:spPr>
              <a:xfrm rot="5737200">
                <a:off x="415440" y="787320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3" name="Rectangle 29"/>
              <p:cNvSpPr/>
              <p:nvPr/>
            </p:nvSpPr>
            <p:spPr>
              <a:xfrm rot="4715400">
                <a:off x="805320" y="7765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Rectangle 30"/>
              <p:cNvSpPr/>
              <p:nvPr/>
            </p:nvSpPr>
            <p:spPr>
              <a:xfrm rot="4924800">
                <a:off x="759240" y="77760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Rectangle 31"/>
              <p:cNvSpPr/>
              <p:nvPr/>
            </p:nvSpPr>
            <p:spPr>
              <a:xfrm rot="4924800">
                <a:off x="710640" y="78040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Rectangle 32"/>
              <p:cNvSpPr/>
              <p:nvPr/>
            </p:nvSpPr>
            <p:spPr>
              <a:xfrm rot="5041200">
                <a:off x="662400" y="78102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Rectangle 33"/>
              <p:cNvSpPr/>
              <p:nvPr/>
            </p:nvSpPr>
            <p:spPr>
              <a:xfrm rot="3816600">
                <a:off x="1042200" y="76298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Rectangle 34"/>
              <p:cNvSpPr/>
              <p:nvPr/>
            </p:nvSpPr>
            <p:spPr>
              <a:xfrm rot="3816600">
                <a:off x="994680" y="7666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Rectangle 35"/>
              <p:cNvSpPr/>
              <p:nvPr/>
            </p:nvSpPr>
            <p:spPr>
              <a:xfrm rot="4104000">
                <a:off x="948600" y="76888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Rectangle 36"/>
              <p:cNvSpPr/>
              <p:nvPr/>
            </p:nvSpPr>
            <p:spPr>
              <a:xfrm rot="4324800">
                <a:off x="899640" y="771516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Rectangle 37"/>
              <p:cNvSpPr/>
              <p:nvPr/>
            </p:nvSpPr>
            <p:spPr>
              <a:xfrm rot="3367800">
                <a:off x="1256400" y="74700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2" name="Rectangle 38"/>
              <p:cNvSpPr/>
              <p:nvPr/>
            </p:nvSpPr>
            <p:spPr>
              <a:xfrm rot="3367800">
                <a:off x="1212480" y="75016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Rectangle 39"/>
              <p:cNvSpPr/>
              <p:nvPr/>
            </p:nvSpPr>
            <p:spPr>
              <a:xfrm rot="3367800">
                <a:off x="1169280" y="75387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Rectangle 40"/>
              <p:cNvSpPr/>
              <p:nvPr/>
            </p:nvSpPr>
            <p:spPr>
              <a:xfrm rot="3816600">
                <a:off x="1126440" y="757332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Rectangle 41"/>
              <p:cNvSpPr/>
              <p:nvPr/>
            </p:nvSpPr>
            <p:spPr>
              <a:xfrm rot="2302200">
                <a:off x="1464840" y="727524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Rectangle 42"/>
              <p:cNvSpPr/>
              <p:nvPr/>
            </p:nvSpPr>
            <p:spPr>
              <a:xfrm rot="2302200">
                <a:off x="1426680" y="7311600"/>
                <a:ext cx="10980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Rectangle 43"/>
              <p:cNvSpPr/>
              <p:nvPr/>
            </p:nvSpPr>
            <p:spPr>
              <a:xfrm rot="2707200">
                <a:off x="1377360" y="7354080"/>
                <a:ext cx="1400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Rectangle 44"/>
              <p:cNvSpPr/>
              <p:nvPr/>
            </p:nvSpPr>
            <p:spPr>
              <a:xfrm rot="2707200">
                <a:off x="1337400" y="73904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Rectangle 45"/>
              <p:cNvSpPr/>
              <p:nvPr/>
            </p:nvSpPr>
            <p:spPr>
              <a:xfrm rot="1525800">
                <a:off x="1630080" y="70419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Rectangle 46"/>
              <p:cNvSpPr/>
              <p:nvPr/>
            </p:nvSpPr>
            <p:spPr>
              <a:xfrm rot="1525800">
                <a:off x="1601280" y="7093080"/>
                <a:ext cx="10980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Rectangle 47"/>
              <p:cNvSpPr/>
              <p:nvPr/>
            </p:nvSpPr>
            <p:spPr>
              <a:xfrm rot="1788000">
                <a:off x="1571760" y="71373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Rectangle 48"/>
              <p:cNvSpPr/>
              <p:nvPr/>
            </p:nvSpPr>
            <p:spPr>
              <a:xfrm rot="1788000">
                <a:off x="1538280" y="718776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Rectangle 49"/>
              <p:cNvSpPr/>
              <p:nvPr/>
            </p:nvSpPr>
            <p:spPr>
              <a:xfrm rot="841200">
                <a:off x="1766520" y="680508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4" name="Rectangle 50"/>
              <p:cNvSpPr/>
              <p:nvPr/>
            </p:nvSpPr>
            <p:spPr>
              <a:xfrm rot="841200">
                <a:off x="1746360" y="6851160"/>
                <a:ext cx="109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5" name="Rectangle 51"/>
              <p:cNvSpPr/>
              <p:nvPr/>
            </p:nvSpPr>
            <p:spPr>
              <a:xfrm rot="1308600">
                <a:off x="1723680" y="6904080"/>
                <a:ext cx="109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6" name="Rectangle 52"/>
              <p:cNvSpPr/>
              <p:nvPr/>
            </p:nvSpPr>
            <p:spPr>
              <a:xfrm rot="1308600">
                <a:off x="1688760" y="6946920"/>
                <a:ext cx="109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7" name="Rectangle 53"/>
              <p:cNvSpPr/>
              <p:nvPr/>
            </p:nvSpPr>
            <p:spPr>
              <a:xfrm rot="469800">
                <a:off x="1860120" y="654120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8" name="Rectangle 54"/>
              <p:cNvSpPr/>
              <p:nvPr/>
            </p:nvSpPr>
            <p:spPr>
              <a:xfrm rot="559800">
                <a:off x="1844640" y="65923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9" name="Rectangle 55"/>
              <p:cNvSpPr/>
              <p:nvPr/>
            </p:nvSpPr>
            <p:spPr>
              <a:xfrm rot="733800">
                <a:off x="1831680" y="66445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0" name="Rectangle 56"/>
              <p:cNvSpPr/>
              <p:nvPr/>
            </p:nvSpPr>
            <p:spPr>
              <a:xfrm rot="733800">
                <a:off x="1811160" y="670176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1" name="Rectangle 57"/>
              <p:cNvSpPr/>
              <p:nvPr/>
            </p:nvSpPr>
            <p:spPr>
              <a:xfrm rot="21306000">
                <a:off x="1922400" y="6279480"/>
                <a:ext cx="12852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2" name="Rectangle 58"/>
              <p:cNvSpPr/>
              <p:nvPr/>
            </p:nvSpPr>
            <p:spPr>
              <a:xfrm rot="21599400">
                <a:off x="1906560" y="633204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3" name="Rectangle 59"/>
              <p:cNvSpPr/>
              <p:nvPr/>
            </p:nvSpPr>
            <p:spPr>
              <a:xfrm rot="21599400">
                <a:off x="1905120" y="638244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4" name="Rectangle 60"/>
              <p:cNvSpPr/>
              <p:nvPr/>
            </p:nvSpPr>
            <p:spPr>
              <a:xfrm rot="213600">
                <a:off x="1887120" y="6435720"/>
                <a:ext cx="128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5" name="Rectangle 61"/>
              <p:cNvSpPr/>
              <p:nvPr/>
            </p:nvSpPr>
            <p:spPr>
              <a:xfrm rot="20917200">
                <a:off x="1934640" y="601128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Rectangle 62"/>
              <p:cNvSpPr/>
              <p:nvPr/>
            </p:nvSpPr>
            <p:spPr>
              <a:xfrm rot="21119400">
                <a:off x="1936440" y="60663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Rectangle 63"/>
              <p:cNvSpPr/>
              <p:nvPr/>
            </p:nvSpPr>
            <p:spPr>
              <a:xfrm rot="21119400">
                <a:off x="1936800" y="611532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Rectangle 64"/>
              <p:cNvSpPr/>
              <p:nvPr/>
            </p:nvSpPr>
            <p:spPr>
              <a:xfrm rot="21329400">
                <a:off x="1935000" y="6166080"/>
                <a:ext cx="12888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Rectangle 65"/>
              <p:cNvSpPr/>
              <p:nvPr/>
            </p:nvSpPr>
            <p:spPr>
              <a:xfrm rot="20467200">
                <a:off x="1915920" y="576396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Rectangle 66"/>
              <p:cNvSpPr/>
              <p:nvPr/>
            </p:nvSpPr>
            <p:spPr>
              <a:xfrm rot="20630400">
                <a:off x="1925280" y="580860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Rectangle 67"/>
              <p:cNvSpPr/>
              <p:nvPr/>
            </p:nvSpPr>
            <p:spPr>
              <a:xfrm rot="20630400">
                <a:off x="1929960" y="585720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2" name="Rectangle 68"/>
              <p:cNvSpPr/>
              <p:nvPr/>
            </p:nvSpPr>
            <p:spPr>
              <a:xfrm rot="20793600">
                <a:off x="1935000" y="5910120"/>
                <a:ext cx="13680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3" name="Rectangle 69"/>
              <p:cNvSpPr/>
              <p:nvPr/>
            </p:nvSpPr>
            <p:spPr>
              <a:xfrm rot="20055600">
                <a:off x="1849320" y="553068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Rectangle 70"/>
              <p:cNvSpPr/>
              <p:nvPr/>
            </p:nvSpPr>
            <p:spPr>
              <a:xfrm rot="20257800">
                <a:off x="1866960" y="5581800"/>
                <a:ext cx="13644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Rectangle 71"/>
              <p:cNvSpPr/>
              <p:nvPr/>
            </p:nvSpPr>
            <p:spPr>
              <a:xfrm rot="20257800">
                <a:off x="1879560" y="562824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Rectangle 72"/>
              <p:cNvSpPr/>
              <p:nvPr/>
            </p:nvSpPr>
            <p:spPr>
              <a:xfrm rot="20257800">
                <a:off x="1895400" y="56685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Rectangle 73"/>
              <p:cNvSpPr/>
              <p:nvPr/>
            </p:nvSpPr>
            <p:spPr>
              <a:xfrm rot="19671000">
                <a:off x="1747440" y="533052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Rectangle 74"/>
              <p:cNvSpPr/>
              <p:nvPr/>
            </p:nvSpPr>
            <p:spPr>
              <a:xfrm rot="19755600">
                <a:off x="1768320" y="5362560"/>
                <a:ext cx="13680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Rectangle 75"/>
              <p:cNvSpPr/>
              <p:nvPr/>
            </p:nvSpPr>
            <p:spPr>
              <a:xfrm rot="19847400">
                <a:off x="1792080" y="5406840"/>
                <a:ext cx="136440" cy="2664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Rectangle 76"/>
              <p:cNvSpPr/>
              <p:nvPr/>
            </p:nvSpPr>
            <p:spPr>
              <a:xfrm rot="19847400">
                <a:off x="1812600" y="5443920"/>
                <a:ext cx="13644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Rectangle 77"/>
              <p:cNvSpPr/>
              <p:nvPr/>
            </p:nvSpPr>
            <p:spPr>
              <a:xfrm rot="19132800">
                <a:off x="1609560" y="5147640"/>
                <a:ext cx="13680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Rectangle 78"/>
              <p:cNvSpPr/>
              <p:nvPr/>
            </p:nvSpPr>
            <p:spPr>
              <a:xfrm rot="19132800">
                <a:off x="1643040" y="51861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Rectangle 79"/>
              <p:cNvSpPr/>
              <p:nvPr/>
            </p:nvSpPr>
            <p:spPr>
              <a:xfrm rot="19132800">
                <a:off x="1666800" y="522072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Rectangle 80"/>
              <p:cNvSpPr/>
              <p:nvPr/>
            </p:nvSpPr>
            <p:spPr>
              <a:xfrm rot="19257600">
                <a:off x="1695240" y="525276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Freeform 81"/>
              <p:cNvSpPr/>
              <p:nvPr/>
            </p:nvSpPr>
            <p:spPr>
              <a:xfrm>
                <a:off x="771480" y="5198400"/>
                <a:ext cx="285840" cy="3060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Rectangle 82"/>
              <p:cNvSpPr/>
              <p:nvPr/>
            </p:nvSpPr>
            <p:spPr>
              <a:xfrm rot="6575400">
                <a:off x="-614520" y="6366960"/>
                <a:ext cx="248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Rectangle 83"/>
              <p:cNvSpPr/>
              <p:nvPr/>
            </p:nvSpPr>
            <p:spPr>
              <a:xfrm rot="238200">
                <a:off x="6480" y="6381000"/>
                <a:ext cx="16365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Rectangle 84"/>
              <p:cNvSpPr/>
              <p:nvPr/>
            </p:nvSpPr>
            <p:spPr>
              <a:xfrm rot="18642600">
                <a:off x="1424160" y="5015160"/>
                <a:ext cx="164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Rectangle 85"/>
              <p:cNvSpPr/>
              <p:nvPr/>
            </p:nvSpPr>
            <p:spPr>
              <a:xfrm rot="18642600">
                <a:off x="1459080" y="5041800"/>
                <a:ext cx="164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Rectangle 86"/>
              <p:cNvSpPr/>
              <p:nvPr/>
            </p:nvSpPr>
            <p:spPr>
              <a:xfrm rot="18642600">
                <a:off x="1495080" y="5067000"/>
                <a:ext cx="174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Rectangle 87"/>
              <p:cNvSpPr/>
              <p:nvPr/>
            </p:nvSpPr>
            <p:spPr>
              <a:xfrm rot="18938400">
                <a:off x="1546200" y="5088600"/>
                <a:ext cx="13644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Rectangle 88"/>
              <p:cNvSpPr/>
              <p:nvPr/>
            </p:nvSpPr>
            <p:spPr>
              <a:xfrm rot="17961000">
                <a:off x="1236240" y="4921560"/>
                <a:ext cx="149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Rectangle 89"/>
              <p:cNvSpPr/>
              <p:nvPr/>
            </p:nvSpPr>
            <p:spPr>
              <a:xfrm rot="17961000">
                <a:off x="1278000" y="493596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Rectangle 90"/>
              <p:cNvSpPr/>
              <p:nvPr/>
            </p:nvSpPr>
            <p:spPr>
              <a:xfrm rot="18085200">
                <a:off x="1313280" y="4950360"/>
                <a:ext cx="164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Rectangle 91"/>
              <p:cNvSpPr/>
              <p:nvPr/>
            </p:nvSpPr>
            <p:spPr>
              <a:xfrm rot="18379200">
                <a:off x="1351080" y="4974840"/>
                <a:ext cx="164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Rectangle 92"/>
              <p:cNvSpPr/>
              <p:nvPr/>
            </p:nvSpPr>
            <p:spPr>
              <a:xfrm rot="17261400">
                <a:off x="1014480" y="485928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Rectangle 93"/>
              <p:cNvSpPr/>
              <p:nvPr/>
            </p:nvSpPr>
            <p:spPr>
              <a:xfrm rot="17349600">
                <a:off x="1059120" y="487116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8" name="Rectangle 94"/>
              <p:cNvSpPr/>
              <p:nvPr/>
            </p:nvSpPr>
            <p:spPr>
              <a:xfrm rot="17349600">
                <a:off x="1107000" y="4881240"/>
                <a:ext cx="151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9" name="Rectangle 95"/>
              <p:cNvSpPr/>
              <p:nvPr/>
            </p:nvSpPr>
            <p:spPr>
              <a:xfrm rot="17611200">
                <a:off x="1154160" y="488952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0" name="Rectangle 96"/>
              <p:cNvSpPr/>
              <p:nvPr/>
            </p:nvSpPr>
            <p:spPr>
              <a:xfrm rot="16737600">
                <a:off x="785520" y="485712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1" name="Rectangle 97"/>
              <p:cNvSpPr/>
              <p:nvPr/>
            </p:nvSpPr>
            <p:spPr>
              <a:xfrm rot="16926600">
                <a:off x="830160" y="485316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2" name="Rectangle 98"/>
              <p:cNvSpPr/>
              <p:nvPr/>
            </p:nvSpPr>
            <p:spPr>
              <a:xfrm rot="16953000">
                <a:off x="879120" y="4847760"/>
                <a:ext cx="149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3" name="Rectangle 99"/>
              <p:cNvSpPr/>
              <p:nvPr/>
            </p:nvSpPr>
            <p:spPr>
              <a:xfrm rot="17019600">
                <a:off x="927000" y="4848840"/>
                <a:ext cx="151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4" name="Rectangle 100"/>
              <p:cNvSpPr/>
              <p:nvPr/>
            </p:nvSpPr>
            <p:spPr>
              <a:xfrm rot="16404600">
                <a:off x="550800" y="489564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Rectangle 101"/>
              <p:cNvSpPr/>
              <p:nvPr/>
            </p:nvSpPr>
            <p:spPr>
              <a:xfrm rot="16239000">
                <a:off x="598320" y="488556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Rectangle 102"/>
              <p:cNvSpPr/>
              <p:nvPr/>
            </p:nvSpPr>
            <p:spPr>
              <a:xfrm rot="16311000">
                <a:off x="650880" y="4877280"/>
                <a:ext cx="139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Rectangle 103"/>
              <p:cNvSpPr/>
              <p:nvPr/>
            </p:nvSpPr>
            <p:spPr>
              <a:xfrm rot="16434600">
                <a:off x="699840" y="486720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Rectangle 104"/>
              <p:cNvSpPr/>
              <p:nvPr/>
            </p:nvSpPr>
            <p:spPr>
              <a:xfrm rot="15467400">
                <a:off x="313560" y="498456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Rectangle 105"/>
              <p:cNvSpPr/>
              <p:nvPr/>
            </p:nvSpPr>
            <p:spPr>
              <a:xfrm rot="15379200">
                <a:off x="363240" y="49644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Rectangle 106"/>
              <p:cNvSpPr/>
              <p:nvPr/>
            </p:nvSpPr>
            <p:spPr>
              <a:xfrm rot="15489000">
                <a:off x="410400" y="49442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Rectangle 107"/>
              <p:cNvSpPr/>
              <p:nvPr/>
            </p:nvSpPr>
            <p:spPr>
              <a:xfrm rot="15680400">
                <a:off x="450720" y="4921920"/>
                <a:ext cx="139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Rectangle 108"/>
              <p:cNvSpPr/>
              <p:nvPr/>
            </p:nvSpPr>
            <p:spPr>
              <a:xfrm rot="14223600">
                <a:off x="-5040" y="516924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Rectangle 109"/>
              <p:cNvSpPr/>
              <p:nvPr/>
            </p:nvSpPr>
            <p:spPr>
              <a:xfrm rot="14431200">
                <a:off x="89640" y="51040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Rectangle 110"/>
              <p:cNvSpPr/>
              <p:nvPr/>
            </p:nvSpPr>
            <p:spPr>
              <a:xfrm rot="14797200">
                <a:off x="132480" y="507420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5" name="Rectangle 111"/>
              <p:cNvSpPr/>
              <p:nvPr/>
            </p:nvSpPr>
            <p:spPr>
              <a:xfrm rot="14797200">
                <a:off x="177120" y="5053680"/>
                <a:ext cx="127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6" name="Rectangle 112"/>
              <p:cNvSpPr/>
              <p:nvPr/>
            </p:nvSpPr>
            <p:spPr>
              <a:xfrm rot="15142200">
                <a:off x="226440" y="5025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7" name="Rectangle 113"/>
              <p:cNvSpPr/>
              <p:nvPr/>
            </p:nvSpPr>
            <p:spPr>
              <a:xfrm rot="19723200">
                <a:off x="0" y="6820920"/>
                <a:ext cx="1191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8" name="Rectangle 114"/>
              <p:cNvSpPr/>
              <p:nvPr/>
            </p:nvSpPr>
            <p:spPr>
              <a:xfrm rot="3283800">
                <a:off x="757440" y="7057080"/>
                <a:ext cx="490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9" name="Rectangle 115"/>
              <p:cNvSpPr/>
              <p:nvPr/>
            </p:nvSpPr>
            <p:spPr>
              <a:xfrm rot="3283800">
                <a:off x="1800" y="5677560"/>
                <a:ext cx="490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0" name="Rectangle 116"/>
              <p:cNvSpPr/>
              <p:nvPr/>
            </p:nvSpPr>
            <p:spPr>
              <a:xfrm rot="19723200">
                <a:off x="1110960" y="5782680"/>
                <a:ext cx="50328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1" name="Rectangle 117"/>
              <p:cNvSpPr/>
              <p:nvPr/>
            </p:nvSpPr>
            <p:spPr>
              <a:xfrm rot="5908800">
                <a:off x="286560" y="7943400"/>
                <a:ext cx="28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Rectangle 118"/>
              <p:cNvSpPr/>
              <p:nvPr/>
            </p:nvSpPr>
            <p:spPr>
              <a:xfrm rot="6683400">
                <a:off x="38880" y="7943040"/>
                <a:ext cx="291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Rectangle 119"/>
              <p:cNvSpPr/>
              <p:nvPr/>
            </p:nvSpPr>
            <p:spPr>
              <a:xfrm rot="5245200">
                <a:off x="544320" y="78973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Rectangle 120"/>
              <p:cNvSpPr/>
              <p:nvPr/>
            </p:nvSpPr>
            <p:spPr>
              <a:xfrm rot="4500000">
                <a:off x="800280" y="780444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Rectangle 121"/>
              <p:cNvSpPr/>
              <p:nvPr/>
            </p:nvSpPr>
            <p:spPr>
              <a:xfrm rot="3805200">
                <a:off x="1035000" y="766404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6" name="Rectangle 122"/>
              <p:cNvSpPr/>
              <p:nvPr/>
            </p:nvSpPr>
            <p:spPr>
              <a:xfrm rot="3060000">
                <a:off x="1262160" y="74815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7" name="Rectangle 123"/>
              <p:cNvSpPr/>
              <p:nvPr/>
            </p:nvSpPr>
            <p:spPr>
              <a:xfrm rot="2089800">
                <a:off x="1488600" y="7265520"/>
                <a:ext cx="2095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Rectangle 124"/>
              <p:cNvSpPr/>
              <p:nvPr/>
            </p:nvSpPr>
            <p:spPr>
              <a:xfrm rot="14431200">
                <a:off x="-57600" y="5085000"/>
                <a:ext cx="2674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Rectangle 125"/>
              <p:cNvSpPr/>
              <p:nvPr/>
            </p:nvSpPr>
            <p:spPr>
              <a:xfrm rot="15193200">
                <a:off x="187560" y="4936320"/>
                <a:ext cx="265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Rectangle 126"/>
              <p:cNvSpPr/>
              <p:nvPr/>
            </p:nvSpPr>
            <p:spPr>
              <a:xfrm rot="16629000">
                <a:off x="679320" y="4797360"/>
                <a:ext cx="279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Rectangle 127"/>
              <p:cNvSpPr/>
              <p:nvPr/>
            </p:nvSpPr>
            <p:spPr>
              <a:xfrm rot="17301000">
                <a:off x="914760" y="4789440"/>
                <a:ext cx="3038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Rectangle 128"/>
              <p:cNvSpPr/>
              <p:nvPr/>
            </p:nvSpPr>
            <p:spPr>
              <a:xfrm rot="17923200">
                <a:off x="1141560" y="4838760"/>
                <a:ext cx="3139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Rectangle 129"/>
              <p:cNvSpPr/>
              <p:nvPr/>
            </p:nvSpPr>
            <p:spPr>
              <a:xfrm rot="18411000">
                <a:off x="1344600" y="4928040"/>
                <a:ext cx="338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Rectangle 130"/>
              <p:cNvSpPr/>
              <p:nvPr/>
            </p:nvSpPr>
            <p:spPr>
              <a:xfrm rot="18989400">
                <a:off x="1561680" y="5062320"/>
                <a:ext cx="26532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5" name="Rectangle 131"/>
              <p:cNvSpPr/>
              <p:nvPr/>
            </p:nvSpPr>
            <p:spPr>
              <a:xfrm rot="19409400">
                <a:off x="1706400" y="5242680"/>
                <a:ext cx="27468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6" name="Rectangle 132"/>
              <p:cNvSpPr/>
              <p:nvPr/>
            </p:nvSpPr>
            <p:spPr>
              <a:xfrm rot="19871400">
                <a:off x="1820520" y="5450040"/>
                <a:ext cx="26496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7" name="Rectangle 133"/>
              <p:cNvSpPr/>
              <p:nvPr/>
            </p:nvSpPr>
            <p:spPr>
              <a:xfrm rot="20427600">
                <a:off x="1901880" y="5689080"/>
                <a:ext cx="2649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8" name="Rectangle 134"/>
              <p:cNvSpPr/>
              <p:nvPr/>
            </p:nvSpPr>
            <p:spPr>
              <a:xfrm rot="20845800">
                <a:off x="1933560" y="5942880"/>
                <a:ext cx="26496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9" name="Rectangle 135"/>
              <p:cNvSpPr/>
              <p:nvPr/>
            </p:nvSpPr>
            <p:spPr>
              <a:xfrm rot="21312000">
                <a:off x="1925280" y="6216840"/>
                <a:ext cx="26496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Rectangle 136"/>
              <p:cNvSpPr/>
              <p:nvPr/>
            </p:nvSpPr>
            <p:spPr>
              <a:xfrm rot="696600">
                <a:off x="1787040" y="6768000"/>
                <a:ext cx="238320" cy="241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Rectangle 137"/>
              <p:cNvSpPr/>
              <p:nvPr/>
            </p:nvSpPr>
            <p:spPr>
              <a:xfrm rot="1529400">
                <a:off x="1652400" y="7028280"/>
                <a:ext cx="222120" cy="25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38"/>
              <p:cNvSpPr/>
              <p:nvPr/>
            </p:nvSpPr>
            <p:spPr>
              <a:xfrm>
                <a:off x="1349280" y="6360840"/>
                <a:ext cx="324000" cy="2430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Freeform 139"/>
              <p:cNvSpPr/>
              <p:nvPr/>
            </p:nvSpPr>
            <p:spPr>
              <a:xfrm>
                <a:off x="30240" y="5520960"/>
                <a:ext cx="142920" cy="1562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Freeform 140"/>
              <p:cNvSpPr/>
              <p:nvPr/>
            </p:nvSpPr>
            <p:spPr>
              <a:xfrm>
                <a:off x="154080" y="5376960"/>
                <a:ext cx="160200" cy="180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Freeform 141"/>
              <p:cNvSpPr/>
              <p:nvPr/>
            </p:nvSpPr>
            <p:spPr>
              <a:xfrm>
                <a:off x="1074600" y="7103160"/>
                <a:ext cx="131760" cy="1558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Freeform 142"/>
              <p:cNvSpPr/>
              <p:nvPr/>
            </p:nvSpPr>
            <p:spPr>
              <a:xfrm>
                <a:off x="1492200" y="5640480"/>
                <a:ext cx="142920" cy="1461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Freeform 143"/>
              <p:cNvSpPr/>
              <p:nvPr/>
            </p:nvSpPr>
            <p:spPr>
              <a:xfrm>
                <a:off x="1425600" y="5509080"/>
                <a:ext cx="142920" cy="1699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8" name="Freeform 144"/>
              <p:cNvSpPr/>
              <p:nvPr/>
            </p:nvSpPr>
            <p:spPr>
              <a:xfrm>
                <a:off x="11160" y="7782480"/>
                <a:ext cx="9360" cy="2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9" name="Freeform 145"/>
              <p:cNvSpPr/>
              <p:nvPr/>
            </p:nvSpPr>
            <p:spPr>
              <a:xfrm>
                <a:off x="11160" y="5180040"/>
                <a:ext cx="47520" cy="9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0" name="Freeform 146"/>
              <p:cNvSpPr/>
              <p:nvPr/>
            </p:nvSpPr>
            <p:spPr>
              <a:xfrm>
                <a:off x="11160" y="7795080"/>
                <a:ext cx="57240" cy="1353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1" name="Rectangle 147"/>
              <p:cNvSpPr/>
              <p:nvPr/>
            </p:nvSpPr>
            <p:spPr>
              <a:xfrm rot="244800">
                <a:off x="1868040" y="6492960"/>
                <a:ext cx="255600" cy="237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2" name="Rectangle 148"/>
              <p:cNvSpPr/>
              <p:nvPr/>
            </p:nvSpPr>
            <p:spPr>
              <a:xfrm rot="16001400">
                <a:off x="430200" y="4842000"/>
                <a:ext cx="279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3" name="Freeform 149"/>
              <p:cNvSpPr/>
              <p:nvPr/>
            </p:nvSpPr>
            <p:spPr>
              <a:xfrm>
                <a:off x="220680" y="7247160"/>
                <a:ext cx="228600" cy="312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4" name="Freeform 150"/>
              <p:cNvSpPr/>
              <p:nvPr/>
            </p:nvSpPr>
            <p:spPr>
              <a:xfrm rot="18742800">
                <a:off x="965160" y="7216200"/>
                <a:ext cx="13788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5" name="Freeform 151"/>
              <p:cNvSpPr/>
              <p:nvPr/>
            </p:nvSpPr>
            <p:spPr>
              <a:xfrm>
                <a:off x="372960" y="5077080"/>
                <a:ext cx="552600" cy="257976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6" name="Oval 152"/>
              <p:cNvSpPr/>
              <p:nvPr/>
            </p:nvSpPr>
            <p:spPr>
              <a:xfrm rot="19915200">
                <a:off x="469800" y="6179760"/>
                <a:ext cx="351000" cy="35316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91600"/>
            <a:ext cx="854064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01680" y="2044440"/>
            <a:ext cx="8540640" cy="57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19"/>
          </p:nvPr>
        </p:nvSpPr>
        <p:spPr>
          <a:xfrm>
            <a:off x="304920" y="7983000"/>
            <a:ext cx="2286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0"/>
          </p:nvPr>
        </p:nvSpPr>
        <p:spPr>
          <a:xfrm>
            <a:off x="3124080" y="7983000"/>
            <a:ext cx="2895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21"/>
          </p:nvPr>
        </p:nvSpPr>
        <p:spPr>
          <a:xfrm>
            <a:off x="6553080" y="7983000"/>
            <a:ext cx="2286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7DA-1B7B-4E6A-9734-7E687DE96A5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3692880" y="2286000"/>
            <a:ext cx="5508000" cy="6460920"/>
            <a:chOff x="3692880" y="2286000"/>
            <a:chExt cx="5508000" cy="6460920"/>
          </a:xfrm>
        </p:grpSpPr>
        <p:sp>
          <p:nvSpPr>
            <p:cNvPr id="779" name="Rectangle 3"/>
            <p:cNvSpPr/>
            <p:nvPr/>
          </p:nvSpPr>
          <p:spPr>
            <a:xfrm>
              <a:off x="6715080" y="2768400"/>
              <a:ext cx="312840" cy="207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0" name="Oval 4"/>
            <p:cNvSpPr/>
            <p:nvPr/>
          </p:nvSpPr>
          <p:spPr>
            <a:xfrm>
              <a:off x="6824520" y="2403720"/>
              <a:ext cx="74880" cy="95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1" name="Rectangle 5"/>
            <p:cNvSpPr/>
            <p:nvPr/>
          </p:nvSpPr>
          <p:spPr>
            <a:xfrm rot="994800">
              <a:off x="8262720" y="3031920"/>
              <a:ext cx="9360" cy="4205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2" name="Freeform 6"/>
            <p:cNvSpPr/>
            <p:nvPr/>
          </p:nvSpPr>
          <p:spPr>
            <a:xfrm>
              <a:off x="7732800" y="7115760"/>
              <a:ext cx="10476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3" name="Rectangle 7"/>
            <p:cNvSpPr/>
            <p:nvPr/>
          </p:nvSpPr>
          <p:spPr>
            <a:xfrm rot="91200">
              <a:off x="8710200" y="3113280"/>
              <a:ext cx="9720" cy="405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4" name="Rectangle 8"/>
            <p:cNvSpPr/>
            <p:nvPr/>
          </p:nvSpPr>
          <p:spPr>
            <a:xfrm rot="20673600">
              <a:off x="8953560" y="3084480"/>
              <a:ext cx="9360" cy="1787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5" name="Rectangle 9"/>
            <p:cNvSpPr/>
            <p:nvPr/>
          </p:nvSpPr>
          <p:spPr>
            <a:xfrm rot="20459400">
              <a:off x="5467320" y="3683520"/>
              <a:ext cx="9720" cy="4124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6" name="Rectangle 10"/>
            <p:cNvSpPr/>
            <p:nvPr/>
          </p:nvSpPr>
          <p:spPr>
            <a:xfrm rot="1114200">
              <a:off x="4376880" y="3693600"/>
              <a:ext cx="9360" cy="4298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7" name="Rectangle 11"/>
            <p:cNvSpPr/>
            <p:nvPr/>
          </p:nvSpPr>
          <p:spPr>
            <a:xfrm rot="254400">
              <a:off x="4817880" y="3792960"/>
              <a:ext cx="9360" cy="3866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8" name="Freeform 12"/>
            <p:cNvSpPr/>
            <p:nvPr/>
          </p:nvSpPr>
          <p:spPr>
            <a:xfrm>
              <a:off x="6361200" y="6127920"/>
              <a:ext cx="988920" cy="318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89" name="Freeform 13"/>
            <p:cNvSpPr/>
            <p:nvPr/>
          </p:nvSpPr>
          <p:spPr>
            <a:xfrm>
              <a:off x="7559640" y="7284240"/>
              <a:ext cx="1581120" cy="255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0" name="Freeform 14"/>
            <p:cNvSpPr/>
            <p:nvPr/>
          </p:nvSpPr>
          <p:spPr>
            <a:xfrm>
              <a:off x="7597800" y="7393680"/>
              <a:ext cx="1542960" cy="497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1" name="Freeform 15"/>
            <p:cNvSpPr/>
            <p:nvPr/>
          </p:nvSpPr>
          <p:spPr>
            <a:xfrm>
              <a:off x="7626240" y="7284240"/>
              <a:ext cx="1514520" cy="1825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Freeform 16"/>
            <p:cNvSpPr/>
            <p:nvPr/>
          </p:nvSpPr>
          <p:spPr>
            <a:xfrm>
              <a:off x="4856040" y="3125520"/>
              <a:ext cx="162000" cy="314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Freeform 17"/>
            <p:cNvSpPr/>
            <p:nvPr/>
          </p:nvSpPr>
          <p:spPr>
            <a:xfrm>
              <a:off x="4856040" y="3427560"/>
              <a:ext cx="142920" cy="194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4" name="Freeform 18"/>
            <p:cNvSpPr/>
            <p:nvPr/>
          </p:nvSpPr>
          <p:spPr>
            <a:xfrm>
              <a:off x="4856040" y="3585960"/>
              <a:ext cx="14292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5" name="Freeform 19"/>
            <p:cNvSpPr/>
            <p:nvPr/>
          </p:nvSpPr>
          <p:spPr>
            <a:xfrm>
              <a:off x="8683560" y="2444040"/>
              <a:ext cx="162000" cy="316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6" name="Freeform 20"/>
            <p:cNvSpPr/>
            <p:nvPr/>
          </p:nvSpPr>
          <p:spPr>
            <a:xfrm>
              <a:off x="8693280" y="2736360"/>
              <a:ext cx="13320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7" name="Freeform 21"/>
            <p:cNvSpPr/>
            <p:nvPr/>
          </p:nvSpPr>
          <p:spPr>
            <a:xfrm>
              <a:off x="8683560" y="2906280"/>
              <a:ext cx="142920" cy="218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Freeform 22"/>
            <p:cNvSpPr/>
            <p:nvPr/>
          </p:nvSpPr>
          <p:spPr>
            <a:xfrm>
              <a:off x="8616960" y="7150320"/>
              <a:ext cx="104760" cy="194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Freeform 23"/>
            <p:cNvSpPr/>
            <p:nvPr/>
          </p:nvSpPr>
          <p:spPr>
            <a:xfrm>
              <a:off x="4789440" y="2286000"/>
              <a:ext cx="4132440" cy="9007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Freeform 24"/>
            <p:cNvSpPr/>
            <p:nvPr/>
          </p:nvSpPr>
          <p:spPr>
            <a:xfrm>
              <a:off x="4657680" y="7653600"/>
              <a:ext cx="133560" cy="1926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Freeform 25"/>
            <p:cNvSpPr/>
            <p:nvPr/>
          </p:nvSpPr>
          <p:spPr>
            <a:xfrm>
              <a:off x="5999040" y="7854120"/>
              <a:ext cx="14292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Freeform 26"/>
            <p:cNvSpPr/>
            <p:nvPr/>
          </p:nvSpPr>
          <p:spPr>
            <a:xfrm>
              <a:off x="3809880" y="7854120"/>
              <a:ext cx="114480" cy="1825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3879720" y="7785360"/>
              <a:ext cx="2190960" cy="78876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3800520" y="7777080"/>
              <a:ext cx="2384280" cy="5839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3875040" y="7830000"/>
              <a:ext cx="2262240" cy="447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Freeform 30"/>
            <p:cNvSpPr/>
            <p:nvPr/>
          </p:nvSpPr>
          <p:spPr>
            <a:xfrm>
              <a:off x="5942160" y="7683840"/>
              <a:ext cx="142560" cy="194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Freeform 31"/>
            <p:cNvSpPr/>
            <p:nvPr/>
          </p:nvSpPr>
          <p:spPr>
            <a:xfrm>
              <a:off x="8607600" y="7308360"/>
              <a:ext cx="114120" cy="218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6727680" y="3596040"/>
              <a:ext cx="274680" cy="51508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Rectangle 33"/>
            <p:cNvSpPr/>
            <p:nvPr/>
          </p:nvSpPr>
          <p:spPr>
            <a:xfrm>
              <a:off x="6807240" y="3133800"/>
              <a:ext cx="120600" cy="486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AutoShape 34"/>
            <p:cNvSpPr/>
            <p:nvPr/>
          </p:nvSpPr>
          <p:spPr>
            <a:xfrm>
              <a:off x="6699240" y="3535200"/>
              <a:ext cx="325440" cy="10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Freeform 35"/>
            <p:cNvSpPr/>
            <p:nvPr/>
          </p:nvSpPr>
          <p:spPr>
            <a:xfrm>
              <a:off x="6835680" y="3101040"/>
              <a:ext cx="400320" cy="3197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Freeform 36"/>
            <p:cNvSpPr/>
            <p:nvPr/>
          </p:nvSpPr>
          <p:spPr>
            <a:xfrm>
              <a:off x="6618240" y="2882160"/>
              <a:ext cx="503280" cy="2800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20448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22"/>
          </p:nvPr>
        </p:nvSpPr>
        <p:spPr>
          <a:xfrm>
            <a:off x="456840" y="802296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23"/>
          </p:nvPr>
        </p:nvSpPr>
        <p:spPr>
          <a:xfrm>
            <a:off x="3124080" y="8022960"/>
            <a:ext cx="2895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24"/>
          </p:nvPr>
        </p:nvSpPr>
        <p:spPr>
          <a:xfrm>
            <a:off x="6552720" y="8022960"/>
            <a:ext cx="2133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B22-9862-480D-93C9-13FA520A3B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5400" y="2658600"/>
            <a:ext cx="8226360" cy="345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ема 4.</a:t>
            </a: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Научно-техническая революция </a:t>
            </a:r>
            <a:br>
              <a:rPr sz="5400"/>
            </a:br>
            <a:r>
              <a:rPr b="1" lang="ru-RU" sz="5400" spc="-1" strike="noStrike">
                <a:solidFill>
                  <a:srgbClr val="dbbd71"/>
                </a:solidFill>
                <a:latin typeface="Arial"/>
              </a:rPr>
              <a:t>и мировое хозяйство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371600" y="70714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3" name="Object 4"/>
          <p:cNvGraphicFramePr/>
          <p:nvPr/>
        </p:nvGraphicFramePr>
        <p:xfrm>
          <a:off x="0" y="2711520"/>
          <a:ext cx="152280" cy="411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11520"/>
                    <a:ext cx="15228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1680" y="291600"/>
            <a:ext cx="854064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5. Формы всемирных экономических отношени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01680" y="2044440"/>
            <a:ext cx="854064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Мировая торгов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торговля това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торговля услуг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Финансово-кредитные отно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оизводственное сотруднич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Научно-техническое сотрудниче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Международный тур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* Вспомним 9 класс:</a:t>
            </a:r>
            <a:br>
              <a:rPr sz="4000"/>
            </a:br>
            <a:r>
              <a:rPr b="1" i="1" lang="ru-RU" sz="2800" spc="-1" strike="noStrike">
                <a:solidFill>
                  <a:srgbClr val="cc3300"/>
                </a:solidFill>
                <a:latin typeface="Arial Narrow"/>
              </a:rPr>
              <a:t>Отраслевая структура экономики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состав, соотношение и связи между отраслями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Organization Chart 33"/>
          <p:cNvGrpSpPr/>
          <p:nvPr/>
        </p:nvGrpSpPr>
        <p:grpSpPr>
          <a:xfrm>
            <a:off x="250920" y="2436840"/>
            <a:ext cx="8641440" cy="5832000"/>
            <a:chOff x="250920" y="2436840"/>
            <a:chExt cx="8641440" cy="5832000"/>
          </a:xfrm>
        </p:grpSpPr>
        <p:cxnSp>
          <p:nvCxnSpPr>
            <p:cNvPr id="893" name="_s2052"/>
            <p:cNvCxnSpPr>
              <a:stCxn id="894" idx="2"/>
              <a:endCxn id="895" idx="3"/>
            </p:cNvCxnSpPr>
            <p:nvPr/>
          </p:nvCxnSpPr>
          <p:spPr>
            <a:xfrm rot="10800000">
              <a:off x="3879000" y="5986080"/>
              <a:ext cx="360000" cy="53388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896" name="_s2053"/>
            <p:cNvCxnSpPr>
              <a:stCxn id="897" idx="4"/>
              <a:endCxn id="895" idx="3"/>
            </p:cNvCxnSpPr>
            <p:nvPr/>
          </p:nvCxnSpPr>
          <p:spPr>
            <a:xfrm flipV="1">
              <a:off x="3521880" y="5986080"/>
              <a:ext cx="358560" cy="53388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898" name="_s2054"/>
            <p:cNvCxnSpPr>
              <a:stCxn id="899" idx="2"/>
              <a:endCxn id="900" idx="3"/>
            </p:cNvCxnSpPr>
            <p:nvPr/>
          </p:nvCxnSpPr>
          <p:spPr>
            <a:xfrm rot="10800000">
              <a:off x="3879000" y="4464720"/>
              <a:ext cx="360000" cy="53604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01" name="_s2055"/>
            <p:cNvCxnSpPr>
              <a:stCxn id="902" idx="4"/>
              <a:endCxn id="900" idx="3"/>
            </p:cNvCxnSpPr>
            <p:nvPr/>
          </p:nvCxnSpPr>
          <p:spPr>
            <a:xfrm flipV="1">
              <a:off x="3521880" y="4464720"/>
              <a:ext cx="358560" cy="53604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03" name="_s2056"/>
            <p:cNvCxnSpPr>
              <a:stCxn id="895" idx="2"/>
              <a:endCxn id="904" idx="3"/>
            </p:cNvCxnSpPr>
            <p:nvPr/>
          </p:nvCxnSpPr>
          <p:spPr>
            <a:xfrm rot="10800000">
              <a:off x="1220040" y="3703680"/>
              <a:ext cx="1689840" cy="205704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05" name="_s2057"/>
            <p:cNvCxnSpPr>
              <a:stCxn id="906" idx="2"/>
              <a:endCxn id="907" idx="3"/>
            </p:cNvCxnSpPr>
            <p:nvPr/>
          </p:nvCxnSpPr>
          <p:spPr>
            <a:xfrm rot="10800000">
              <a:off x="6537960" y="3704400"/>
              <a:ext cx="360000" cy="129636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08" name="_s2058"/>
            <p:cNvCxnSpPr>
              <a:stCxn id="909" idx="2"/>
              <a:endCxn id="907" idx="3"/>
            </p:cNvCxnSpPr>
            <p:nvPr/>
          </p:nvCxnSpPr>
          <p:spPr>
            <a:xfrm rot="10800000">
              <a:off x="6537960" y="3703680"/>
              <a:ext cx="360000" cy="205560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10" name="_s2059"/>
            <p:cNvCxnSpPr>
              <a:stCxn id="911" idx="2"/>
              <a:endCxn id="907" idx="3"/>
            </p:cNvCxnSpPr>
            <p:nvPr/>
          </p:nvCxnSpPr>
          <p:spPr>
            <a:xfrm rot="10800000">
              <a:off x="6537960" y="3703680"/>
              <a:ext cx="360000" cy="281628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12" name="_s2060"/>
            <p:cNvCxnSpPr>
              <a:stCxn id="913" idx="2"/>
              <a:endCxn id="907" idx="3"/>
            </p:cNvCxnSpPr>
            <p:nvPr/>
          </p:nvCxnSpPr>
          <p:spPr>
            <a:xfrm rot="10800000">
              <a:off x="6537960" y="3703680"/>
              <a:ext cx="360000" cy="357696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14" name="_s2061"/>
            <p:cNvCxnSpPr>
              <a:stCxn id="915" idx="2"/>
              <a:endCxn id="907" idx="3"/>
            </p:cNvCxnSpPr>
            <p:nvPr/>
          </p:nvCxnSpPr>
          <p:spPr>
            <a:xfrm rot="10800000">
              <a:off x="6537960" y="3703680"/>
              <a:ext cx="360000" cy="433764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16" name="_s2062"/>
            <p:cNvCxnSpPr>
              <a:stCxn id="917" idx="2"/>
              <a:endCxn id="904" idx="3"/>
            </p:cNvCxnSpPr>
            <p:nvPr/>
          </p:nvCxnSpPr>
          <p:spPr>
            <a:xfrm rot="10800000">
              <a:off x="1220040" y="3703680"/>
              <a:ext cx="1689840" cy="357696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18" name="_s2063"/>
            <p:cNvCxnSpPr>
              <a:stCxn id="919" idx="2"/>
              <a:endCxn id="904" idx="3"/>
            </p:cNvCxnSpPr>
            <p:nvPr/>
          </p:nvCxnSpPr>
          <p:spPr>
            <a:xfrm rot="10800000">
              <a:off x="1220040" y="3703680"/>
              <a:ext cx="1689840" cy="433980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20" name="_s2064"/>
            <p:cNvCxnSpPr>
              <a:stCxn id="921" idx="2"/>
              <a:endCxn id="907" idx="3"/>
            </p:cNvCxnSpPr>
            <p:nvPr/>
          </p:nvCxnSpPr>
          <p:spPr>
            <a:xfrm rot="10800000">
              <a:off x="6537960" y="3703680"/>
              <a:ext cx="360000" cy="53388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22" name="_s2065"/>
            <p:cNvCxnSpPr>
              <a:stCxn id="900" idx="2"/>
              <a:endCxn id="904" idx="3"/>
            </p:cNvCxnSpPr>
            <p:nvPr/>
          </p:nvCxnSpPr>
          <p:spPr>
            <a:xfrm rot="10800000">
              <a:off x="1220040" y="3703680"/>
              <a:ext cx="1689840" cy="533880"/>
            </a:xfrm>
            <a:prstGeom prst="bentConnector2">
              <a:avLst/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23" name="_s2066"/>
            <p:cNvCxnSpPr>
              <a:stCxn id="907" idx="0"/>
              <a:endCxn id="924" idx="3"/>
            </p:cNvCxnSpPr>
            <p:nvPr/>
          </p:nvCxnSpPr>
          <p:spPr>
            <a:xfrm flipV="1" rot="16200000">
              <a:off x="5108400" y="1713960"/>
              <a:ext cx="254160" cy="2712240"/>
            </a:xfrm>
            <a:prstGeom prst="bentConnector3">
              <a:avLst>
                <a:gd name="adj1" fmla="val 44964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925" name="_s2067"/>
            <p:cNvCxnSpPr>
              <a:stCxn id="904" idx="0"/>
              <a:endCxn id="924" idx="3"/>
            </p:cNvCxnSpPr>
            <p:nvPr/>
          </p:nvCxnSpPr>
          <p:spPr>
            <a:xfrm flipH="1" flipV="1" rot="5400000">
              <a:off x="2450160" y="1767960"/>
              <a:ext cx="254160" cy="2604600"/>
            </a:xfrm>
            <a:prstGeom prst="bentConnector3">
              <a:avLst>
                <a:gd name="adj1" fmla="val 44964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924" name="_s2068"/>
            <p:cNvSpPr/>
            <p:nvPr/>
          </p:nvSpPr>
          <p:spPr>
            <a:xfrm>
              <a:off x="2909880" y="243684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aeaea"/>
                  </a:solidFill>
                  <a:latin typeface="Arial Narrow"/>
                </a:rPr>
                <a:t>Отраслевая структура экономики</a:t>
              </a:r>
              <a:r>
                <a:rPr b="1" lang="ru-RU" sz="16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eaeaea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~</a:t>
              </a:r>
              <a:r>
                <a:rPr b="1" lang="ru-RU" sz="1400" spc="-1" strike="noStrike">
                  <a:solidFill>
                    <a:srgbClr val="eaeaea"/>
                  </a:solidFill>
                  <a:latin typeface="Arial"/>
                </a:rPr>
                <a:t>300)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_s2069"/>
            <p:cNvSpPr/>
            <p:nvPr/>
          </p:nvSpPr>
          <p:spPr>
            <a:xfrm>
              <a:off x="250920" y="319752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50196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Производственная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(материальная) сфера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_s2070"/>
            <p:cNvSpPr/>
            <p:nvPr/>
          </p:nvSpPr>
          <p:spPr>
            <a:xfrm>
              <a:off x="5568840" y="319752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75294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Непроизводственная</a:t>
              </a:r>
              <a:r>
                <a:rPr b="0" lang="en-US" sz="14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(нематериальная)  сфера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_s2071"/>
            <p:cNvSpPr/>
            <p:nvPr/>
          </p:nvSpPr>
          <p:spPr>
            <a:xfrm>
              <a:off x="2909880" y="395820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Промышленность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_s2072"/>
            <p:cNvSpPr/>
            <p:nvPr/>
          </p:nvSpPr>
          <p:spPr>
            <a:xfrm>
              <a:off x="6898320" y="395820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Образование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_s2073"/>
            <p:cNvSpPr/>
            <p:nvPr/>
          </p:nvSpPr>
          <p:spPr>
            <a:xfrm>
              <a:off x="2909880" y="776196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Строительство, торговля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связь, общественное питание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_s2074"/>
            <p:cNvSpPr/>
            <p:nvPr/>
          </p:nvSpPr>
          <p:spPr>
            <a:xfrm>
              <a:off x="2909880" y="700092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Транспорт: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сухопутный,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водный, воздушный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_s2075"/>
            <p:cNvSpPr/>
            <p:nvPr/>
          </p:nvSpPr>
          <p:spPr>
            <a:xfrm>
              <a:off x="6898320" y="7761960"/>
              <a:ext cx="1994040" cy="505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Физкультура и спорт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_s2076"/>
            <p:cNvSpPr/>
            <p:nvPr/>
          </p:nvSpPr>
          <p:spPr>
            <a:xfrm>
              <a:off x="6898320" y="7000920"/>
              <a:ext cx="1994040" cy="505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Жилищно-коммунальное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хозяйство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_s2077"/>
            <p:cNvSpPr/>
            <p:nvPr/>
          </p:nvSpPr>
          <p:spPr>
            <a:xfrm>
              <a:off x="6898320" y="6240240"/>
              <a:ext cx="1994040" cy="505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Искусство и культура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_s2078"/>
            <p:cNvSpPr/>
            <p:nvPr/>
          </p:nvSpPr>
          <p:spPr>
            <a:xfrm>
              <a:off x="6898320" y="5479560"/>
              <a:ext cx="1994040" cy="505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Наука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_s2079"/>
            <p:cNvSpPr/>
            <p:nvPr/>
          </p:nvSpPr>
          <p:spPr>
            <a:xfrm>
              <a:off x="6898320" y="471888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Здравоохранение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_s2080"/>
            <p:cNvSpPr/>
            <p:nvPr/>
          </p:nvSpPr>
          <p:spPr>
            <a:xfrm>
              <a:off x="2909880" y="547956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Сельское</a:t>
              </a:r>
              <a:r>
                <a:rPr b="1" lang="en-US" sz="5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eaeaea"/>
                  </a:solidFill>
                  <a:latin typeface="Arial Narrow"/>
                </a:rPr>
                <a:t>хозяйство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_s2081"/>
            <p:cNvSpPr/>
            <p:nvPr/>
          </p:nvSpPr>
          <p:spPr>
            <a:xfrm>
              <a:off x="1580400" y="471888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e6">
                    <a:alpha val="25098"/>
                  </a:srgbClr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Тяжелая: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ТЭК, машиностроение,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металлургия, химическая, лесная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_s2082"/>
            <p:cNvSpPr/>
            <p:nvPr/>
          </p:nvSpPr>
          <p:spPr>
            <a:xfrm>
              <a:off x="4239360" y="471888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e6">
                    <a:alpha val="25098"/>
                  </a:srgbClr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Легкая:</a:t>
              </a:r>
              <a:r>
                <a:rPr b="0" lang="en-US" sz="13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текстильная, кожевенная, 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обувная, пищевая, полиграфическая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_s2083"/>
            <p:cNvSpPr/>
            <p:nvPr/>
          </p:nvSpPr>
          <p:spPr>
            <a:xfrm>
              <a:off x="1580400" y="624024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e6">
                    <a:alpha val="25098"/>
                  </a:srgbClr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Растениеводство: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зерновые,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технические, овощные культуры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_s2084"/>
            <p:cNvSpPr/>
            <p:nvPr/>
          </p:nvSpPr>
          <p:spPr>
            <a:xfrm>
              <a:off x="4239360" y="6240240"/>
              <a:ext cx="1994040" cy="506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e6">
                    <a:alpha val="25098"/>
                  </a:srgbClr>
                </a:gs>
                <a:gs pos="100000">
                  <a:srgbClr val="ffffff"/>
                </a:gs>
              </a:gsLst>
              <a:lin ang="5400000"/>
            </a:gradFill>
            <a:ln w="648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aeaea"/>
                  </a:solidFill>
                  <a:latin typeface="Arial Narrow"/>
                </a:rPr>
                <a:t>Животноводство:</a:t>
              </a:r>
              <a:r>
                <a:rPr b="0" lang="en-US" sz="13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скотоводство.</a:t>
              </a:r>
              <a:r>
                <a:rPr b="0" lang="en-US" sz="1300" spc="-1" strike="noStrike">
                  <a:solidFill>
                    <a:srgbClr val="eaeaea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eaeaea"/>
                  </a:solidFill>
                  <a:latin typeface="Arial Narrow"/>
                </a:rPr>
                <a:t>птицеводство, звероводство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3. Типы хозяйственной структуры обще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685800" y="1752480"/>
          <a:ext cx="7772400" cy="6478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Стадия развития общест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аграрн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индустриальн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Постиндустр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альн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(информацио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ная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Время господства данной стад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До ХХШ-Х</a:t>
                      </a:r>
                      <a:r>
                        <a:rPr b="0" lang="de-DE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Х ве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Вторая половина Х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Х- первая половина ХХ ве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Вторая половина ХХ ве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Ведущая сфера хозяйст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ельское хозяй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омышлен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Непроизвод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венна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фер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Регионы и страны, находящиеся на данной стадии развит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Наименее развитые страны Африки, Азии, Латинской Америк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НИС, нефтедобывающие страны Ю-З Азии, страны Восточной Европ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Экономически развитые стра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Line 30"/>
          <p:cNvSpPr/>
          <p:nvPr/>
        </p:nvSpPr>
        <p:spPr>
          <a:xfrm>
            <a:off x="4038480" y="236376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Line 31"/>
          <p:cNvSpPr/>
          <p:nvPr/>
        </p:nvSpPr>
        <p:spPr>
          <a:xfrm>
            <a:off x="6095880" y="236376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68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68" fill="hold"/>
                                        <p:tgtEl>
                                          <p:spTgt spid="9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258640"/>
            <a:ext cx="7772400" cy="2219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bbd71"/>
                </a:solidFill>
                <a:uFillTx/>
                <a:latin typeface="Arial"/>
              </a:rPr>
              <a:t>3. Воздействие НТР на отраслевую  и территориальную структуру мирового хозяйства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371600" y="4965840"/>
            <a:ext cx="640080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25480" y="493200"/>
            <a:ext cx="748656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3.1. Воздействие НТР на отраслевую  структуру экономики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609480" y="2365200"/>
          <a:ext cx="8229600" cy="55454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04776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звивающие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звиты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Изменения в </a:t>
                      </a:r>
                      <a:r>
                        <a:rPr b="0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  <a:ea typeface="Times New Roman"/>
                        </a:rPr>
                        <a:t>отраслевой структуре материального производства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- в промышленност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ecff"/>
                        </a:buClr>
                        <a:buSzPct val="115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в сельском хозяйств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- на транспорт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Ведущую роль играет сельское хозяйство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еобладают добывающие отрасл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еобладает растениевод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лабо разви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Ведущую роль играет промышлен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еобладают обрабатывающие отрасли 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(«Авангардная тройка»-машиностроение,химическая,электроэнергетика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еобладает животновод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Уменьшается роль железнодорожного и увеличивается автомобильного транспор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8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8" fill="hold"/>
                                        <p:tgtEl>
                                          <p:spTgt spid="9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* Вспомним 9 клас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25318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 Narrow"/>
              </a:rPr>
              <a:t>Территориальная структура экономики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это сочетание, взаимосвязи, взаиморасположение </a:t>
            </a:r>
            <a:r>
              <a:rPr b="0" i="1" lang="ru-RU" sz="2800" spc="-1" strike="noStrike">
                <a:solidFill>
                  <a:srgbClr val="cc3300"/>
                </a:solidFill>
                <a:latin typeface="Arial Narrow"/>
              </a:rPr>
              <a:t>экономических районов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узлов, цен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 Narrow"/>
              </a:rPr>
              <a:t>Экономический район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– это целостная часть страны или региона с определенным комплексом природных и экономических условий, со сложившейся или создаваемой специализацией хозяйства, наличием внутренних хозяйствен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5400" y="348840"/>
            <a:ext cx="8226360" cy="14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3.2. Воздействие НТР на 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территориальную структуру экономи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685800" y="2532240"/>
          <a:ext cx="7772400" cy="5643360"/>
        </p:xfrm>
        <a:graphic>
          <a:graphicData uri="http://schemas.openxmlformats.org/drawingml/2006/table">
            <a:tbl>
              <a:tblPr/>
              <a:tblGrid>
                <a:gridCol w="2133720"/>
                <a:gridCol w="2760480"/>
                <a:gridCol w="2878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звивающие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звитые стра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  <a:ea typeface="Times New Roman"/>
                        </a:rPr>
                        <a:t>Изменения в </a:t>
                      </a:r>
                      <a:r>
                        <a:rPr b="0" lang="ru-RU" sz="22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</a:rPr>
                        <a:t>территориальной</a:t>
                      </a:r>
                      <a:r>
                        <a:rPr b="0" lang="ru-RU" sz="22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  <a:ea typeface="Times New Roman"/>
                        </a:rPr>
                        <a:t> структуре </a:t>
                      </a:r>
                      <a:r>
                        <a:rPr b="0" lang="ru-RU" sz="22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</a:rPr>
                        <a:t>экономики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(типы экономических районов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ccecff"/>
                        </a:buClr>
                        <a:buSzPct val="115000"/>
                        <a:buFont typeface="Arial Narrow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йоны экспортной специализации: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1.1. Горнодобывающей промышленности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1.2. Плантационного сельского хозяйства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2. Периферия: районы потребительского сельского хозяйства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1. Высокоразвитые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2. Старопромышленные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3.     Аграрные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4. Районы нового освоения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8" name="Oval 19"/>
          <p:cNvSpPr/>
          <p:nvPr/>
        </p:nvSpPr>
        <p:spPr>
          <a:xfrm>
            <a:off x="3200400" y="3049560"/>
            <a:ext cx="2286000" cy="159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9" name="Oval 20"/>
          <p:cNvSpPr/>
          <p:nvPr/>
        </p:nvSpPr>
        <p:spPr>
          <a:xfrm>
            <a:off x="3352680" y="3049560"/>
            <a:ext cx="2133720" cy="1141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Oval 21"/>
          <p:cNvSpPr/>
          <p:nvPr/>
        </p:nvSpPr>
        <p:spPr>
          <a:xfrm>
            <a:off x="3200400" y="3049560"/>
            <a:ext cx="2133720" cy="1293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3200400" y="3276720"/>
            <a:ext cx="2362320" cy="1525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68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68" fill="hold"/>
                                        <p:tgtEl>
                                          <p:spTgt spid="9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68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68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 Narrow"/>
              </a:rPr>
              <a:t>Региональная политика</a:t>
            </a:r>
            <a:r>
              <a:rPr b="1" i="1" lang="ru-RU" sz="36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ccecff"/>
                </a:solidFill>
                <a:latin typeface="Arial Narrow"/>
              </a:rPr>
              <a:t>представляет собой комплекс законодательных, административных, экономических и природоохранных мероприятий, способствующих более рациональному размещению производительных сил и выравниванию уровней жизни людей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5760" y="2043000"/>
            <a:ext cx="40320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 Narrow"/>
              </a:rPr>
              <a:t>Развивающиеся стран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Преодоление разобщенности отдельных частей страны, смягчение имеющихся диспропорций между центром и перифери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формирование национальной системы городов и управление процессом урбаниз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освоение глубинных ресурсных райо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49400" y="2043000"/>
            <a:ext cx="40323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 Narrow"/>
              </a:rPr>
              <a:t>Развитые стран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Сглаживание региональных диспропорций между высокоразвитыми и отсталыми и депрессивными район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ограничение роста и «разгрузка» крупных город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Narrow"/>
              </a:rPr>
              <a:t>освоение новых (окраинных и периферийных)  райо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-83844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3.3. Факторы размещения производст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228600" y="533520"/>
          <a:ext cx="8839080" cy="7910280"/>
        </p:xfrm>
        <a:graphic>
          <a:graphicData uri="http://schemas.openxmlformats.org/drawingml/2006/table">
            <a:tbl>
              <a:tblPr/>
              <a:tblGrid>
                <a:gridCol w="1751040"/>
                <a:gridCol w="4138560"/>
                <a:gridCol w="294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Особенности прояв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Изменения в эпоху НТ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ерритор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Чем больше территория, тем богаче и разнообразнее ресурсы и варианты размещения населения и производст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«Дефицит территории» в небольших странах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ЭГ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Центральное,глубинное,соседское, приморско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двиг производств к морю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Природно-ресурсны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Для размещения отраслей добывающей промышленности и сельского хозяйст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Сдвиг в районы нового освоения с экстремаль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условия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ранспортны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Оказывает решающее воздействие на размещение производст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«Транспортная революция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рудовых ресурс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Ориентация на дешевую рабочую силу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ребования к квалификации ресурс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Территориа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ной концентра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Увеличение размеров предприятий, их концентрация в в крупных промышленных центрах и агломерациях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Рассредоточение производств путем создания небольших предприят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</a:rPr>
                        <a:t>Наукоемк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Технопарк</a:t>
                      </a: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-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агломерация наукоемких фирм, группирующаяся вокруг крупного научного цент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c000"/>
                          </a:solidFill>
                          <a:latin typeface="Arial Narrow"/>
                        </a:rPr>
                        <a:t>Технополис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 – специально построенный город-спутник, занимающийся разработкой инновационных технологий,развитием наукоемких производств и подготовкой научных кадр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Arial Narrow"/>
                        </a:rPr>
                        <a:t>Экологическ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 Narrow"/>
                        </a:rPr>
                        <a:t>Ограничение концентрации производства и населения в крупных центрах, перемещение «грязных» производст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68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68" fill="hold"/>
                                        <p:tgtEl>
                                          <p:spTgt spid="9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68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68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457200" y="2652840"/>
            <a:ext cx="829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НТР  повлекла за собой коренные изменения в человеческом обществе, в производстве, во взаимодействии общества с окружающей средой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Интернационализация хозяйственной жизни приводит к созданию единой глобальной системы рыночной экономик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bbd71"/>
                </a:solidFill>
                <a:uFillTx/>
                <a:latin typeface="Arial"/>
              </a:rPr>
              <a:t>План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86880" cy="65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.     Научно-техническая революция (НТР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онятие. Черты. Части.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4. п.1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.     Мировое хозяйст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Понятие. Этапы формиро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Международное географическое разделение труда (МГРТ). Международная экономическая интеграция.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4. п.2)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Международные экономические отношения.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5. п.4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Типы хозяйственной структуры общества.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4. п.3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.     Воздействие НТР на отраслевую и территориальную структуру мирового хозяйства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4. п.3)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факторы размещения производств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тема 4. п.4)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5400" y="348840"/>
            <a:ext cx="8226360" cy="14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1. 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Arial"/>
              </a:rPr>
              <a:t>Научно-техническая револю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5400" y="2043000"/>
            <a:ext cx="82263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1.1.         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Научно-техническая революция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представляет собой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6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1.2. Характерные черты НТР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685800" y="1674720"/>
          <a:ext cx="7772400" cy="5926320"/>
        </p:xfrm>
        <a:graphic>
          <a:graphicData uri="http://schemas.openxmlformats.org/drawingml/2006/table">
            <a:tbl>
              <a:tblPr/>
              <a:tblGrid>
                <a:gridCol w="3925800"/>
                <a:gridCol w="384660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Чер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имеры прояв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ниверсальность и всеохват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образует все сферы и отрасли во всех странах ми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резвычайное ускорение научно-технических преобразовани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зкое сокращение времени между научным открытием и его внедрением в производ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ровень квалификации трудовых ресурс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величение доли умственного труда, его интеллектуализа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родилась как военно-техническая револю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родилась во время 2 Мировой войны. Ориентирована на использование в военных целях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1.3. Составные части НТР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685800" y="1447920"/>
          <a:ext cx="7772400" cy="7010280"/>
        </p:xfrm>
        <a:graphic>
          <a:graphicData uri="http://schemas.openxmlformats.org/drawingml/2006/table">
            <a:tbl>
              <a:tblPr/>
              <a:tblGrid>
                <a:gridCol w="1905120"/>
                <a:gridCol w="5867280"/>
              </a:tblGrid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Част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правления развит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у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озрастание связей с производством, которое становится </a:t>
                      </a:r>
                      <a:r>
                        <a:rPr b="1" i="1" lang="ru-RU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наукоемким</a:t>
                      </a:r>
                      <a:r>
                        <a:rPr b="1" i="1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меряется уровнем (долей) затрат на НИОКР в общих затратах на производство продукции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хника и технолог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Эволюционный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путь – дальнейшее совершенствование известной техники и технолог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Революционный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путь- переход к принципиально новой технике и технолог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лектронизация, комплексная автоматизация, перестройка энергетического хозяйства, производство новых материалов, ускоренное развитие биотехнологии, космизация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сеобщая информатиза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спомним 9 клас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84358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 Narrow"/>
              </a:rPr>
              <a:t>Экономика ст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 Narrow"/>
              </a:rPr>
              <a:t>народное хозяйство – национальная 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сторически сложившаяся в определенных территориальных (национальных) границах система общественного вос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Взаимодействие людей (рабочей силы) и средств производства: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- средств труда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(то чем или с помощью чего работает человек)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- предметов труда 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(то что он обрабатыва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Совокупность всех </a:t>
            </a:r>
            <a:r>
              <a:rPr b="0" i="1" lang="ru-RU" sz="2400" spc="-1" strike="noStrike">
                <a:solidFill>
                  <a:srgbClr val="cc3300"/>
                </a:solidFill>
                <a:latin typeface="Arial Narrow"/>
              </a:rPr>
              <a:t>отраслей,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удовлетворяющих своей работой определенные потребност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 Narrow"/>
              </a:rPr>
              <a:t>Отрасль –</a:t>
            </a:r>
            <a:r>
              <a:rPr b="0" lang="ru-RU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совокупность предприятий или учреждений, производящих однородную продукцию или оказывающих однородные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2. Мировое хозяйств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2044440"/>
            <a:ext cx="854064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1. </a:t>
            </a: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Мировое хозяйство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исторически сложившаяся совокупность национальных хозяйств всех стран мира, связанных между собой всемирными экономическими отноше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2. Этапы формирования мирового хозяй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01680" y="2044440"/>
            <a:ext cx="418608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Истор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бразование мирового ры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Развитие транспор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Возникновение крупной машинной индустрии </a:t>
            </a:r>
            <a:r>
              <a:rPr b="1" lang="ru-RU" sz="4000" spc="-1" strike="noStrike">
                <a:solidFill>
                  <a:srgbClr val="ffc000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Narrow"/>
              </a:rPr>
              <a:t>МХ сформировалось в конце Х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Arial Narrow"/>
              </a:rPr>
              <a:t>I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Narrow"/>
              </a:rPr>
              <a:t>Х – начале ХХ век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56240" y="2044440"/>
            <a:ext cx="418608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Географиче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Евро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С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СССР, Япо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Китай, Инд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Ю-З Азия, Канада,Австралия, Бразил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4. Основные понятия МХ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9640" y="852480"/>
            <a:ext cx="8305920" cy="76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Международное географическое           Международная экономиче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разделение труда</a:t>
            </a: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выражается            </a:t>
            </a: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интеграция</a:t>
            </a: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представляет соб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в специализации отдельных                 объективный процесс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стран на производстве                          особенно глубоких и устойчив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определенных видов продукции            взаимосвязей отдель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и услуг и в последующем                      стран, основанный на прове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обмене ими                                            ими согласованной межгосударст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венной поли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 Narrow"/>
              </a:rPr>
              <a:t>           </a:t>
            </a: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Отрасль междуна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специализации</a:t>
            </a:r>
            <a:r>
              <a:rPr b="1" i="1" lang="ru-RU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в большей</a:t>
            </a: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региональная 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отрасле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степени ориентирована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- ЕС                          - ОП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на экспорт продукции и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-АСЕАН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определяет «лицо» страны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-ЛААИ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в МГ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Narrow"/>
              </a:rPr>
              <a:t>Интернационализация хозяйственной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Транснациональная корпорация (ТНК)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международная компания, в рамках которой объединяются многочисленные предприятия одной или нескольких отраслей МХ, расположенные в разных стран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Narrow"/>
              </a:rPr>
              <a:t>Свободная экономическая зона (СЭЗ</a:t>
            </a:r>
            <a:r>
              <a:rPr b="0" i="1" lang="ru-RU" sz="2000" spc="-1" strike="noStrike">
                <a:solidFill>
                  <a:srgbClr val="ffc000"/>
                </a:solidFill>
                <a:latin typeface="Arial Narrow"/>
              </a:rPr>
              <a:t>)-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территория, для которой устанавливается льготный налоговый и таможенный режим с целью привлечения финансовых, материальных, технологических и трудовых ресур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Line 29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3" name="Line 65"/>
          <p:cNvSpPr/>
          <p:nvPr/>
        </p:nvSpPr>
        <p:spPr>
          <a:xfrm flipH="1">
            <a:off x="5257440" y="3583080"/>
            <a:ext cx="685800" cy="3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4" name="Line 68"/>
          <p:cNvSpPr/>
          <p:nvPr/>
        </p:nvSpPr>
        <p:spPr>
          <a:xfrm>
            <a:off x="6019920" y="3583080"/>
            <a:ext cx="609480" cy="3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5" name="Line 69"/>
          <p:cNvSpPr/>
          <p:nvPr/>
        </p:nvSpPr>
        <p:spPr>
          <a:xfrm>
            <a:off x="2209680" y="3200400"/>
            <a:ext cx="0" cy="382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6" name="Line 71"/>
          <p:cNvSpPr/>
          <p:nvPr/>
        </p:nvSpPr>
        <p:spPr>
          <a:xfrm>
            <a:off x="2057400" y="54100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7" name="Line 72"/>
          <p:cNvSpPr/>
          <p:nvPr/>
        </p:nvSpPr>
        <p:spPr>
          <a:xfrm flipH="1">
            <a:off x="4038480" y="5335560"/>
            <a:ext cx="15242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8" name="Line 73"/>
          <p:cNvSpPr/>
          <p:nvPr/>
        </p:nvSpPr>
        <p:spPr>
          <a:xfrm>
            <a:off x="4038480" y="1981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9:16:41Z</dcterms:created>
  <dc:creator>-</dc:creator>
  <dc:description/>
  <dc:language>en-US</dc:language>
  <cp:lastModifiedBy>Admin</cp:lastModifiedBy>
  <dcterms:modified xsi:type="dcterms:W3CDTF">2019-02-28T06:12:04Z</dcterms:modified>
  <cp:revision>207</cp:revision>
  <dc:subject/>
  <dc:title>Тема 4. Научно-техническая революция и мировое хозяйство.</dc:title>
</cp:coreProperties>
</file>