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20.gif" ContentType="image/gif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2.jpeg" ContentType="image/jpeg"/>
  <Override PartName="/ppt/media/image28.png" ContentType="image/png"/>
  <Override PartName="/ppt/media/image35.png" ContentType="image/png"/>
  <Override PartName="/ppt/media/image36.png" ContentType="image/png"/>
  <Override PartName="/ppt/media/image37.jpeg" ContentType="image/jpeg"/>
  <Override PartName="/ppt/media/image5.jpeg" ContentType="image/jpeg"/>
  <Override PartName="/ppt/media/image50.png" ContentType="image/png"/>
  <Override PartName="/ppt/media/image40.png" ContentType="image/png"/>
  <Override PartName="/ppt/media/image41.jpeg" ContentType="image/jpeg"/>
  <Override PartName="/ppt/media/image30.jpeg" ContentType="image/jpeg"/>
  <Override PartName="/ppt/media/image43.png" ContentType="image/png"/>
  <Override PartName="/ppt/media/image47.gif" ContentType="image/gif"/>
  <Override PartName="/ppt/media/image53.jpeg" ContentType="image/jpeg"/>
  <Override PartName="/ppt/media/image44.jpeg" ContentType="image/jpeg"/>
  <Override PartName="/ppt/media/image31.jpeg" ContentType="image/jpeg"/>
  <Override PartName="/ppt/media/image48.jpeg" ContentType="image/jpeg"/>
  <Override PartName="/ppt/media/image51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6.gif" ContentType="image/gif"/>
  <Override PartName="/ppt/media/image22.jpeg" ContentType="image/jpeg"/>
  <Override PartName="/ppt/media/image39.png" ContentType="image/png"/>
  <Override PartName="/ppt/media/image45.gif" ContentType="image/gif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0DE-2F78-44A5-AD07-9C7AFC8C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D9D-2D30-4FC0-9D88-9E8F911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F6A-F0D3-42FB-B9AB-049100D6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A48-B0AB-42D0-9DA9-D833B80D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53ED-A056-4243-85AE-9A2DA1D9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48F1-7778-406D-A4DA-664CA9C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E6C-F20E-4BC7-B8EB-39AB90D7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D90-F0BB-4EE5-B0CC-FC2A3DE1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2490-E216-4923-BA87-C39690D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E13-ED88-4C04-B2A0-E30AA49F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BFE7-56AC-4BC3-9E51-589AD83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381-34CA-42B0-BB3D-074B3917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B76-1E71-4EA6-ABA3-AD41664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2DD-53E6-45CD-BE16-810D0C13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C7B-5BC2-4E14-B7C1-F63769F9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9F7B-93E3-4289-9813-FA0F7F9A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3D42-411D-4852-811F-F825D91A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9181-E3FB-4407-A59A-1BA31B0F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14B0-EF86-4142-B9EA-B230BBC6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5A1A-59B6-45F4-89A7-C25FB4B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B35D-3C40-48A2-961C-C5257E43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8745-F0DD-4887-9E6F-CC9822B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896-074C-4E1E-9FEA-81F2C4D0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C14A-35CB-4BF8-8E4A-6D8324E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6A8B-6786-46D3-82AB-2CC767D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3041-DEEC-4ABE-AE5C-7EC1C3E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93E1-D69E-463B-B1C2-9539E2E7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35E4-D661-468B-A4B3-BAF0C5E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6A5E-078E-4714-8C79-16A395EB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D7E8-D0D2-4F15-B23A-14169F89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B7C-D2DB-4C94-A64B-349FD9DF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2D7-ACC3-451D-9673-6434DE8F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853-758F-48FD-937B-25DE476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BA3-515A-469A-ABDB-F4D78667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DD9-7112-4353-BFE2-A9066E6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D71-1538-40F8-9F2C-CDB1353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6D70-BA4A-490F-9C4A-DEB2AFC40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0D07-88DE-4434-8CA9-1DEC9A89D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30200" y="6242040"/>
            <a:ext cx="2440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371760" y="6242040"/>
            <a:ext cx="2440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242040" y="6242040"/>
            <a:ext cx="2440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74ED-19B5-466F-A540-F0AC307AC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30200" y="287280"/>
            <a:ext cx="82519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30200" y="1577520"/>
            <a:ext cx="8251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285840"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285840"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85840"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85840"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85840"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slide" Target="slide2.xml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7.gif"/><Relationship Id="rId4" Type="http://schemas.openxmlformats.org/officeDocument/2006/relationships/image" Target="../media/image46.gif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/res/339d9c16-87f2-4aac-adb9-3f5120ff277c/view/" TargetMode="External"/><Relationship Id="rId2" Type="http://schemas.openxmlformats.org/officeDocument/2006/relationships/hyperlink" Target="http://school-collection.edu.ru/catalog/res/339d9c16-87f2-4aac-adb9-3f5120ff277c/view/" TargetMode="External"/><Relationship Id="rId3" Type="http://schemas.openxmlformats.org/officeDocument/2006/relationships/hyperlink" Target="http://school-collection.edu.ru/catalog/res/21ebcc42-0627-448a-b62f-c39d0af8b883/view/" TargetMode="External"/><Relationship Id="rId4" Type="http://schemas.openxmlformats.org/officeDocument/2006/relationships/hyperlink" Target="http://school-collection.edu.ru/catalog/res/21ebcc42-0627-448a-b62f-c39d0af8b883/view/" TargetMode="External"/><Relationship Id="rId5" Type="http://schemas.openxmlformats.org/officeDocument/2006/relationships/hyperlink" Target="http://school-collection.edu.ru/catalog/res/1946d260-e1a1-4308-8126-72b39aaea09a/view/" TargetMode="External"/><Relationship Id="rId6" Type="http://schemas.openxmlformats.org/officeDocument/2006/relationships/hyperlink" Target="http://school-collection.edu.ru/catalog/res/1946d260-e1a1-4308-8126-72b39aaea09a/view/" TargetMode="External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1.png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2009-04/1238580595_ss-vector-mix-0022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Школа №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и дважды ГЕРОЯ СОВЕТСКОГО СОЮЗА В,.И.ПОП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иче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2"/>
          <p:cNvSpPr/>
          <p:nvPr/>
        </p:nvSpPr>
        <p:spPr>
          <a:xfrm>
            <a:off x="380880" y="4647600"/>
            <a:ext cx="274320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ай Николаевич Ге. Порт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теля Л.Н.Толстого. 1884 год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3"/>
          <p:cNvSpPr/>
          <p:nvPr/>
        </p:nvSpPr>
        <p:spPr>
          <a:xfrm>
            <a:off x="3505320" y="2670840"/>
            <a:ext cx="236196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отразить содержание текста в сжатой форме максим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минимальной затрате речевых средств – есть критерий понимания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1"/>
          <p:cNvSpPr/>
          <p:nvPr/>
        </p:nvSpPr>
        <p:spPr>
          <a:xfrm>
            <a:off x="4191120" y="304920"/>
            <a:ext cx="40384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дактировать тек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Картинка1" descr="Л.Н. Толстой. Художник Н. Ге. 1884"/>
          <p:cNvPicPr/>
          <p:nvPr/>
        </p:nvPicPr>
        <p:blipFill>
          <a:blip r:embed="rId1"/>
          <a:stretch/>
        </p:blipFill>
        <p:spPr>
          <a:xfrm>
            <a:off x="152280" y="152280"/>
            <a:ext cx="3137040" cy="4343400"/>
          </a:xfrm>
          <a:prstGeom prst="rect">
            <a:avLst/>
          </a:prstGeom>
          <a:ln w="0">
            <a:noFill/>
          </a:ln>
        </p:spPr>
      </p:pic>
      <p:pic>
        <p:nvPicPr>
          <p:cNvPr id="252" name="Картинка2" descr="ln1-383-"/>
          <p:cNvPicPr/>
          <p:nvPr/>
        </p:nvPicPr>
        <p:blipFill>
          <a:blip r:embed="rId2"/>
          <a:stretch/>
        </p:blipFill>
        <p:spPr>
          <a:xfrm>
            <a:off x="5943600" y="2666880"/>
            <a:ext cx="3049560" cy="3124440"/>
          </a:xfrm>
          <a:prstGeom prst="rect">
            <a:avLst/>
          </a:prstGeom>
          <a:ln w="0">
            <a:noFill/>
          </a:ln>
        </p:spPr>
      </p:pic>
      <p:sp>
        <p:nvSpPr>
          <p:cNvPr id="253" name="БлокТекста1"/>
          <p:cNvSpPr/>
          <p:nvPr/>
        </p:nvSpPr>
        <p:spPr>
          <a:xfrm>
            <a:off x="6091920" y="6095880"/>
            <a:ext cx="2759400" cy="307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редактировал П.Н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4"/>
          <p:cNvSpPr/>
          <p:nvPr/>
        </p:nvSpPr>
        <p:spPr>
          <a:xfrm>
            <a:off x="3581280" y="914400"/>
            <a:ext cx="51818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для человека – это знания, сведения, которые он получает из различных источников. Текстовая информация есть информация, представленная в форме письменного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5"/>
          <p:cNvSpPr/>
          <p:nvPr/>
        </p:nvSpPr>
        <p:spPr>
          <a:xfrm>
            <a:off x="304920" y="5334120"/>
            <a:ext cx="5486400" cy="1310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информацию, содержащуюся в тексте, – значит, понимать и каждое слово в отдельности, и сочетание слов (связь понятий), и как движется мысль от темы к теме, и какая связь между двумя соседними предложениями, а также между микротемами в тек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Прямоугольник 3"/>
          <p:cNvGrpSpPr/>
          <p:nvPr/>
        </p:nvGrpSpPr>
        <p:grpSpPr>
          <a:xfrm>
            <a:off x="3144960" y="152280"/>
            <a:ext cx="4292640" cy="811440"/>
            <a:chOff x="3144960" y="152280"/>
            <a:chExt cx="4292640" cy="811440"/>
          </a:xfrm>
        </p:grpSpPr>
        <p:pic>
          <p:nvPicPr>
            <p:cNvPr id="257" name="Картинка1" descr=""/>
            <p:cNvPicPr/>
            <p:nvPr/>
          </p:nvPicPr>
          <p:blipFill>
            <a:blip r:embed="rId1"/>
            <a:stretch/>
          </p:blipFill>
          <p:spPr>
            <a:xfrm>
              <a:off x="3144960" y="152280"/>
              <a:ext cx="4292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БлокТекста2"/>
            <p:cNvSpPr/>
            <p:nvPr/>
          </p:nvSpPr>
          <p:spPr>
            <a:xfrm>
              <a:off x="3203640" y="188640"/>
              <a:ext cx="417672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Как сокращают тексты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Прямоугольник 4"/>
          <p:cNvGrpSpPr/>
          <p:nvPr/>
        </p:nvGrpSpPr>
        <p:grpSpPr>
          <a:xfrm>
            <a:off x="622440" y="2225520"/>
            <a:ext cx="2779560" cy="547920"/>
            <a:chOff x="622440" y="2225520"/>
            <a:chExt cx="2779560" cy="547920"/>
          </a:xfrm>
        </p:grpSpPr>
        <p:pic>
          <p:nvPicPr>
            <p:cNvPr id="260" name="Картинка2" descr=""/>
            <p:cNvPicPr/>
            <p:nvPr/>
          </p:nvPicPr>
          <p:blipFill>
            <a:blip r:embed="rId2"/>
            <a:stretch/>
          </p:blipFill>
          <p:spPr>
            <a:xfrm>
              <a:off x="622440" y="2225520"/>
              <a:ext cx="2779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БлокТекста1"/>
            <p:cNvSpPr/>
            <p:nvPr/>
          </p:nvSpPr>
          <p:spPr>
            <a:xfrm>
              <a:off x="684360" y="2276280"/>
              <a:ext cx="26636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Зам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оугольник 5"/>
          <p:cNvGrpSpPr/>
          <p:nvPr/>
        </p:nvGrpSpPr>
        <p:grpSpPr>
          <a:xfrm>
            <a:off x="5877000" y="1017720"/>
            <a:ext cx="3144600" cy="615960"/>
            <a:chOff x="5877000" y="1017720"/>
            <a:chExt cx="3144600" cy="615960"/>
          </a:xfrm>
        </p:grpSpPr>
        <p:pic>
          <p:nvPicPr>
            <p:cNvPr id="263" name="Картинка3" descr=""/>
            <p:cNvPicPr/>
            <p:nvPr/>
          </p:nvPicPr>
          <p:blipFill>
            <a:blip r:embed="rId3"/>
            <a:stretch/>
          </p:blipFill>
          <p:spPr>
            <a:xfrm>
              <a:off x="5877000" y="1017720"/>
              <a:ext cx="3144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БлокТекста4"/>
            <p:cNvSpPr/>
            <p:nvPr/>
          </p:nvSpPr>
          <p:spPr>
            <a:xfrm>
              <a:off x="5940360" y="1052640"/>
              <a:ext cx="3024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Исключ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Picture 25" descr="standards_clear"/>
          <p:cNvPicPr/>
          <p:nvPr/>
        </p:nvPicPr>
        <p:blipFill>
          <a:blip r:embed="rId4"/>
          <a:srcRect l="0" t="13450" r="0" b="0"/>
          <a:stretch/>
        </p:blipFill>
        <p:spPr>
          <a:xfrm>
            <a:off x="250920" y="189000"/>
            <a:ext cx="2665440" cy="2000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0"/>
          <p:cNvSpPr/>
          <p:nvPr/>
        </p:nvSpPr>
        <p:spPr>
          <a:xfrm>
            <a:off x="4343400" y="1905120"/>
            <a:ext cx="4572000" cy="262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одных с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нородных членов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в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нотипных приме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иторических вопросов и восклиц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ит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алей, которые не влияют на ход авторской мыс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яс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ссужд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пис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ов, предложений, которые могут быть удалены без ущерба для содер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1"/>
          <p:cNvSpPr/>
          <p:nvPr/>
        </p:nvSpPr>
        <p:spPr>
          <a:xfrm>
            <a:off x="228600" y="2971800"/>
            <a:ext cx="3672000" cy="3257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нородных членов обобщающим с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ожного предложения – просты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асти предложения  или ряда предложений общим понятием или выраж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ямой речи – косв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асти текста одним предлож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асти предложения местоиме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1"/>
          <p:cNvGrpSpPr/>
          <p:nvPr/>
        </p:nvGrpSpPr>
        <p:grpSpPr>
          <a:xfrm>
            <a:off x="4419720" y="4724280"/>
            <a:ext cx="4140000" cy="1043280"/>
            <a:chOff x="4419720" y="4724280"/>
            <a:chExt cx="4140000" cy="1043280"/>
          </a:xfrm>
        </p:grpSpPr>
        <p:pic>
          <p:nvPicPr>
            <p:cNvPr id="269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4419720" y="4724280"/>
              <a:ext cx="41400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БлокТекста3"/>
            <p:cNvSpPr/>
            <p:nvPr/>
          </p:nvSpPr>
          <p:spPr>
            <a:xfrm>
              <a:off x="4541760" y="4763880"/>
              <a:ext cx="39607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Сочетание исключения и обобщения (объединение)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ямая соединительная линия 16"/>
          <p:cNvSpPr/>
          <p:nvPr/>
        </p:nvSpPr>
        <p:spPr>
          <a:xfrm>
            <a:off x="4114800" y="91440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8"/>
          <p:cNvCxnSpPr/>
          <p:nvPr/>
        </p:nvCxnSpPr>
        <p:spPr>
          <a:xfrm>
            <a:off x="4140360" y="1341000"/>
            <a:ext cx="1800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/>
          <p:nvPr/>
        </p:nvCxnSpPr>
        <p:spPr>
          <a:xfrm flipH="1">
            <a:off x="3276000" y="2491920"/>
            <a:ext cx="8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4" name="Прямая со стрелкой 25"/>
          <p:cNvCxnSpPr/>
          <p:nvPr/>
        </p:nvCxnSpPr>
        <p:spPr>
          <a:xfrm flipV="1">
            <a:off x="4114440" y="518076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5" name="Прямоугольник1"/>
          <p:cNvSpPr/>
          <p:nvPr/>
        </p:nvSpPr>
        <p:spPr>
          <a:xfrm>
            <a:off x="228600" y="5867280"/>
            <a:ext cx="853452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щите информацию без перечислений,  деталей,  выраженную  максимально при минимальной  затрате речевых средст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1"/>
          <p:cNvSpPr/>
          <p:nvPr/>
        </p:nvSpPr>
        <p:spPr>
          <a:xfrm>
            <a:off x="2819520" y="152280"/>
            <a:ext cx="4190760" cy="8254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явить глав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ю текс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Линия6"/>
          <p:cNvSpPr/>
          <p:nvPr/>
        </p:nvSpPr>
        <p:spPr>
          <a:xfrm>
            <a:off x="2971800" y="990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Линия8"/>
          <p:cNvSpPr/>
          <p:nvPr/>
        </p:nvSpPr>
        <p:spPr>
          <a:xfrm>
            <a:off x="2971800" y="22096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Линия7"/>
          <p:cNvSpPr/>
          <p:nvPr/>
        </p:nvSpPr>
        <p:spPr>
          <a:xfrm>
            <a:off x="3352680" y="167652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Линия5"/>
          <p:cNvSpPr/>
          <p:nvPr/>
        </p:nvSpPr>
        <p:spPr>
          <a:xfrm>
            <a:off x="335268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Линия2"/>
          <p:cNvSpPr/>
          <p:nvPr/>
        </p:nvSpPr>
        <p:spPr>
          <a:xfrm>
            <a:off x="3352680" y="2666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Линия1"/>
          <p:cNvSpPr/>
          <p:nvPr/>
        </p:nvSpPr>
        <p:spPr>
          <a:xfrm>
            <a:off x="2590920" y="2971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иния4"/>
          <p:cNvSpPr/>
          <p:nvPr/>
        </p:nvSpPr>
        <p:spPr>
          <a:xfrm>
            <a:off x="2743200" y="480060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Линия3"/>
          <p:cNvSpPr/>
          <p:nvPr/>
        </p:nvSpPr>
        <p:spPr>
          <a:xfrm>
            <a:off x="2743200" y="6248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4"/>
          <p:cNvSpPr/>
          <p:nvPr/>
        </p:nvSpPr>
        <p:spPr>
          <a:xfrm>
            <a:off x="3207600" y="4941720"/>
            <a:ext cx="5443200" cy="3988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0404"/>
                </a:solidFill>
                <a:latin typeface="Arial"/>
              </a:rPr>
              <a:t>Научись «ВЫЧИТЫВАТЬ» информа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a0404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Картинка2" descr="Кредит онлайн : Группа по интересам. Другое : Одноклассники"/>
          <p:cNvPicPr/>
          <p:nvPr/>
        </p:nvPicPr>
        <p:blipFill>
          <a:blip r:embed="rId1"/>
          <a:stretch/>
        </p:blipFill>
        <p:spPr>
          <a:xfrm>
            <a:off x="228600" y="152280"/>
            <a:ext cx="217332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87" name="Прямоугольник6"/>
          <p:cNvSpPr/>
          <p:nvPr/>
        </p:nvSpPr>
        <p:spPr>
          <a:xfrm>
            <a:off x="2438280" y="3507120"/>
            <a:ext cx="6477120" cy="131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определить главную тему текста?  Чтобы найти главную тему текста, нужно отыскать в тексте ключевые фразы, ключевые слова, важные для понимания вопроса, затрагиваемого в данном тексте. Главная мысль текста — это сжато сформулированный предмет содержания  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5"/>
          <p:cNvSpPr/>
          <p:nvPr/>
        </p:nvSpPr>
        <p:spPr>
          <a:xfrm>
            <a:off x="3733920" y="2286720"/>
            <a:ext cx="5257800" cy="82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черкнув второстепенную информацию (раз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а  пояснения, детали, описания незначительны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в), выделите  главную  информ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3"/>
          <p:cNvSpPr/>
          <p:nvPr/>
        </p:nvSpPr>
        <p:spPr>
          <a:xfrm>
            <a:off x="3657600" y="1219320"/>
            <a:ext cx="49528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ксте  представлены сведения из той или иной науки. В нём есть основная, главная информация и дополнительная, второстепен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2"/>
          <p:cNvSpPr/>
          <p:nvPr/>
        </p:nvSpPr>
        <p:spPr>
          <a:xfrm>
            <a:off x="3962520" y="5867280"/>
            <a:ext cx="5029200" cy="724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перерабатывать информацию, выде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главное  необходимо для создания связных высказываний в научном стиле, его стилис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Картинка1" descr="Неотражение доходов в книге учета доходов и расходов по форме 10. - 5 Декабря 2013 - Blog - Megaresurs"/>
          <p:cNvPicPr/>
          <p:nvPr/>
        </p:nvPicPr>
        <p:blipFill>
          <a:blip r:embed="rId2"/>
          <a:stretch/>
        </p:blipFill>
        <p:spPr>
          <a:xfrm>
            <a:off x="228600" y="3581280"/>
            <a:ext cx="2176560" cy="3048120"/>
          </a:xfrm>
          <a:prstGeom prst="rect">
            <a:avLst/>
          </a:prstGeom>
          <a:ln w="0">
            <a:noFill/>
          </a:ln>
        </p:spPr>
      </p:pic>
      <p:sp>
        <p:nvSpPr>
          <p:cNvPr id="292" name="Линия10"/>
          <p:cNvSpPr/>
          <p:nvPr/>
        </p:nvSpPr>
        <p:spPr>
          <a:xfrm>
            <a:off x="259092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Линия9"/>
          <p:cNvSpPr/>
          <p:nvPr/>
        </p:nvSpPr>
        <p:spPr>
          <a:xfrm>
            <a:off x="2590920" y="2971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3"/>
          <p:cNvSpPr/>
          <p:nvPr/>
        </p:nvSpPr>
        <p:spPr>
          <a:xfrm>
            <a:off x="5257800" y="3581280"/>
            <a:ext cx="3429000" cy="1067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рать предложения, в которых главная информация выражена максимально при минимальной затрате речевы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2"/>
          <p:cNvSpPr/>
          <p:nvPr/>
        </p:nvSpPr>
        <p:spPr>
          <a:xfrm>
            <a:off x="5334120" y="1066680"/>
            <a:ext cx="2895480" cy="580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кст научного стиля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 предлож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4"/>
          <p:cNvSpPr/>
          <p:nvPr/>
        </p:nvSpPr>
        <p:spPr>
          <a:xfrm>
            <a:off x="5340240" y="1905120"/>
            <a:ext cx="2424240" cy="580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вете - 5 вариа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5"/>
          <p:cNvSpPr/>
          <p:nvPr/>
        </p:nvSpPr>
        <p:spPr>
          <a:xfrm>
            <a:off x="5334120" y="2743200"/>
            <a:ext cx="2819160" cy="580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 выбрать 2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Картинка3" descr="Check Mark Clip art - Support - Download vector clip art online"/>
          <p:cNvPicPr/>
          <p:nvPr/>
        </p:nvPicPr>
        <p:blipFill>
          <a:blip r:embed="rId1"/>
          <a:stretch/>
        </p:blipFill>
        <p:spPr>
          <a:xfrm>
            <a:off x="4648320" y="2057400"/>
            <a:ext cx="457200" cy="423720"/>
          </a:xfrm>
          <a:prstGeom prst="rect">
            <a:avLst/>
          </a:prstGeom>
          <a:ln w="0">
            <a:noFill/>
          </a:ln>
        </p:spPr>
      </p:pic>
      <p:pic>
        <p:nvPicPr>
          <p:cNvPr id="299" name="Картинка2" descr="Check Mark Clip art - Support - Download vector clip art online"/>
          <p:cNvPicPr/>
          <p:nvPr/>
        </p:nvPicPr>
        <p:blipFill>
          <a:blip r:embed="rId2"/>
          <a:stretch/>
        </p:blipFill>
        <p:spPr>
          <a:xfrm>
            <a:off x="4648320" y="2895480"/>
            <a:ext cx="457200" cy="424080"/>
          </a:xfrm>
          <a:prstGeom prst="rect">
            <a:avLst/>
          </a:prstGeom>
          <a:ln w="0">
            <a:noFill/>
          </a:ln>
        </p:spPr>
      </p:pic>
      <p:pic>
        <p:nvPicPr>
          <p:cNvPr id="300" name="Картинка1" descr="Check Mark Clip art - Support - Download vector clip art online"/>
          <p:cNvPicPr/>
          <p:nvPr/>
        </p:nvPicPr>
        <p:blipFill>
          <a:blip r:embed="rId3"/>
          <a:stretch/>
        </p:blipFill>
        <p:spPr>
          <a:xfrm>
            <a:off x="4648320" y="3581280"/>
            <a:ext cx="457200" cy="4240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67"/>
          <p:cNvSpPr/>
          <p:nvPr/>
        </p:nvSpPr>
        <p:spPr>
          <a:xfrm>
            <a:off x="4419720" y="227520"/>
            <a:ext cx="4572000" cy="4597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жения выбр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1"/>
          <p:cNvSpPr/>
          <p:nvPr/>
        </p:nvSpPr>
        <p:spPr>
          <a:xfrm>
            <a:off x="228600" y="228600"/>
            <a:ext cx="4038480" cy="3257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ложения, из которых нужно выбирать правильный ответ, могут противоречить содержанию текста, включать информацию, которой в тексте нет, передавать лишь часть информации, подробно передавать дополнительную информацию, являющуюся для понимания основной идеи второстепенной, дословно цитировать какую-либо часть текста, содержащую передачу подробностей и мелких деталей. Такие предложения для ответа не подходя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АвтоФигура1"/>
          <p:cNvSpPr/>
          <p:nvPr/>
        </p:nvSpPr>
        <p:spPr>
          <a:xfrm>
            <a:off x="7924680" y="5943600"/>
            <a:ext cx="914400" cy="738360"/>
          </a:xfrm>
          <a:custGeom>
            <a:avLst/>
            <a:gdLst>
              <a:gd name="textAreaLeft" fmla="*/ 47880 w 914400"/>
              <a:gd name="textAreaRight" fmla="*/ 866880 w 91440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47" h="21600">
                <a:moveTo>
                  <a:pt x="6367" y="10800"/>
                </a:moveTo>
                <a:lnTo>
                  <a:pt x="20380" y="3794"/>
                </a:lnTo>
                <a:lnTo>
                  <a:pt x="203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БлокТекста2"/>
          <p:cNvSpPr/>
          <p:nvPr/>
        </p:nvSpPr>
        <p:spPr>
          <a:xfrm>
            <a:off x="4800600" y="5029200"/>
            <a:ext cx="403848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чок в формате   «Показ слай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БлокТекста1"/>
          <p:cNvSpPr/>
          <p:nvPr/>
        </p:nvSpPr>
        <p:spPr>
          <a:xfrm>
            <a:off x="4859640" y="6308640"/>
            <a:ext cx="14043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Картинка6" descr="w512h5121390849401flowchart512"/>
          <p:cNvPicPr/>
          <p:nvPr/>
        </p:nvPicPr>
        <p:blipFill>
          <a:blip r:embed="rId4"/>
          <a:stretch/>
        </p:blipFill>
        <p:spPr>
          <a:xfrm>
            <a:off x="5003640" y="537372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307" name="Картинка5" descr="Check Mark Clip art - Support - Download vector clip art online"/>
          <p:cNvPicPr/>
          <p:nvPr/>
        </p:nvPicPr>
        <p:blipFill>
          <a:blip r:embed="rId5"/>
          <a:stretch/>
        </p:blipFill>
        <p:spPr>
          <a:xfrm>
            <a:off x="4648320" y="1219320"/>
            <a:ext cx="457200" cy="423720"/>
          </a:xfrm>
          <a:prstGeom prst="rect">
            <a:avLst/>
          </a:prstGeom>
          <a:ln w="0">
            <a:noFill/>
          </a:ln>
        </p:spPr>
      </p:pic>
      <p:sp>
        <p:nvSpPr>
          <p:cNvPr id="308" name="БлокТекста4"/>
          <p:cNvSpPr/>
          <p:nvPr/>
        </p:nvSpPr>
        <p:spPr>
          <a:xfrm>
            <a:off x="7307640" y="5445000"/>
            <a:ext cx="170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. обра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а. Трениров. у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Картинка7" descr="b8cdda0e22cfdea06b0cd63af5e4bb46"/>
          <p:cNvPicPr/>
          <p:nvPr/>
        </p:nvPicPr>
        <p:blipFill>
          <a:blip r:embed="rId6"/>
          <a:stretch/>
        </p:blipFill>
        <p:spPr>
          <a:xfrm>
            <a:off x="228600" y="3657600"/>
            <a:ext cx="4191120" cy="2970360"/>
          </a:xfrm>
          <a:prstGeom prst="rect">
            <a:avLst/>
          </a:prstGeom>
          <a:ln w="0">
            <a:noFill/>
          </a:ln>
        </p:spPr>
      </p:pic>
      <p:sp>
        <p:nvSpPr>
          <p:cNvPr id="310" name="БлокТекста3"/>
          <p:cNvSpPr/>
          <p:nvPr/>
        </p:nvSpPr>
        <p:spPr>
          <a:xfrm>
            <a:off x="2336760" y="408636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Линия2"/>
          <p:cNvSpPr/>
          <p:nvPr/>
        </p:nvSpPr>
        <p:spPr>
          <a:xfrm>
            <a:off x="2411280" y="39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Линия1"/>
          <p:cNvSpPr/>
          <p:nvPr/>
        </p:nvSpPr>
        <p:spPr>
          <a:xfrm>
            <a:off x="2411280" y="40100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Линия5"/>
          <p:cNvSpPr/>
          <p:nvPr/>
        </p:nvSpPr>
        <p:spPr>
          <a:xfrm>
            <a:off x="2411280" y="4086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Линия4"/>
          <p:cNvSpPr/>
          <p:nvPr/>
        </p:nvSpPr>
        <p:spPr>
          <a:xfrm>
            <a:off x="2411280" y="4543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Линия3"/>
          <p:cNvSpPr/>
          <p:nvPr/>
        </p:nvSpPr>
        <p:spPr>
          <a:xfrm>
            <a:off x="2411280" y="46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6" descr="193753"/>
          <p:cNvPicPr/>
          <p:nvPr/>
        </p:nvPicPr>
        <p:blipFill>
          <a:blip r:embed="rId7"/>
          <a:stretch/>
        </p:blipFill>
        <p:spPr>
          <a:xfrm>
            <a:off x="2340000" y="3716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17" name="БлокТекста3"/>
          <p:cNvSpPr/>
          <p:nvPr/>
        </p:nvSpPr>
        <p:spPr>
          <a:xfrm>
            <a:off x="2412720" y="400536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Линия2"/>
          <p:cNvSpPr/>
          <p:nvPr/>
        </p:nvSpPr>
        <p:spPr>
          <a:xfrm>
            <a:off x="2556000" y="3933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Линия5"/>
          <p:cNvSpPr/>
          <p:nvPr/>
        </p:nvSpPr>
        <p:spPr>
          <a:xfrm>
            <a:off x="2556000" y="400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Линия4"/>
          <p:cNvSpPr/>
          <p:nvPr/>
        </p:nvSpPr>
        <p:spPr>
          <a:xfrm>
            <a:off x="2556000" y="443700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Линия3"/>
          <p:cNvSpPr/>
          <p:nvPr/>
        </p:nvSpPr>
        <p:spPr>
          <a:xfrm>
            <a:off x="255600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4" descr="Notepad"/>
          <p:cNvPicPr/>
          <p:nvPr/>
        </p:nvPicPr>
        <p:blipFill>
          <a:blip r:embed="rId8"/>
          <a:stretch/>
        </p:blipFill>
        <p:spPr>
          <a:xfrm>
            <a:off x="6084720" y="5445000"/>
            <a:ext cx="129564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5"/>
          <p:cNvSpPr/>
          <p:nvPr/>
        </p:nvSpPr>
        <p:spPr>
          <a:xfrm>
            <a:off x="6300720" y="5734080"/>
            <a:ext cx="6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6"/>
          <p:cNvSpPr/>
          <p:nvPr/>
        </p:nvSpPr>
        <p:spPr>
          <a:xfrm>
            <a:off x="6443640" y="580536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7"/>
          <p:cNvSpPr/>
          <p:nvPr/>
        </p:nvSpPr>
        <p:spPr>
          <a:xfrm>
            <a:off x="6516720" y="5445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8"/>
          <p:cNvSpPr/>
          <p:nvPr/>
        </p:nvSpPr>
        <p:spPr>
          <a:xfrm>
            <a:off x="6372360" y="5516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9"/>
          <p:cNvSpPr/>
          <p:nvPr/>
        </p:nvSpPr>
        <p:spPr>
          <a:xfrm flipH="1">
            <a:off x="7164000" y="5877000"/>
            <a:ext cx="86364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C:\power_point\ink_the_deal\ink_the_deal_pr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18" descr="business_man_woman_high_five_hg_clr"/>
          <p:cNvPicPr/>
          <p:nvPr/>
        </p:nvPicPr>
        <p:blipFill>
          <a:blip r:embed="rId2"/>
          <a:stretch/>
        </p:blipFill>
        <p:spPr>
          <a:xfrm>
            <a:off x="0" y="4508640"/>
            <a:ext cx="1762200" cy="21333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1187280" y="1197000"/>
            <a:ext cx="5761080" cy="172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отнести содержание текста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ложениями, где основная информ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жата, найти не менее 2 -х предложений,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торых основная информация  передана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тических ошибок, не содержит перечисле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полнительной детализированной информ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ражена максимально при миним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трате речевы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276720" y="380880"/>
            <a:ext cx="35240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выполн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1 – го  за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walking_5_hc"/>
          <p:cNvPicPr/>
          <p:nvPr/>
        </p:nvPicPr>
        <p:blipFill>
          <a:blip r:embed="rId3"/>
          <a:stretch/>
        </p:blipFill>
        <p:spPr>
          <a:xfrm>
            <a:off x="7236000" y="333360"/>
            <a:ext cx="1201680" cy="1670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5"/>
          <p:cNvSpPr/>
          <p:nvPr/>
        </p:nvSpPr>
        <p:spPr>
          <a:xfrm>
            <a:off x="1547640" y="3284640"/>
            <a:ext cx="7075800" cy="289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 Проведите смысловой анализ исходного текст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 Выделите в каждом предложении ключевые слова, важные для понимания  вопроса, затрагиваемого в данном тек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 Определите причинно-следственные отношения между предложениями в тексте, проанализировав союзы, союзные слова, вводные конструк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 Сократите текст, вычеркнув второстепенную информацию (разного род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снения, детали, описания незначительных фактов, комментар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ксические повтор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Обратите внимание на формулировку вопроса «в каких из приведённых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е  предложений…»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 есть должно быть выбрано 2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ыберите правильный вариант отв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3" descr="eyes_4_hc"/>
          <p:cNvPicPr/>
          <p:nvPr/>
        </p:nvPicPr>
        <p:blipFill>
          <a:blip r:embed="rId4"/>
          <a:stretch/>
        </p:blipFill>
        <p:spPr>
          <a:xfrm>
            <a:off x="7667640" y="1773360"/>
            <a:ext cx="1160280" cy="1409400"/>
          </a:xfrm>
          <a:prstGeom prst="rect">
            <a:avLst/>
          </a:prstGeom>
          <a:ln w="0">
            <a:noFill/>
          </a:ln>
        </p:spPr>
      </p:pic>
      <p:sp>
        <p:nvSpPr>
          <p:cNvPr id="341" name="АвтоФигура1">
            <a:hlinkClick r:id="rId5" action="ppaction://hlinksldjump"/>
          </p:cNvPr>
          <p:cNvSpPr/>
          <p:nvPr/>
        </p:nvSpPr>
        <p:spPr>
          <a:xfrm>
            <a:off x="8101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7" descr="1(1)"/>
          <p:cNvPicPr/>
          <p:nvPr/>
        </p:nvPicPr>
        <p:blipFill>
          <a:blip r:embed="rId1"/>
          <a:stretch/>
        </p:blipFill>
        <p:spPr>
          <a:xfrm>
            <a:off x="6835680" y="152280"/>
            <a:ext cx="2308320" cy="1606680"/>
          </a:xfrm>
          <a:prstGeom prst="rect">
            <a:avLst/>
          </a:prstGeom>
          <a:ln w="0">
            <a:noFill/>
          </a:ln>
        </p:spPr>
      </p:pic>
      <p:sp>
        <p:nvSpPr>
          <p:cNvPr id="343" name="Oval 7"/>
          <p:cNvSpPr/>
          <p:nvPr/>
        </p:nvSpPr>
        <p:spPr>
          <a:xfrm>
            <a:off x="7162920" y="45720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WordArt 10" descr=""/>
          <p:cNvPicPr/>
          <p:nvPr/>
        </p:nvPicPr>
        <p:blipFill>
          <a:blip r:embed="rId2"/>
          <a:stretch/>
        </p:blipFill>
        <p:spPr>
          <a:xfrm>
            <a:off x="7047000" y="609480"/>
            <a:ext cx="1133280" cy="567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6838920" y="152280"/>
            <a:ext cx="23050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Единый государств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экза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eyes_4_hc"/>
          <p:cNvPicPr/>
          <p:nvPr/>
        </p:nvPicPr>
        <p:blipFill>
          <a:blip r:embed="rId3"/>
          <a:stretch/>
        </p:blipFill>
        <p:spPr>
          <a:xfrm>
            <a:off x="7696080" y="1981080"/>
            <a:ext cx="1117800" cy="1359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walking_5_hc"/>
          <p:cNvPicPr/>
          <p:nvPr/>
        </p:nvPicPr>
        <p:blipFill>
          <a:blip r:embed="rId4"/>
          <a:stretch/>
        </p:blipFill>
        <p:spPr>
          <a:xfrm>
            <a:off x="7391520" y="373392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0"/>
          <p:cNvSpPr/>
          <p:nvPr/>
        </p:nvSpPr>
        <p:spPr>
          <a:xfrm>
            <a:off x="304920" y="1143000"/>
            <a:ext cx="6400800" cy="499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читайте текст и выполните задания    1 – 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)  Если вы посмотрите на карту, то убедитесь, что Сибирь– это более половины территории Российской Федерации, она примерно равна Европе, составляет почти четверть всей Азии и одну пятнадцатую всей суши Земли. (2)Но Сибирь удивляет нас не только своими размерами,  но и тем, что это крупнейшая в мире сокровищница лесных массивов, запасов нефти и  газа. (3)Именно&lt;…&gt; в планах экономического развития России Сибири уделяется большое вним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В  каких  из  приведённых  ниже  предложений  верно  передана  ГЛАВНАЯ  информация, содержащаяся в текст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Сибири,  занимающей  две  пятых  пространства  Азии,  в  пла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ого развития России уделяется большое вним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ибирь удивляет нас не только своими размерами и уникальностью, но и тем, что это крупнейшая в мире сокровищница полезных ископаем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В  планах  экономического  развития  России  Сибири  уделяется  большое внимание, поскольку в этом регионе  сосредоточены огромные природные  богат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В развитии мировой экономики Сибирь занимает особое место, так к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 регион  занимает  одну  пятнадцатую  всей  суши  Земли  и  зде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редоточены огромные природные богат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Сибири,  обладающей  огромными  природными  богатствами,  в  планах  экономического развития России уделяется большое вним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3886200" y="6019920"/>
            <a:ext cx="2057400" cy="533160"/>
          </a:xfrm>
          <a:prstGeom prst="wedgeRectCallout">
            <a:avLst>
              <a:gd name="adj1" fmla="val -94754"/>
              <a:gd name="adj2" fmla="val 4791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3962520" y="6095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1"/>
          <p:cNvSpPr/>
          <p:nvPr/>
        </p:nvSpPr>
        <p:spPr>
          <a:xfrm>
            <a:off x="1371960" y="6172200"/>
            <a:ext cx="14090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&lt;или&gt;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БлокТекста1"/>
          <p:cNvSpPr/>
          <p:nvPr/>
        </p:nvSpPr>
        <p:spPr>
          <a:xfrm>
            <a:off x="457200" y="304920"/>
            <a:ext cx="3809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 1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1, задание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АвтоФигура1">
            <a:hlinkClick r:id="rId5" action="ppaction://hlinksldjump"/>
          </p:cNvPr>
          <p:cNvSpPr/>
          <p:nvPr/>
        </p:nvSpPr>
        <p:spPr>
          <a:xfrm>
            <a:off x="8317080" y="6237360"/>
            <a:ext cx="576000" cy="455400"/>
          </a:xfrm>
          <a:custGeom>
            <a:avLst/>
            <a:gdLst>
              <a:gd name="textAreaLeft" fmla="*/ 29520 w 576000"/>
              <a:gd name="textAreaRight" fmla="*/ 546480 w 57600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27316" h="21600">
                <a:moveTo>
                  <a:pt x="0" y="0"/>
                </a:moveTo>
                <a:lnTo>
                  <a:pt x="27316" y="0"/>
                </a:lnTo>
                <a:lnTo>
                  <a:pt x="27316" y="21600"/>
                </a:lnTo>
                <a:lnTo>
                  <a:pt x="0" y="21600"/>
                </a:lnTo>
                <a:close/>
              </a:path>
              <a:path fill="lightenLess" w="27316" h="21600">
                <a:moveTo>
                  <a:pt x="0" y="0"/>
                </a:moveTo>
                <a:lnTo>
                  <a:pt x="27316" y="0"/>
                </a:lnTo>
                <a:lnTo>
                  <a:pt x="25916" y="1400"/>
                </a:lnTo>
                <a:lnTo>
                  <a:pt x="1400" y="1400"/>
                </a:lnTo>
                <a:close/>
              </a:path>
              <a:path fill="darken" w="27316" h="21600">
                <a:moveTo>
                  <a:pt x="27316" y="0"/>
                </a:moveTo>
                <a:lnTo>
                  <a:pt x="27316" y="21600"/>
                </a:lnTo>
                <a:lnTo>
                  <a:pt x="25916" y="20200"/>
                </a:lnTo>
                <a:lnTo>
                  <a:pt x="25916" y="1400"/>
                </a:lnTo>
                <a:close/>
              </a:path>
              <a:path fill="darkenLess" w="27316" h="21600">
                <a:moveTo>
                  <a:pt x="27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6" y="20200"/>
                </a:lnTo>
                <a:close/>
              </a:path>
              <a:path fill="lighten" w="27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6" h="21600">
                <a:moveTo>
                  <a:pt x="6651" y="10800"/>
                </a:moveTo>
                <a:lnTo>
                  <a:pt x="20664" y="3794"/>
                </a:lnTo>
                <a:lnTo>
                  <a:pt x="206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0"/>
          <p:cNvSpPr/>
          <p:nvPr/>
        </p:nvSpPr>
        <p:spPr>
          <a:xfrm>
            <a:off x="152280" y="762120"/>
            <a:ext cx="7467840" cy="5421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читайте текст и выполните задания  1 -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большинства родителей и подростков сложилось достаточно позитивное представление о собственной цифровой компетентности: практически 80% школьников и каждый второй родитель считают себя уверенными пользователями Интернета. Оценка уровня цифровой компетентности на основе специального индекса показывает, что это завышенное и неадекватное мнение: на самом деле этот уровень как у родителей, так и у подростков, составляет треть от максимально возмож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касается мотивации, то ни родители, ни подростки не проявили устойчивую установку на самосовершенствование в цифровом мире. Их мотивация составляет лишь 20% от максимально возмож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алина Солдатова, член-корреспондент РАО, профессор психолог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ультета МГУ, директор Фонда развития Интерн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Мнение о собственном уровне цифровой компетентности завышено у взрослы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бственная оценка уровня цифровой компетентности у большинства родителей и подростков оказывается завышенн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Большинство родителей и подростков не осознают, что сложившиеся у них представления о своей цифровой компетентности завышены, и поэтому не имеют установки на самосовершенствова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Мнение о своём уровне цифровой компетентности завышено у подростк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Ни родители, ни подростки не имеют устойчивой мотивации к совершенствованию в цифровом мире, потому что их самооценка завыш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"/>
          <p:cNvSpPr/>
          <p:nvPr/>
        </p:nvSpPr>
        <p:spPr>
          <a:xfrm>
            <a:off x="3276720" y="6248520"/>
            <a:ext cx="2057400" cy="380880"/>
          </a:xfrm>
          <a:prstGeom prst="wedgeRectCallout">
            <a:avLst>
              <a:gd name="adj1" fmla="val 83023"/>
              <a:gd name="adj2" fmla="val 470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3200400" y="6248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1"/>
          <p:cNvSpPr/>
          <p:nvPr/>
        </p:nvSpPr>
        <p:spPr>
          <a:xfrm>
            <a:off x="6172560" y="6400800"/>
            <a:ext cx="14090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&lt;или&gt;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БлокТекста1"/>
          <p:cNvSpPr/>
          <p:nvPr/>
        </p:nvSpPr>
        <p:spPr>
          <a:xfrm>
            <a:off x="457200" y="152280"/>
            <a:ext cx="3809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 2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1, задание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АвтоФигура1">
            <a:hlinkClick r:id="rId4" action="ppaction://hlinksldjump"/>
          </p:cNvPr>
          <p:cNvSpPr/>
          <p:nvPr/>
        </p:nvSpPr>
        <p:spPr>
          <a:xfrm>
            <a:off x="8317080" y="6237360"/>
            <a:ext cx="576000" cy="455400"/>
          </a:xfrm>
          <a:custGeom>
            <a:avLst/>
            <a:gdLst>
              <a:gd name="textAreaLeft" fmla="*/ 29520 w 576000"/>
              <a:gd name="textAreaRight" fmla="*/ 546480 w 57600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27316" h="21600">
                <a:moveTo>
                  <a:pt x="0" y="0"/>
                </a:moveTo>
                <a:lnTo>
                  <a:pt x="27316" y="0"/>
                </a:lnTo>
                <a:lnTo>
                  <a:pt x="27316" y="21600"/>
                </a:lnTo>
                <a:lnTo>
                  <a:pt x="0" y="21600"/>
                </a:lnTo>
                <a:close/>
              </a:path>
              <a:path fill="lightenLess" w="27316" h="21600">
                <a:moveTo>
                  <a:pt x="0" y="0"/>
                </a:moveTo>
                <a:lnTo>
                  <a:pt x="27316" y="0"/>
                </a:lnTo>
                <a:lnTo>
                  <a:pt x="25916" y="1400"/>
                </a:lnTo>
                <a:lnTo>
                  <a:pt x="1400" y="1400"/>
                </a:lnTo>
                <a:close/>
              </a:path>
              <a:path fill="darken" w="27316" h="21600">
                <a:moveTo>
                  <a:pt x="27316" y="0"/>
                </a:moveTo>
                <a:lnTo>
                  <a:pt x="27316" y="21600"/>
                </a:lnTo>
                <a:lnTo>
                  <a:pt x="25916" y="20200"/>
                </a:lnTo>
                <a:lnTo>
                  <a:pt x="25916" y="1400"/>
                </a:lnTo>
                <a:close/>
              </a:path>
              <a:path fill="darkenLess" w="27316" h="21600">
                <a:moveTo>
                  <a:pt x="27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6" y="20200"/>
                </a:lnTo>
                <a:close/>
              </a:path>
              <a:path fill="lighten" w="27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6" h="21600">
                <a:moveTo>
                  <a:pt x="6651" y="10800"/>
                </a:moveTo>
                <a:lnTo>
                  <a:pt x="20664" y="3794"/>
                </a:lnTo>
                <a:lnTo>
                  <a:pt x="206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0"/>
          <p:cNvSpPr/>
          <p:nvPr/>
        </p:nvSpPr>
        <p:spPr>
          <a:xfrm>
            <a:off x="152280" y="685800"/>
            <a:ext cx="7467840" cy="5848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читайте текст и выполните задания  1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популярные книги, как правило, пишутся двумя категориями авторов: учёными, лично добывающими факты (таковы книги К. А. Тимирязева, В. А. Обручева, Э. Сетон-Томпсона, А. Е. Ферсмана, С. И. Вавилова, Тура Хейердала, Н. Н. Плавильщикова, И. А. Ефремова, Б. Гржимека), и писателями-популяризаторами — вспомним О. Писаржевского, Д. Данина, В. Полынина и др. Если строго придерживаться такого разделения, то Дэвида Эттенборо, казалось бы, следовало отнести ко второй группе авторов. Но его книги — это глубокое проникновение в проблематику, в дух науки, представляемой широкому читателю. Вот с чем связан успех его книг у чит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.Н. Воронцов, профессор, предисловие к книге Д. Эттенборо «Жизнь на Земле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Книги Дэвида Эттеннборо пользуются успехом у читателя, потому что писатель-популяризатор глубоко проникает в проблематику и дух науки в книгах, предназначенных широкому читател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Научно-популярные книги создаются учёными или писателями-популяризаторами, к которым и относится Д. Эттенборо, книги которого несутт широкому читателю дух нау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Многие выдающиеся учёные создавали научно-популярные книги: К. А. Тимирязев, В. А. Обручев, Э. Сетон-Томпсон, А. Е. Ферсман, С. И. Вавилов, Тур Хейердал, Н. Н. Плавильщиков, И.А. Ефремов, Б. Гржимек и друг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Важно различать, кто создал научно-популярную книгу: выдающийся учёный или писатель-популяризотор, поскольку доверять можно лишь книгам, написанным учёны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Научно-популярные книги бывают разного качества, потому что одни из них пишут настоящие учёные, а другие — писатели-популяризат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 flipV="1">
            <a:off x="3429000" y="6508080"/>
            <a:ext cx="2057400" cy="304920"/>
          </a:xfrm>
          <a:prstGeom prst="wedgeRectCallout">
            <a:avLst>
              <a:gd name="adj1" fmla="val 83023"/>
              <a:gd name="adj2" fmla="val 364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3352680" y="64771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1"/>
          <p:cNvSpPr/>
          <p:nvPr/>
        </p:nvSpPr>
        <p:spPr>
          <a:xfrm>
            <a:off x="6172200" y="6477120"/>
            <a:ext cx="113616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&lt;или&gt;2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БлокТекста1"/>
          <p:cNvSpPr/>
          <p:nvPr/>
        </p:nvSpPr>
        <p:spPr>
          <a:xfrm>
            <a:off x="457200" y="152280"/>
            <a:ext cx="380988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 3.  Часть 1, задание 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152280" y="565200"/>
            <a:ext cx="7467840" cy="5848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читайте текст и выполните задания  1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нига Этторе Ло Гатто представляет собой непринуждённое, спонтанное повествование о жизни и работе не только переводчика, критика и учёного, но и редкого энтузиаста, упорного, возможно, упрямого, который всегда был другом России и русских, где бы он их ни встречал — в Ленинграде, Москве или Париже. Все, о ком пишет Ло Гатто, — известные личности: одни стали знамениты ещё до того, как он с ними познакомился, другие — впоследствии. Имена многих героев книги открылись российскому читателю лишь недавно, так как речь идёт как о деятелях литературы и искусства, остававшихся после революции в СССР, так и эмигрировавших. Ло  Гатто всегда считал русскую литературу неделимой, связанной единством языка и единством любви к России, только любовь эта выражалась в разных формах и была пережита по-разном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Этторе Ло Гатте «Мои встречи с Россией», предисловие Анны Ло Гатто Маве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Книга переводчика, критика и учёного Этторе Ло Гатто рассказывает об известных деятелях российской культуры и литературы, многие из которых эмигрировали из СССР после революци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Этторе Ло Гатто, известный переводчик, критик и учёный, встречался со многими русскими деятелями культуры и в России, и за рубежо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Этторе Ло Гатто рассказал в своей книге об известных деятелях русской культуры, с которыми он был знаком и которые представляют единую культуру, независимо от того, остались ли они после революции в России или уехали в эмиграци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Этторе Ло Гатте, ведущий исследователь русской литературы в Италии, мечтал о том времени, когда произведения русских писателей и поэтов, эмигрировавших за рубеж после революции, разрешат издавать на родин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Этторе Ло Гатто — переводчик, критик и учёный, редкий энтузиаст и друг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2"/>
          <p:cNvSpPr/>
          <p:nvPr/>
        </p:nvSpPr>
        <p:spPr>
          <a:xfrm flipV="1">
            <a:off x="3429000" y="6508080"/>
            <a:ext cx="2057400" cy="304920"/>
          </a:xfrm>
          <a:prstGeom prst="wedgeRectCallout">
            <a:avLst>
              <a:gd name="adj1" fmla="val 83023"/>
              <a:gd name="adj2" fmla="val 364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3352680" y="64771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1"/>
          <p:cNvSpPr/>
          <p:nvPr/>
        </p:nvSpPr>
        <p:spPr>
          <a:xfrm>
            <a:off x="6172200" y="6477120"/>
            <a:ext cx="113616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&lt;или&gt;3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локТекста1"/>
          <p:cNvSpPr/>
          <p:nvPr/>
        </p:nvSpPr>
        <p:spPr>
          <a:xfrm>
            <a:off x="457200" y="152280"/>
            <a:ext cx="380988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кст 4.  Часть 1, задание 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10"/>
          <p:cNvSpPr/>
          <p:nvPr/>
        </p:nvSpPr>
        <p:spPr>
          <a:xfrm>
            <a:off x="228600" y="990720"/>
            <a:ext cx="7467480" cy="478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ивительное приспособление — пер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теплоизолятор оно почти не имеет себе равных, а по аэродинамическим свойствам превосходит, вес на вес, любой материал, всё равно — естественного происхождения или созданный человеком. Состоит оно из обыкновенного кератина, того самого рогового вещества, что и чешуя рептилий или наши ногти, но особые свойства пера связаны сего необыкновенно сложным стро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и все свойства, выделяющие птиц среди других живых существ, так или иначе связаны с наличием у них перьевого покрова. Собственно, птица — это и есть по определению существо, имеющее перь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(Д. Эттенборо «Жизнь на Земле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Почти все свойства, отличающие птиц от других существ, связаны с наличием у них перьевого покрова, потому что перо — уникальное приспособление, не имеющее равных по целому ряду параметр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Теплоизолирующие и аэродинамические свойства пера птицы уникальн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Перо птицы состоит из обычного кератина, того же вещества, что и чешуя рептилий, и ногти человека, но оно отличается сложным строени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Птица — это существо, имеющее перьевой покров, а перо состоит из керат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Птица — это существо, имеющее перьевой покров, а перо имеет простой состав, но сложное строение, что обеспечивает уникальные теплоизоляцию и аэродинамические св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2"/>
          <p:cNvSpPr/>
          <p:nvPr/>
        </p:nvSpPr>
        <p:spPr>
          <a:xfrm flipV="1">
            <a:off x="3429000" y="6508080"/>
            <a:ext cx="2057400" cy="304920"/>
          </a:xfrm>
          <a:prstGeom prst="wedgeRectCallout">
            <a:avLst>
              <a:gd name="adj1" fmla="val 83023"/>
              <a:gd name="adj2" fmla="val 364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352680" y="64771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1"/>
          <p:cNvSpPr/>
          <p:nvPr/>
        </p:nvSpPr>
        <p:spPr>
          <a:xfrm>
            <a:off x="6172200" y="6477120"/>
            <a:ext cx="113616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&lt;или&gt;5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БлокТекста1"/>
          <p:cNvSpPr/>
          <p:nvPr/>
        </p:nvSpPr>
        <p:spPr>
          <a:xfrm>
            <a:off x="457200" y="152280"/>
            <a:ext cx="380988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кст 5.  Часть 1, задание 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68360" y="1781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98320" y="755640"/>
            <a:ext cx="8229600" cy="556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2"/>
          <p:cNvSpPr/>
          <p:nvPr/>
        </p:nvSpPr>
        <p:spPr>
          <a:xfrm>
            <a:off x="1263600" y="47160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WordArt 10" descr=""/>
          <p:cNvPicPr/>
          <p:nvPr/>
        </p:nvPicPr>
        <p:blipFill>
          <a:blip r:embed="rId1"/>
          <a:stretch/>
        </p:blipFill>
        <p:spPr>
          <a:xfrm>
            <a:off x="7686720" y="2706840"/>
            <a:ext cx="1285920" cy="135252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13" descr=""/>
          <p:cNvPicPr/>
          <p:nvPr/>
        </p:nvPicPr>
        <p:blipFill>
          <a:blip r:embed="rId2"/>
          <a:stretch/>
        </p:blipFill>
        <p:spPr>
          <a:xfrm>
            <a:off x="7480440" y="901800"/>
            <a:ext cx="1322280" cy="136512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1295280" y="45720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WordArt 23" descr=""/>
          <p:cNvPicPr/>
          <p:nvPr/>
        </p:nvPicPr>
        <p:blipFill>
          <a:blip r:embed="rId3"/>
          <a:stretch/>
        </p:blipFill>
        <p:spPr>
          <a:xfrm>
            <a:off x="3255840" y="2286000"/>
            <a:ext cx="3973680" cy="1420920"/>
          </a:xfrm>
          <a:prstGeom prst="rect">
            <a:avLst/>
          </a:prstGeom>
          <a:ln w="0">
            <a:noFill/>
          </a:ln>
        </p:spPr>
      </p:pic>
      <p:pic>
        <p:nvPicPr>
          <p:cNvPr id="132" name="ОбъектTextArt1" descr=""/>
          <p:cNvPicPr/>
          <p:nvPr/>
        </p:nvPicPr>
        <p:blipFill>
          <a:blip r:embed="rId4"/>
          <a:stretch/>
        </p:blipFill>
        <p:spPr>
          <a:xfrm>
            <a:off x="2438280" y="304920"/>
            <a:ext cx="1079640" cy="2017440"/>
          </a:xfrm>
          <a:prstGeom prst="rect">
            <a:avLst/>
          </a:prstGeom>
          <a:ln w="0">
            <a:noFill/>
          </a:ln>
        </p:spPr>
      </p:pic>
      <p:pic>
        <p:nvPicPr>
          <p:cNvPr id="133" name="WordArt 7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1079640" cy="2017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9"/>
          <p:cNvSpPr/>
          <p:nvPr/>
        </p:nvSpPr>
        <p:spPr>
          <a:xfrm rot="1423200">
            <a:off x="1676160" y="990360"/>
            <a:ext cx="30456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4" descr="13920"/>
          <p:cNvPicPr/>
          <p:nvPr/>
        </p:nvPicPr>
        <p:blipFill>
          <a:blip r:embed="rId6"/>
          <a:stretch/>
        </p:blipFill>
        <p:spPr>
          <a:xfrm rot="20697600">
            <a:off x="468000" y="340920"/>
            <a:ext cx="1671480" cy="255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8" descr="grekov-10-11-klass"/>
          <p:cNvPicPr/>
          <p:nvPr/>
        </p:nvPicPr>
        <p:blipFill>
          <a:blip r:embed="rId7"/>
          <a:stretch/>
        </p:blipFill>
        <p:spPr>
          <a:xfrm rot="21130800">
            <a:off x="685800" y="1828800"/>
            <a:ext cx="2063880" cy="307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3962520" y="5486400"/>
            <a:ext cx="3657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асть 1.  Зада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ordArt 9" descr=""/>
          <p:cNvPicPr/>
          <p:nvPr/>
        </p:nvPicPr>
        <p:blipFill>
          <a:blip r:embed="rId8"/>
          <a:stretch/>
        </p:blipFill>
        <p:spPr>
          <a:xfrm>
            <a:off x="4425840" y="334800"/>
            <a:ext cx="2743200" cy="12924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1"/>
          <p:cNvSpPr/>
          <p:nvPr/>
        </p:nvSpPr>
        <p:spPr>
          <a:xfrm>
            <a:off x="3381480" y="4194720"/>
            <a:ext cx="480060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формационная обработка письменных текстов  различных стилей и жан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Картинка1" descr="ЕГЭ 2015. Русский язык. Экзаменационные тесты. Практикум по выполнению типовых тестовых заданий ЕГЭ"/>
          <p:cNvPicPr/>
          <p:nvPr/>
        </p:nvPicPr>
        <p:blipFill>
          <a:blip r:embed="rId9"/>
          <a:stretch/>
        </p:blipFill>
        <p:spPr>
          <a:xfrm rot="20645400">
            <a:off x="837720" y="3733560"/>
            <a:ext cx="1909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0"/>
          <p:cNvSpPr/>
          <p:nvPr/>
        </p:nvSpPr>
        <p:spPr>
          <a:xfrm>
            <a:off x="228600" y="1219320"/>
            <a:ext cx="7238880" cy="478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посредственным источником энергии в организме человека является глюкоза в крови. Быстрый распад и окисление её, а также скорое извлечение обеспечивают экстренную мобилизацию энергетических ресурсов организма при нарастающих затратах энергии во время интенсивных мышечных и умственных нагрузок, эмоциональном возбуждении и про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, кто пытается исключить сахар из рациона, следует помнить, что углеводы — единственный источник, за счёт которого в норме покрываются энергетические расходы мозга, то есть сохраняется способность к мышл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горь Сокольский, кандидат фармацевтических наук, Беседы о питан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аука и жизнь» №8,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Благодаря быстрому распаду и окислению глюкозы в крови организм не может использовать энергетические ресурсы при интенсивных нагрузк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ахар из рациона исключать нельзя, потому что углеводы — единственный источник, позволяющий питать мозговую деятельнос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Источником энергии в организме человека является глюкоза в кров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Благодаря своим свойствам глюкоза в крови является источником энергии, потребляемой организмом человека при мышечных и умственных нагрузк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Источником энергии, необходимой человеку при мышечных и умстве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грузках, являются глюкоза в крови: именно за счёт углеводов сохран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ность к мышл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 flipV="1">
            <a:off x="3429000" y="6508080"/>
            <a:ext cx="2057400" cy="304920"/>
          </a:xfrm>
          <a:prstGeom prst="wedgeRectCallout">
            <a:avLst>
              <a:gd name="adj1" fmla="val 83023"/>
              <a:gd name="adj2" fmla="val 364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3352680" y="64771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1"/>
          <p:cNvSpPr/>
          <p:nvPr/>
        </p:nvSpPr>
        <p:spPr>
          <a:xfrm>
            <a:off x="6172920" y="6477120"/>
            <a:ext cx="108612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5&lt;или&gt;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БлокТекста1"/>
          <p:cNvSpPr/>
          <p:nvPr/>
        </p:nvSpPr>
        <p:spPr>
          <a:xfrm>
            <a:off x="533520" y="457200"/>
            <a:ext cx="48765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6.  Часть 1, задание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0"/>
          <p:cNvSpPr/>
          <p:nvPr/>
        </p:nvSpPr>
        <p:spPr>
          <a:xfrm>
            <a:off x="228600" y="1219320"/>
            <a:ext cx="7238880" cy="439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видимых человеческим глазом лучей, которые воспринимаются нашими органами зрения как цветовые элементы спектра: красный, оранжевый, желтый, зеленый, голубой, синий, фиолетовый, пучок света составляют и невидимые лучи: ультрафиолетовые и инфракрасные. Установлено, что инфракрасные лучи представляют собой тепловое излучение всякого нагретого предмета. Учёные считают, что именно эти лучи улавливают совы, что помогает птицам охотиться в темноте (совы охотятся ночью на мелких грызунов и вылавливают их немало десятки за ночь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.Инфракрасные лучи, представляющие собой тепловое излучение нагретого предмета и относящиеся к невидимым человеческим глазом лучам, улавливают со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.Ультрафиолетовые лучи, в отличие от цветовых элементов спектра: красного, оранжевого, желтого, зеленого, голубого, синего, фиолетового, невиди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.Учёные считают, что совы улавливают цветовые элементы спектра: красный, оранжевый, желтый, зеленый, голубой, синий, фиолетовый, что помогает птицам ориентироваться в темнот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.Тепловое излучение сов помогает им охотиться в ночн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Инфракрасные лучи, помогающие совам охотиться в темноте, представляют собой тепловое излучение нагретого предмета и относятся к невидимым   человеческим глазом луч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 flipV="1">
            <a:off x="1981080" y="5866560"/>
            <a:ext cx="2057400" cy="304920"/>
          </a:xfrm>
          <a:prstGeom prst="wedgeRectCallout">
            <a:avLst>
              <a:gd name="adj1" fmla="val 81787"/>
              <a:gd name="adj2" fmla="val -57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1981080" y="586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1"/>
          <p:cNvSpPr/>
          <p:nvPr/>
        </p:nvSpPr>
        <p:spPr>
          <a:xfrm>
            <a:off x="4800960" y="5816520"/>
            <a:ext cx="134496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&lt;или&gt;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БлокТекста1"/>
          <p:cNvSpPr/>
          <p:nvPr/>
        </p:nvSpPr>
        <p:spPr>
          <a:xfrm>
            <a:off x="533520" y="457200"/>
            <a:ext cx="48765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7.  Часть 1, задание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228600" y="1219320"/>
            <a:ext cx="7238880" cy="448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ам довелось во время грозы при кратких вспышках молнии оказаться на оживлённой городской улице, Вы, конечно, заметили одну странную особенность: улица, только что полная движения, кажется в такие мгновения словно застывшей, прохожие останавливаются в напряжённых позах, машины неподвижны, отчётливо видна каждая спица колеса велосипеда. Причина кажущейся неподвижности заключается в ничтожной продолжительности молнии - тысячные доли секунды. Неудивительно поэтому, что улица, полная разнообразных движений, представляется при свете молнии совершенно неподвижной: ведь мы замечаем на ней только то, что длится тысячные доли секу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.Оживлённая городская улица, полная разнообразных движений, представляется при свете молнии совершенно неподвижн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.Молния длится тысячные доли секунды, и поэтому при её свете человек замечает только то, что длится именно этот промежуток врем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.Установлено, что продолжительность молнии составляет всего тысячные доли секун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.При кратких вспышках молнии на оживлённой городской улице за тысячные доли секунды можно отчётливо увидеть движущиеся предме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При свете молнии, который длится тысячные доли секунды, человек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чётливо увидеть движущиеся предм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/>
          <p:cNvSpPr/>
          <p:nvPr/>
        </p:nvSpPr>
        <p:spPr>
          <a:xfrm flipV="1">
            <a:off x="1981080" y="5866560"/>
            <a:ext cx="2057400" cy="304920"/>
          </a:xfrm>
          <a:prstGeom prst="wedgeRectCallout">
            <a:avLst>
              <a:gd name="adj1" fmla="val 81787"/>
              <a:gd name="adj2" fmla="val -57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1981080" y="586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1"/>
          <p:cNvSpPr/>
          <p:nvPr/>
        </p:nvSpPr>
        <p:spPr>
          <a:xfrm>
            <a:off x="4800960" y="5816520"/>
            <a:ext cx="134496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&lt;или&gt;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БлокТекста1"/>
          <p:cNvSpPr/>
          <p:nvPr/>
        </p:nvSpPr>
        <p:spPr>
          <a:xfrm>
            <a:off x="533520" y="457200"/>
            <a:ext cx="48765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8.  Часть 1, задание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0"/>
          <p:cNvSpPr/>
          <p:nvPr/>
        </p:nvSpPr>
        <p:spPr>
          <a:xfrm>
            <a:off x="228600" y="1219320"/>
            <a:ext cx="7238880" cy="456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нтовые хранилища жидких радиоактивных продуктов и места захоронения твёрдых отходов могут быть источниками загрязнения грунтов, грунтовых и подземных (глубинных) вод. Поэтому для предупреждения и предотвращения опасных радиоактивных загрязнений проводится контроль за движением грунтовых вод от пунктов захоронения до выхода грунтовых вод к поверхностному водоисточнику. Этот контроль осуществляется с помощью специальных карт движения грунтовых вод и возможной миграции загрязн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Контроль за распространением радиоактивных продуктов в грунтовом потоке проводится в наблюдательных скважинах, глубина и расположение которых зависят от назначения сооружений, гидрогеологических условий и характеристик гру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Во избежание опасных радиоактивных загрязнений с помощью специальных карт осуществляется контроль за движением грунтовых вод от пунктов захоронения радиоактивных отходов до выхода к поверхностному водоисточни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Жидкие и твёрдые радиоактивные отходы являются источниками загрязнения грунтов, грунтовых и подземных (глубинных) в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Направление движения и скорость грунтовых и подземных (глубинных) вод требует жёсткого контроля, поэтому необходимо создавать специальные гидрогеологические карты разных районов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Для предупреждения и предотвращения опасных радиоактивных загрязн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ится  контроль за движением грунтовых вод от пунктов захоронения д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а грунтовых вод к поверхностному водоисточн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2"/>
          <p:cNvSpPr/>
          <p:nvPr/>
        </p:nvSpPr>
        <p:spPr>
          <a:xfrm flipV="1">
            <a:off x="1981080" y="5866560"/>
            <a:ext cx="2057400" cy="304920"/>
          </a:xfrm>
          <a:prstGeom prst="wedgeRectCallout">
            <a:avLst>
              <a:gd name="adj1" fmla="val 81787"/>
              <a:gd name="adj2" fmla="val -57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1981080" y="586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1"/>
          <p:cNvSpPr/>
          <p:nvPr/>
        </p:nvSpPr>
        <p:spPr>
          <a:xfrm>
            <a:off x="4800960" y="5816520"/>
            <a:ext cx="134496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&lt;или&gt;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БлокТекста1"/>
          <p:cNvSpPr/>
          <p:nvPr/>
        </p:nvSpPr>
        <p:spPr>
          <a:xfrm>
            <a:off x="533520" y="457200"/>
            <a:ext cx="48765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9.  Часть 1, задание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0"/>
          <p:cNvSpPr/>
          <p:nvPr/>
        </p:nvSpPr>
        <p:spPr>
          <a:xfrm>
            <a:off x="228600" y="1447920"/>
            <a:ext cx="7238880" cy="393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вещества, с которыми мы встречаемся в окружающем нас мире, бывают или жидкими, или твердыми, или газообразными. Эти состояния веществ называют агрегатными состояниями. Многие вещества при охлаждении или нагревании можно перевести из одного состояния в другое, и при этом они неожиданно приобретают совсем другие св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их из приведённых ниже предложений верно передана ГЛАВНАЯ информация, содержащаяся в тексте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Каждое вещество представлено в одном из агрегатных состояний – жидком, твердом или газообразном – и обладает при этом определенными неизменными свойств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ри охлаждении или нагревании многие вещества меняют свое агрегатное состояние – жидкое, твердое или газообразное, приобретая при этом совсем другие св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ногие вещества при охлаждении неожиданно приобретают новые св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Все вещества, с которыми мы встречаемся в окружающем нас мире, бывают или жидкими, или твердыми, или газообраз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Многие вещества из  жидких,  твердых, или газообразных при  охлаждении 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гревании могут  перейти из одного состояния в дру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2"/>
          <p:cNvSpPr/>
          <p:nvPr/>
        </p:nvSpPr>
        <p:spPr>
          <a:xfrm flipV="1">
            <a:off x="1981080" y="5866560"/>
            <a:ext cx="2057400" cy="304920"/>
          </a:xfrm>
          <a:prstGeom prst="wedgeRectCallout">
            <a:avLst>
              <a:gd name="adj1" fmla="val 81787"/>
              <a:gd name="adj2" fmla="val -57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1981080" y="586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1"/>
          <p:cNvSpPr/>
          <p:nvPr/>
        </p:nvSpPr>
        <p:spPr>
          <a:xfrm>
            <a:off x="4800960" y="5816520"/>
            <a:ext cx="134496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&lt;или&gt;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БлокТекста1"/>
          <p:cNvSpPr/>
          <p:nvPr/>
        </p:nvSpPr>
        <p:spPr>
          <a:xfrm>
            <a:off x="533520" y="457200"/>
            <a:ext cx="48765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10.  Часть 1, задание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7"/>
          <p:cNvSpPr/>
          <p:nvPr/>
        </p:nvSpPr>
        <p:spPr>
          <a:xfrm>
            <a:off x="7620120" y="152280"/>
            <a:ext cx="12999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WordArt 10" descr=""/>
          <p:cNvPicPr/>
          <p:nvPr/>
        </p:nvPicPr>
        <p:blipFill>
          <a:blip r:embed="rId1"/>
          <a:stretch/>
        </p:blipFill>
        <p:spPr>
          <a:xfrm>
            <a:off x="7656480" y="304920"/>
            <a:ext cx="1133640" cy="566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eyes_4_hc"/>
          <p:cNvPicPr/>
          <p:nvPr/>
        </p:nvPicPr>
        <p:blipFill>
          <a:blip r:embed="rId2"/>
          <a:stretch/>
        </p:blipFill>
        <p:spPr>
          <a:xfrm>
            <a:off x="7772400" y="1371600"/>
            <a:ext cx="1117440" cy="1359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walking_5_hc"/>
          <p:cNvPicPr/>
          <p:nvPr/>
        </p:nvPicPr>
        <p:blipFill>
          <a:blip r:embed="rId3"/>
          <a:stretch/>
        </p:blipFill>
        <p:spPr>
          <a:xfrm>
            <a:off x="7686720" y="3581280"/>
            <a:ext cx="1457280" cy="20304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0"/>
          <p:cNvSpPr/>
          <p:nvPr/>
        </p:nvSpPr>
        <p:spPr>
          <a:xfrm>
            <a:off x="228600" y="838080"/>
            <a:ext cx="7238880" cy="15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огда в горах отламываются не мелкие обломки, а огромные глыбы породы; обрушившись вниз, они разбиваются на более мелкие части, загромождая долины. Такое явление называется обвалом. Чаще всего так обрушиваются скалы, сложенные слоями осадочных пород, причём слои эти должны залегать не горизонтально, а под углом к горизонту — по этим слоям и проходят трещины, приводящие к обва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лаждении или нагревании могут  перейти из одного состояния в дру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2"/>
          <p:cNvSpPr/>
          <p:nvPr/>
        </p:nvSpPr>
        <p:spPr>
          <a:xfrm flipV="1">
            <a:off x="2362320" y="5942880"/>
            <a:ext cx="2057400" cy="304920"/>
          </a:xfrm>
          <a:prstGeom prst="wedgeRectCallout">
            <a:avLst>
              <a:gd name="adj1" fmla="val 78162"/>
              <a:gd name="adj2" fmla="val -11406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2362320" y="59436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1"/>
          <p:cNvSpPr/>
          <p:nvPr/>
        </p:nvSpPr>
        <p:spPr>
          <a:xfrm>
            <a:off x="5182200" y="6248520"/>
            <a:ext cx="134496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&lt;или&gt;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БлокТекста1"/>
          <p:cNvSpPr/>
          <p:nvPr/>
        </p:nvSpPr>
        <p:spPr>
          <a:xfrm>
            <a:off x="533520" y="228600"/>
            <a:ext cx="48765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11.  Часть 1, задание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2"/>
          <p:cNvSpPr/>
          <p:nvPr/>
        </p:nvSpPr>
        <p:spPr>
          <a:xfrm>
            <a:off x="380880" y="2588040"/>
            <a:ext cx="7086600" cy="3022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ком из приведённых ниже предложений вер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дана  ГЛАВНАЯ  информация, содержащаяся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  Обвал — это загромождение долин огромными глыбами пород, которы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бились на более мелкие ча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2)   К обвалу — обрушению скал и загромождению их обломками долин 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ычно приводит появление трещин по слоям осадочных пород, залег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углом к горизонт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3)   Скалы, сложенные слоями осадочных пород, всегда обрушиваются в доли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агромождают их огромными каменными глыб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4)  Обвалом называется явление, возникающее вследствие обрушени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ины мелких обломков осадочных по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Появление трещин по слоям осадочных пород, залегающих под углом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изонту в горах, приводит к обвалу - обрушению скал и загроможд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х обломками до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Картинка3" descr="для игр Alawar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1908000" y="476280"/>
            <a:ext cx="5212080" cy="5211720"/>
          </a:xfrm>
          <a:prstGeom prst="rect">
            <a:avLst/>
          </a:prstGeom>
          <a:ln w="0">
            <a:noFill/>
          </a:ln>
        </p:spPr>
      </p:pic>
      <p:sp>
        <p:nvSpPr>
          <p:cNvPr id="447" name="БлокТекста2"/>
          <p:cNvSpPr/>
          <p:nvPr/>
        </p:nvSpPr>
        <p:spPr>
          <a:xfrm rot="587400">
            <a:off x="3656880" y="2209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наж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связи  пред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екс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Картинка2" descr="Check Mark Clip art - Support - Download vector clip art online"/>
          <p:cNvPicPr/>
          <p:nvPr/>
        </p:nvPicPr>
        <p:blipFill>
          <a:blip r:embed="rId2"/>
          <a:stretch/>
        </p:blipFill>
        <p:spPr>
          <a:xfrm>
            <a:off x="4191120" y="2286000"/>
            <a:ext cx="4343400" cy="4022640"/>
          </a:xfrm>
          <a:prstGeom prst="rect">
            <a:avLst/>
          </a:prstGeom>
          <a:ln w="0">
            <a:noFill/>
          </a:ln>
        </p:spPr>
      </p:pic>
      <p:pic>
        <p:nvPicPr>
          <p:cNvPr id="449" name="Картинка1" descr="Неотражение доходов в книге учета доходов и расходов по форме 10. - 5 Декабря 2013 - Blog - Megaresurs"/>
          <p:cNvPicPr/>
          <p:nvPr/>
        </p:nvPicPr>
        <p:blipFill>
          <a:blip r:embed="rId3"/>
          <a:stretch/>
        </p:blipFill>
        <p:spPr>
          <a:xfrm>
            <a:off x="7315200" y="22860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450" name="БлокТекста1"/>
          <p:cNvSpPr/>
          <p:nvPr/>
        </p:nvSpPr>
        <p:spPr>
          <a:xfrm>
            <a:off x="1223280" y="457200"/>
            <a:ext cx="49111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жнения для трен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БлокТекста4"/>
          <p:cNvSpPr/>
          <p:nvPr/>
        </p:nvSpPr>
        <p:spPr>
          <a:xfrm>
            <a:off x="684360" y="5373720"/>
            <a:ext cx="327636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мите на   портф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АвтоФигура1">
            <a:hlinkClick r:id="rId4" action="ppaction://hlinksldjump"/>
          </p:cNvPr>
          <p:cNvSpPr/>
          <p:nvPr/>
        </p:nvSpPr>
        <p:spPr>
          <a:xfrm>
            <a:off x="8317080" y="6237360"/>
            <a:ext cx="576000" cy="455400"/>
          </a:xfrm>
          <a:custGeom>
            <a:avLst/>
            <a:gdLst>
              <a:gd name="textAreaLeft" fmla="*/ 29520 w 576000"/>
              <a:gd name="textAreaRight" fmla="*/ 546480 w 57600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27316" h="21600">
                <a:moveTo>
                  <a:pt x="0" y="0"/>
                </a:moveTo>
                <a:lnTo>
                  <a:pt x="27316" y="0"/>
                </a:lnTo>
                <a:lnTo>
                  <a:pt x="27316" y="21600"/>
                </a:lnTo>
                <a:lnTo>
                  <a:pt x="0" y="21600"/>
                </a:lnTo>
                <a:close/>
              </a:path>
              <a:path fill="lightenLess" w="27316" h="21600">
                <a:moveTo>
                  <a:pt x="0" y="0"/>
                </a:moveTo>
                <a:lnTo>
                  <a:pt x="27316" y="0"/>
                </a:lnTo>
                <a:lnTo>
                  <a:pt x="25916" y="1400"/>
                </a:lnTo>
                <a:lnTo>
                  <a:pt x="1400" y="1400"/>
                </a:lnTo>
                <a:close/>
              </a:path>
              <a:path fill="darken" w="27316" h="21600">
                <a:moveTo>
                  <a:pt x="27316" y="0"/>
                </a:moveTo>
                <a:lnTo>
                  <a:pt x="27316" y="21600"/>
                </a:lnTo>
                <a:lnTo>
                  <a:pt x="25916" y="20200"/>
                </a:lnTo>
                <a:lnTo>
                  <a:pt x="25916" y="1400"/>
                </a:lnTo>
                <a:close/>
              </a:path>
              <a:path fill="darkenLess" w="27316" h="21600">
                <a:moveTo>
                  <a:pt x="27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6" y="20200"/>
                </a:lnTo>
                <a:close/>
              </a:path>
              <a:path fill="lighten" w="27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6" h="21600">
                <a:moveTo>
                  <a:pt x="6651" y="10800"/>
                </a:moveTo>
                <a:lnTo>
                  <a:pt x="20664" y="3794"/>
                </a:lnTo>
                <a:lnTo>
                  <a:pt x="206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250920" y="6021360"/>
            <a:ext cx="5257800" cy="58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крывшемся окне нажмите на 5 снизу строк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дпись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usLang.exe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 «Развитие реч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оугольник3"/>
          <p:cNvSpPr/>
          <p:nvPr/>
        </p:nvSpPr>
        <p:spPr>
          <a:xfrm>
            <a:off x="250920" y="152280"/>
            <a:ext cx="8642160" cy="6324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2"/>
          <p:cNvSpPr/>
          <p:nvPr/>
        </p:nvSpPr>
        <p:spPr>
          <a:xfrm>
            <a:off x="380880" y="48006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247dac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247da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47dac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ловарь лингвис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  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5"/>
          <p:cNvSpPr/>
          <p:nvPr/>
        </p:nvSpPr>
        <p:spPr>
          <a:xfrm>
            <a:off x="1800" y="8368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4"/>
          <p:cNvSpPr/>
          <p:nvPr/>
        </p:nvSpPr>
        <p:spPr>
          <a:xfrm>
            <a:off x="457200" y="342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Правила орф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57200" y="4114800"/>
          <a:ext cx="3962520" cy="4572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247dac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 </a:t>
                      </a: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Правила пунк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Прямоугольник6"/>
          <p:cNvSpPr/>
          <p:nvPr/>
        </p:nvSpPr>
        <p:spPr>
          <a:xfrm>
            <a:off x="454680" y="5694480"/>
            <a:ext cx="60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ЕСТЫ ПО ОРФОГРАФИИ И ПУНК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БлокТекста3"/>
          <p:cNvSpPr/>
          <p:nvPr/>
        </p:nvSpPr>
        <p:spPr>
          <a:xfrm>
            <a:off x="13716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БлокТекста2"/>
          <p:cNvSpPr/>
          <p:nvPr/>
        </p:nvSpPr>
        <p:spPr>
          <a:xfrm>
            <a:off x="1602000" y="380880"/>
            <a:ext cx="316008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 по теори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АвтоФигура2"/>
          <p:cNvSpPr/>
          <p:nvPr/>
        </p:nvSpPr>
        <p:spPr>
          <a:xfrm>
            <a:off x="1981080" y="1600200"/>
            <a:ext cx="1143000" cy="6858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БлокТекста1"/>
          <p:cNvSpPr/>
          <p:nvPr/>
        </p:nvSpPr>
        <p:spPr>
          <a:xfrm>
            <a:off x="606960" y="2514600"/>
            <a:ext cx="335052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жимать на ссылку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е «Показ слай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Картинка1" descr="ПВГУС. Тольятти :: Информация о вузе в соответствии с требованиями законодательства РФ"/>
          <p:cNvPicPr/>
          <p:nvPr/>
        </p:nvPicPr>
        <p:blipFill>
          <a:blip r:embed="rId7"/>
          <a:stretch/>
        </p:blipFill>
        <p:spPr>
          <a:xfrm>
            <a:off x="6553080" y="304920"/>
            <a:ext cx="2055960" cy="2133360"/>
          </a:xfrm>
          <a:prstGeom prst="rect">
            <a:avLst/>
          </a:prstGeom>
          <a:ln w="0">
            <a:noFill/>
          </a:ln>
        </p:spPr>
      </p:pic>
      <p:pic>
        <p:nvPicPr>
          <p:cNvPr id="465" name="Картинка2" descr="image1"/>
          <p:cNvPicPr/>
          <p:nvPr/>
        </p:nvPicPr>
        <p:blipFill>
          <a:blip r:embed="rId8"/>
          <a:stretch/>
        </p:blipFill>
        <p:spPr>
          <a:xfrm>
            <a:off x="5867280" y="2819520"/>
            <a:ext cx="2630520" cy="2666880"/>
          </a:xfrm>
          <a:prstGeom prst="rect">
            <a:avLst/>
          </a:prstGeom>
          <a:ln w="0">
            <a:noFill/>
          </a:ln>
        </p:spPr>
      </p:pic>
      <p:sp>
        <p:nvSpPr>
          <p:cNvPr id="466" name="АвтоФигура1"/>
          <p:cNvSpPr/>
          <p:nvPr/>
        </p:nvSpPr>
        <p:spPr>
          <a:xfrm>
            <a:off x="7924680" y="5562720"/>
            <a:ext cx="838440" cy="814320"/>
          </a:xfrm>
          <a:custGeom>
            <a:avLst/>
            <a:gdLst>
              <a:gd name="textAreaLeft" fmla="*/ 52560 w 838440"/>
              <a:gd name="textAreaRight" fmla="*/ 785880 w 8384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40" h="21600">
                <a:moveTo>
                  <a:pt x="0" y="0"/>
                </a:moveTo>
                <a:lnTo>
                  <a:pt x="22240" y="0"/>
                </a:lnTo>
                <a:lnTo>
                  <a:pt x="22240" y="21600"/>
                </a:lnTo>
                <a:lnTo>
                  <a:pt x="0" y="21600"/>
                </a:lnTo>
                <a:close/>
              </a:path>
              <a:path fill="lightenLess" w="22240" h="21600">
                <a:moveTo>
                  <a:pt x="0" y="0"/>
                </a:moveTo>
                <a:lnTo>
                  <a:pt x="22240" y="0"/>
                </a:lnTo>
                <a:lnTo>
                  <a:pt x="20840" y="1400"/>
                </a:lnTo>
                <a:lnTo>
                  <a:pt x="1400" y="1400"/>
                </a:lnTo>
                <a:close/>
              </a:path>
              <a:path fill="darken" w="22240" h="21600">
                <a:moveTo>
                  <a:pt x="22240" y="0"/>
                </a:moveTo>
                <a:lnTo>
                  <a:pt x="22240" y="21600"/>
                </a:lnTo>
                <a:lnTo>
                  <a:pt x="20840" y="20200"/>
                </a:lnTo>
                <a:lnTo>
                  <a:pt x="20840" y="1400"/>
                </a:lnTo>
                <a:close/>
              </a:path>
              <a:path fill="darkenLess" w="22240" h="21600">
                <a:moveTo>
                  <a:pt x="22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0" y="20200"/>
                </a:lnTo>
                <a:close/>
              </a:path>
              <a:path fill="lighten" w="22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0" h="21600">
                <a:moveTo>
                  <a:pt x="4113" y="10800"/>
                </a:moveTo>
                <a:lnTo>
                  <a:pt x="18126" y="3794"/>
                </a:lnTo>
                <a:lnTo>
                  <a:pt x="1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2674800" y="6400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1"/>
          <p:cNvSpPr/>
          <p:nvPr/>
        </p:nvSpPr>
        <p:spPr>
          <a:xfrm>
            <a:off x="3132360" y="64911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сылка для всех 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6256440" y="5562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онная обработка  письменных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текстов  различных стилей и жанров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Учитель ГБОУ Школа 484  КУЛИЧЕВА Г,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одержимое 2"/>
          <p:cNvSpPr/>
          <p:nvPr/>
        </p:nvSpPr>
        <p:spPr>
          <a:xfrm>
            <a:off x="457200" y="2133720"/>
            <a:ext cx="8229600" cy="4114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SzPct val="9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онова Ю. С. Русский язык. ЕГЭ. (Раздаточный  материал тренировочных тестов.) СПб.: Тригон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SzPct val="9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чкова Л.И. ЕГЭ 2007. Русский язык. Типовые тестовые задания.- М.: Экзамен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SzPct val="9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ыбулько И.П., Львова С.И., Коханова В.А. ЕГЭ-2007. Русский язык. Тренировочные задания .- М.: Просвещение, Эксмо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new.fipi.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usskiy-na-5.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ramot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u.wikipedia.org›Научный сти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АвтоФигура8"/>
          <p:cNvSpPr/>
          <p:nvPr/>
        </p:nvSpPr>
        <p:spPr>
          <a:xfrm>
            <a:off x="6443640" y="6021360"/>
            <a:ext cx="2514600" cy="6094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АвтоФигура9"/>
          <p:cNvSpPr/>
          <p:nvPr/>
        </p:nvSpPr>
        <p:spPr>
          <a:xfrm>
            <a:off x="3276720" y="2492280"/>
            <a:ext cx="2514600" cy="60984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ы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>
            <a:hlinkClick r:id="rId1" action="ppaction://hlinksldjump"/>
          </p:cNvPr>
          <p:cNvSpPr/>
          <p:nvPr/>
        </p:nvSpPr>
        <p:spPr>
          <a:xfrm>
            <a:off x="6443640" y="2565360"/>
            <a:ext cx="2514600" cy="6094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>
            <a:hlinkClick r:id="rId2" action="ppaction://hlinksldjump"/>
          </p:cNvPr>
          <p:cNvSpPr/>
          <p:nvPr/>
        </p:nvSpPr>
        <p:spPr>
          <a:xfrm>
            <a:off x="179280" y="2565360"/>
            <a:ext cx="2514600" cy="6094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7088040" y="26668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992160" y="26668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7090920" y="6019920"/>
            <a:ext cx="150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3505320" y="21337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АвтоФигура1"/>
          <p:cNvSpPr/>
          <p:nvPr/>
        </p:nvSpPr>
        <p:spPr>
          <a:xfrm>
            <a:off x="6553080" y="1066680"/>
            <a:ext cx="281160" cy="68580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685800"/>
              <a:gd name="textAreaBottom" fmla="*/ 672120 h 685800"/>
            </a:gdLst>
            <a:ahLst/>
            <a:rect l="textAreaLeft" t="textAreaTop" r="textAreaRight" b="textAreaBottom"/>
            <a:pathLst>
              <a:path w="21600" h="52647">
                <a:moveTo>
                  <a:pt x="3599" y="0"/>
                </a:moveTo>
                <a:arcTo wR="3599" hR="3599" stAng="16200000" swAng="-5400000"/>
                <a:lnTo>
                  <a:pt x="0" y="49048"/>
                </a:lnTo>
                <a:arcTo wR="3599" hR="3599" stAng="10800000" swAng="-5400000"/>
                <a:lnTo>
                  <a:pt x="18001" y="52647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АвтоФигура2"/>
          <p:cNvSpPr/>
          <p:nvPr/>
        </p:nvSpPr>
        <p:spPr>
          <a:xfrm>
            <a:off x="6934320" y="1295280"/>
            <a:ext cx="210960" cy="457200"/>
          </a:xfrm>
          <a:custGeom>
            <a:avLst/>
            <a:gdLst>
              <a:gd name="textAreaLeft" fmla="*/ 10080 w 210960"/>
              <a:gd name="textAreaRight" fmla="*/ 200880 w 210960"/>
              <a:gd name="textAreaTop" fmla="*/ 10080 h 457200"/>
              <a:gd name="textAreaBottom" fmla="*/ 447120 h 457200"/>
            </a:gdLst>
            <a:ahLst/>
            <a:rect l="textAreaLeft" t="textAreaTop" r="textAreaRight" b="textAreaBottom"/>
            <a:pathLst>
              <a:path w="21600" h="46769">
                <a:moveTo>
                  <a:pt x="3599" y="0"/>
                </a:moveTo>
                <a:arcTo wR="3599" hR="3599" stAng="16200000" swAng="-5400000"/>
                <a:lnTo>
                  <a:pt x="0" y="43170"/>
                </a:lnTo>
                <a:arcTo wR="3599" hR="3599" stAng="10800000" swAng="-5400000"/>
                <a:lnTo>
                  <a:pt x="18001" y="46769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АвтоФигура3"/>
          <p:cNvSpPr/>
          <p:nvPr/>
        </p:nvSpPr>
        <p:spPr>
          <a:xfrm>
            <a:off x="7315200" y="1447920"/>
            <a:ext cx="210960" cy="304560"/>
          </a:xfrm>
          <a:custGeom>
            <a:avLst/>
            <a:gdLst>
              <a:gd name="textAreaLeft" fmla="*/ 10080 w 210960"/>
              <a:gd name="textAreaRight" fmla="*/ 200880 w 210960"/>
              <a:gd name="textAreaTop" fmla="*/ 10080 h 304560"/>
              <a:gd name="textAreaBottom" fmla="*/ 294480 h 304560"/>
            </a:gdLst>
            <a:ahLst/>
            <a:rect l="textAreaLeft" t="textAreaTop" r="textAreaRight" b="textAreaBottom"/>
            <a:pathLst>
              <a:path w="21600" h="31167">
                <a:moveTo>
                  <a:pt x="3599" y="0"/>
                </a:moveTo>
                <a:arcTo wR="3599" hR="3599" stAng="16200000" swAng="-5400000"/>
                <a:lnTo>
                  <a:pt x="0" y="27568"/>
                </a:lnTo>
                <a:arcTo wR="3599" hR="3599" stAng="10800000" swAng="-5400000"/>
                <a:lnTo>
                  <a:pt x="18001" y="31167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Картинка4" descr="для игр Alawar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640080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Картинка1" descr="doska"/>
          <p:cNvPicPr/>
          <p:nvPr/>
        </p:nvPicPr>
        <p:blipFill>
          <a:blip r:embed="rId4"/>
          <a:stretch/>
        </p:blipFill>
        <p:spPr>
          <a:xfrm>
            <a:off x="2895480" y="3276720"/>
            <a:ext cx="3276720" cy="2458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7"/>
          <p:cNvSpPr/>
          <p:nvPr/>
        </p:nvSpPr>
        <p:spPr>
          <a:xfrm>
            <a:off x="3276720" y="365760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формационная обработка письменных текстов  различных стилей и жан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Картинка2" descr="internet-md"/>
          <p:cNvPicPr/>
          <p:nvPr/>
        </p:nvPicPr>
        <p:blipFill>
          <a:blip r:embed="rId5"/>
          <a:stretch/>
        </p:blipFill>
        <p:spPr>
          <a:xfrm>
            <a:off x="228600" y="3429000"/>
            <a:ext cx="2438280" cy="2266920"/>
          </a:xfrm>
          <a:prstGeom prst="rect">
            <a:avLst/>
          </a:prstGeom>
          <a:ln w="0">
            <a:noFill/>
          </a:ln>
        </p:spPr>
      </p:pic>
      <p:sp>
        <p:nvSpPr>
          <p:cNvPr id="156" name="АвтоФигура11"/>
          <p:cNvSpPr/>
          <p:nvPr/>
        </p:nvSpPr>
        <p:spPr>
          <a:xfrm>
            <a:off x="179280" y="5950080"/>
            <a:ext cx="2514600" cy="6094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 -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203640" y="6021360"/>
            <a:ext cx="2514600" cy="6094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ец 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АвтоФигура10"/>
          <p:cNvSpPr/>
          <p:nvPr/>
        </p:nvSpPr>
        <p:spPr>
          <a:xfrm>
            <a:off x="3200400" y="304920"/>
            <a:ext cx="2743200" cy="19810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WordArt 10" descr=""/>
          <p:cNvPicPr/>
          <p:nvPr/>
        </p:nvPicPr>
        <p:blipFill>
          <a:blip r:embed="rId6"/>
          <a:stretch/>
        </p:blipFill>
        <p:spPr>
          <a:xfrm>
            <a:off x="3560760" y="1627200"/>
            <a:ext cx="2054160" cy="525600"/>
          </a:xfrm>
          <a:prstGeom prst="rect">
            <a:avLst/>
          </a:prstGeom>
          <a:ln w="0">
            <a:noFill/>
          </a:ln>
        </p:spPr>
      </p:pic>
      <p:pic>
        <p:nvPicPr>
          <p:cNvPr id="160" name="Картинка3" descr="vector check mark - Item 3 Vector Magz Free Download Vector Graphics"/>
          <p:cNvPicPr/>
          <p:nvPr/>
        </p:nvPicPr>
        <p:blipFill>
          <a:blip r:embed="rId7"/>
          <a:stretch/>
        </p:blipFill>
        <p:spPr>
          <a:xfrm>
            <a:off x="3429000" y="304920"/>
            <a:ext cx="914400" cy="847440"/>
          </a:xfrm>
          <a:prstGeom prst="rect">
            <a:avLst/>
          </a:prstGeom>
          <a:ln w="0">
            <a:noFill/>
          </a:ln>
        </p:spPr>
      </p:pic>
      <p:pic>
        <p:nvPicPr>
          <p:cNvPr id="161" name="Картинка5" descr="vector check mark - Item 3 Vector Magz Free Download Vector Graphics"/>
          <p:cNvPicPr/>
          <p:nvPr/>
        </p:nvPicPr>
        <p:blipFill>
          <a:blip r:embed="rId8"/>
          <a:stretch/>
        </p:blipFill>
        <p:spPr>
          <a:xfrm>
            <a:off x="3505320" y="685800"/>
            <a:ext cx="914400" cy="8478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3"/>
          <p:cNvSpPr/>
          <p:nvPr/>
        </p:nvSpPr>
        <p:spPr>
          <a:xfrm>
            <a:off x="6172200" y="380880"/>
            <a:ext cx="2666880" cy="190512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АвтоФигура5"/>
          <p:cNvSpPr/>
          <p:nvPr/>
        </p:nvSpPr>
        <p:spPr>
          <a:xfrm>
            <a:off x="6400800" y="685800"/>
            <a:ext cx="561960" cy="1295280"/>
          </a:xfrm>
          <a:custGeom>
            <a:avLst/>
            <a:gdLst>
              <a:gd name="textAreaLeft" fmla="*/ 27360 w 561960"/>
              <a:gd name="textAreaRight" fmla="*/ 534600 w 5619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769">
                <a:moveTo>
                  <a:pt x="3599" y="0"/>
                </a:moveTo>
                <a:arcTo wR="3599" hR="3599" stAng="16200000" swAng="-5400000"/>
                <a:lnTo>
                  <a:pt x="0" y="46170"/>
                </a:lnTo>
                <a:arcTo wR="3599" hR="3599" stAng="10800000" swAng="-5400000"/>
                <a:lnTo>
                  <a:pt x="18001" y="49769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АвтоФигура4"/>
          <p:cNvSpPr/>
          <p:nvPr/>
        </p:nvSpPr>
        <p:spPr>
          <a:xfrm>
            <a:off x="7086600" y="914400"/>
            <a:ext cx="490680" cy="1066680"/>
          </a:xfrm>
          <a:custGeom>
            <a:avLst/>
            <a:gdLst>
              <a:gd name="textAreaLeft" fmla="*/ 23760 w 490680"/>
              <a:gd name="textAreaRight" fmla="*/ 466920 w 490680"/>
              <a:gd name="textAreaTop" fmla="*/ 23760 h 1066680"/>
              <a:gd name="textAreaBottom" fmla="*/ 1042920 h 1066680"/>
            </a:gdLst>
            <a:ahLst/>
            <a:rect l="textAreaLeft" t="textAreaTop" r="textAreaRight" b="textAreaBottom"/>
            <a:pathLst>
              <a:path w="21600" h="46937">
                <a:moveTo>
                  <a:pt x="3599" y="0"/>
                </a:moveTo>
                <a:arcTo wR="3599" hR="3599" stAng="16200000" swAng="-5400000"/>
                <a:lnTo>
                  <a:pt x="0" y="43338"/>
                </a:lnTo>
                <a:arcTo wR="3599" hR="3599" stAng="10800000" swAng="-5400000"/>
                <a:lnTo>
                  <a:pt x="18001" y="46937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АвтоФигура6"/>
          <p:cNvSpPr/>
          <p:nvPr/>
        </p:nvSpPr>
        <p:spPr>
          <a:xfrm>
            <a:off x="7696080" y="1219320"/>
            <a:ext cx="490680" cy="761760"/>
          </a:xfrm>
          <a:custGeom>
            <a:avLst/>
            <a:gdLst>
              <a:gd name="textAreaLeft" fmla="*/ 23760 w 490680"/>
              <a:gd name="textAreaRight" fmla="*/ 466920 w 490680"/>
              <a:gd name="textAreaTop" fmla="*/ 23760 h 761760"/>
              <a:gd name="textAreaBottom" fmla="*/ 738000 h 761760"/>
            </a:gdLst>
            <a:ahLst/>
            <a:rect l="textAreaLeft" t="textAreaTop" r="textAreaRight" b="textAreaBottom"/>
            <a:pathLst>
              <a:path w="21600" h="33524">
                <a:moveTo>
                  <a:pt x="3599" y="0"/>
                </a:moveTo>
                <a:arcTo wR="3599" hR="3599" stAng="16200000" swAng="-5400000"/>
                <a:lnTo>
                  <a:pt x="0" y="29925"/>
                </a:lnTo>
                <a:arcTo wR="3599" hR="3599" stAng="10800000" swAng="-5400000"/>
                <a:lnTo>
                  <a:pt x="18001" y="33524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АвтоФигура7"/>
          <p:cNvSpPr/>
          <p:nvPr/>
        </p:nvSpPr>
        <p:spPr>
          <a:xfrm>
            <a:off x="8305920" y="1447920"/>
            <a:ext cx="420480" cy="533160"/>
          </a:xfrm>
          <a:custGeom>
            <a:avLst/>
            <a:gdLst>
              <a:gd name="textAreaLeft" fmla="*/ 20520 w 420480"/>
              <a:gd name="textAreaRight" fmla="*/ 399960 w 420480"/>
              <a:gd name="textAreaTop" fmla="*/ 20520 h 533160"/>
              <a:gd name="textAreaBottom" fmla="*/ 512640 h 533160"/>
            </a:gdLst>
            <a:ahLst/>
            <a:rect l="textAreaLeft" t="textAreaTop" r="textAreaRight" b="textAreaBottom"/>
            <a:pathLst>
              <a:path w="21600" h="27383">
                <a:moveTo>
                  <a:pt x="3599" y="0"/>
                </a:moveTo>
                <a:arcTo wR="3599" hR="3599" stAng="16200000" swAng="-5400000"/>
                <a:lnTo>
                  <a:pt x="0" y="23784"/>
                </a:lnTo>
                <a:arcTo wR="3599" hR="3599" stAng="10800000" swAng="-5400000"/>
                <a:lnTo>
                  <a:pt x="18001" y="27383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АвтоФигура12"/>
          <p:cNvSpPr/>
          <p:nvPr/>
        </p:nvSpPr>
        <p:spPr>
          <a:xfrm>
            <a:off x="152280" y="304920"/>
            <a:ext cx="2667240" cy="1981080"/>
          </a:xfrm>
          <a:prstGeom prst="flowChartTerminator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162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Картинка6" descr="Клипарты Записи в рубрике Клипарты Дневник Staruha_Tanua : LiveInternet - Российский Сервис Онлайн-Дневников"/>
          <p:cNvPicPr/>
          <p:nvPr/>
        </p:nvPicPr>
        <p:blipFill>
          <a:blip r:embed="rId9"/>
          <a:stretch/>
        </p:blipFill>
        <p:spPr>
          <a:xfrm>
            <a:off x="533520" y="685800"/>
            <a:ext cx="19810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оловокСлайда1"/>
          <p:cNvSpPr/>
          <p:nvPr/>
        </p:nvSpPr>
        <p:spPr>
          <a:xfrm>
            <a:off x="2590920" y="228600"/>
            <a:ext cx="4952880" cy="731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знания и  умения  необходим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полнения первого зад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Линия1"/>
          <p:cNvSpPr/>
          <p:nvPr/>
        </p:nvSpPr>
        <p:spPr>
          <a:xfrm>
            <a:off x="22860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Картинка1" descr="1887"/>
          <p:cNvPicPr/>
          <p:nvPr/>
        </p:nvPicPr>
        <p:blipFill>
          <a:blip r:embed="rId1"/>
          <a:stretch/>
        </p:blipFill>
        <p:spPr>
          <a:xfrm>
            <a:off x="228600" y="533520"/>
            <a:ext cx="19350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Кривая1"/>
          <p:cNvSpPr/>
          <p:nvPr/>
        </p:nvSpPr>
        <p:spPr>
          <a:xfrm rot="3816600">
            <a:off x="6736320" y="1873800"/>
            <a:ext cx="1752840" cy="1967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5000" y="10000"/>
                </a:moveTo>
                <a:cubicBezTo>
                  <a:pt x="15000" y="7237"/>
                  <a:pt x="12761" y="5000"/>
                  <a:pt x="10000" y="5000"/>
                </a:cubicBezTo>
                <a:cubicBezTo>
                  <a:pt x="7237" y="5000"/>
                  <a:pt x="5000" y="7237"/>
                  <a:pt x="5000" y="10000"/>
                </a:cubicBezTo>
                <a:cubicBezTo>
                  <a:pt x="5000" y="10000"/>
                  <a:pt x="0" y="10000"/>
                  <a:pt x="0" y="10000"/>
                </a:cubicBezTo>
                <a:cubicBezTo>
                  <a:pt x="0" y="4476"/>
                  <a:pt x="4476" y="0"/>
                  <a:pt x="10000" y="0"/>
                </a:cubicBezTo>
                <a:cubicBezTo>
                  <a:pt x="15522" y="0"/>
                  <a:pt x="19999" y="4476"/>
                  <a:pt x="20000" y="9999"/>
                </a:cubicBezTo>
                <a:lnTo>
                  <a:pt x="20000" y="10000"/>
                </a:lnTo>
                <a:lnTo>
                  <a:pt x="17500" y="15000"/>
                </a:lnTo>
                <a:lnTo>
                  <a:pt x="12500" y="10000"/>
                </a:lnTo>
                <a:lnTo>
                  <a:pt x="15000" y="100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1"/>
          <p:cNvSpPr/>
          <p:nvPr/>
        </p:nvSpPr>
        <p:spPr>
          <a:xfrm>
            <a:off x="228600" y="3886200"/>
            <a:ext cx="762012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ие задания требует от выпускников навыков по обработк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, проверяет  умение  адекватно понимать основную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ую, явную и скрытую информацию письменного сообщ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е состоит из небольшого текста научного стиля речи (3 предложе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5 вариантов предложений, из которых надо выбрать 2 предложения, в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ающих  главную информацию, содержащуюся в тексте. Необход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овить логику  построения текста, понять связи между част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сторонне  проанализировать содержание. Вычеркнув второстепен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ю (разного рода  пояснения, детали, описания незначит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в), выделить  главную  информ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2"/>
          <p:cNvSpPr/>
          <p:nvPr/>
        </p:nvSpPr>
        <p:spPr>
          <a:xfrm>
            <a:off x="2484360" y="1844640"/>
            <a:ext cx="4464000" cy="116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ение задания 1 части 1 треб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ния следующих тем  по кодификатор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Русский язык ЕГЭ 2018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. Информационная обработка текстов различных стилей и жан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АвтоФигура1"/>
          <p:cNvSpPr/>
          <p:nvPr/>
        </p:nvSpPr>
        <p:spPr>
          <a:xfrm>
            <a:off x="4343400" y="1143000"/>
            <a:ext cx="838080" cy="457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АвтоФигура1">
            <a:hlinkClick r:id="rId2" action="ppaction://hlinksldjump"/>
          </p:cNvPr>
          <p:cNvSpPr/>
          <p:nvPr/>
        </p:nvSpPr>
        <p:spPr>
          <a:xfrm>
            <a:off x="8317080" y="6237360"/>
            <a:ext cx="576000" cy="455400"/>
          </a:xfrm>
          <a:custGeom>
            <a:avLst/>
            <a:gdLst>
              <a:gd name="textAreaLeft" fmla="*/ 29520 w 576000"/>
              <a:gd name="textAreaRight" fmla="*/ 546480 w 57600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27316" h="21600">
                <a:moveTo>
                  <a:pt x="0" y="0"/>
                </a:moveTo>
                <a:lnTo>
                  <a:pt x="27316" y="0"/>
                </a:lnTo>
                <a:lnTo>
                  <a:pt x="27316" y="21600"/>
                </a:lnTo>
                <a:lnTo>
                  <a:pt x="0" y="21600"/>
                </a:lnTo>
                <a:close/>
              </a:path>
              <a:path fill="lightenLess" w="27316" h="21600">
                <a:moveTo>
                  <a:pt x="0" y="0"/>
                </a:moveTo>
                <a:lnTo>
                  <a:pt x="27316" y="0"/>
                </a:lnTo>
                <a:lnTo>
                  <a:pt x="25916" y="1400"/>
                </a:lnTo>
                <a:lnTo>
                  <a:pt x="1400" y="1400"/>
                </a:lnTo>
                <a:close/>
              </a:path>
              <a:path fill="darken" w="27316" h="21600">
                <a:moveTo>
                  <a:pt x="27316" y="0"/>
                </a:moveTo>
                <a:lnTo>
                  <a:pt x="27316" y="21600"/>
                </a:lnTo>
                <a:lnTo>
                  <a:pt x="25916" y="20200"/>
                </a:lnTo>
                <a:lnTo>
                  <a:pt x="25916" y="1400"/>
                </a:lnTo>
                <a:close/>
              </a:path>
              <a:path fill="darkenLess" w="27316" h="21600">
                <a:moveTo>
                  <a:pt x="27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6" y="20200"/>
                </a:lnTo>
                <a:close/>
              </a:path>
              <a:path fill="lighten" w="27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6" h="21600">
                <a:moveTo>
                  <a:pt x="6651" y="10800"/>
                </a:moveTo>
                <a:lnTo>
                  <a:pt x="20664" y="3794"/>
                </a:lnTo>
                <a:lnTo>
                  <a:pt x="206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1"/>
          <p:cNvSpPr/>
          <p:nvPr/>
        </p:nvSpPr>
        <p:spPr>
          <a:xfrm>
            <a:off x="228600" y="5362920"/>
            <a:ext cx="8610480" cy="1310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1414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141414"/>
                </a:solidFill>
                <a:latin typeface="Arial"/>
              </a:rPr>
              <a:t>2500 лет назад греческий полководец Мильтиад, обрадованный победой над персами у селения Марафон, вызвал своего самого быстроногого воина и приказал ему: «Беги в Афины и сообщи о долгожданной победе». Больше 40 километров мчался без передышки гонец от Марафона до Афин. Вбежав на рыночную площадь столицы, он успел крикнуть: «Радуйтесь, мы победили!» — и на глазах у народа упал замер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Картинка1" descr="Этот странный марафонский бег"/>
          <p:cNvPicPr/>
          <p:nvPr/>
        </p:nvPicPr>
        <p:blipFill>
          <a:blip r:embed="rId1"/>
          <a:srcRect l="1530" t="1636" r="0" b="0"/>
          <a:stretch/>
        </p:blipFill>
        <p:spPr>
          <a:xfrm>
            <a:off x="4191120" y="914400"/>
            <a:ext cx="4632120" cy="4329000"/>
          </a:xfrm>
          <a:prstGeom prst="rect">
            <a:avLst/>
          </a:prstGeom>
          <a:ln w="0">
            <a:noFill/>
          </a:ln>
        </p:spPr>
      </p:pic>
      <p:pic>
        <p:nvPicPr>
          <p:cNvPr id="179" name="Картинка2" descr="spar3"/>
          <p:cNvPicPr/>
          <p:nvPr/>
        </p:nvPicPr>
        <p:blipFill>
          <a:blip r:embed="rId2"/>
          <a:srcRect l="0" t="0" r="0" b="4639"/>
          <a:stretch/>
        </p:blipFill>
        <p:spPr>
          <a:xfrm>
            <a:off x="228600" y="228600"/>
            <a:ext cx="3727440" cy="5049720"/>
          </a:xfrm>
          <a:prstGeom prst="rect">
            <a:avLst/>
          </a:prstGeom>
          <a:ln w="0">
            <a:noFill/>
          </a:ln>
        </p:spPr>
      </p:pic>
      <p:sp>
        <p:nvSpPr>
          <p:cNvPr id="180" name="БлокТекста1"/>
          <p:cNvSpPr/>
          <p:nvPr/>
        </p:nvSpPr>
        <p:spPr>
          <a:xfrm>
            <a:off x="4263480" y="152280"/>
            <a:ext cx="41400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носитель информац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афонец из Гре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Картинка3" descr="для игр Alawar. Обсуждение на LiveInternet - Российский Сервис Онлайн-Дневников"/>
          <p:cNvPicPr/>
          <p:nvPr/>
        </p:nvPicPr>
        <p:blipFill>
          <a:blip r:embed="rId1"/>
          <a:srcRect l="0" t="25103" r="0" b="0"/>
          <a:stretch/>
        </p:blipFill>
        <p:spPr>
          <a:xfrm>
            <a:off x="5791320" y="3886200"/>
            <a:ext cx="3352680" cy="2509920"/>
          </a:xfrm>
          <a:prstGeom prst="rect">
            <a:avLst/>
          </a:prstGeom>
          <a:ln w="0">
            <a:noFill/>
          </a:ln>
        </p:spPr>
      </p:pic>
      <p:pic>
        <p:nvPicPr>
          <p:cNvPr id="182" name="Картинка4" descr="37000"/>
          <p:cNvPicPr/>
          <p:nvPr/>
        </p:nvPicPr>
        <p:blipFill>
          <a:blip r:embed="rId2"/>
          <a:stretch/>
        </p:blipFill>
        <p:spPr>
          <a:xfrm rot="532800">
            <a:off x="6781680" y="3962520"/>
            <a:ext cx="1905120" cy="1520640"/>
          </a:xfrm>
          <a:prstGeom prst="rect">
            <a:avLst/>
          </a:prstGeom>
          <a:ln w="0">
            <a:noFill/>
          </a:ln>
        </p:spPr>
      </p:pic>
      <p:sp>
        <p:nvSpPr>
          <p:cNvPr id="183" name="БлокТекста3"/>
          <p:cNvSpPr/>
          <p:nvPr/>
        </p:nvSpPr>
        <p:spPr>
          <a:xfrm>
            <a:off x="312120" y="3124080"/>
            <a:ext cx="2891880" cy="337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активное телеви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Картинка2" descr="1274445924_3dtv-now"/>
          <p:cNvPicPr/>
          <p:nvPr/>
        </p:nvPicPr>
        <p:blipFill>
          <a:blip r:embed="rId3"/>
          <a:stretch/>
        </p:blipFill>
        <p:spPr>
          <a:xfrm>
            <a:off x="179280" y="189000"/>
            <a:ext cx="3132360" cy="2482920"/>
          </a:xfrm>
          <a:prstGeom prst="rect">
            <a:avLst/>
          </a:prstGeom>
          <a:ln w="0">
            <a:noFill/>
          </a:ln>
        </p:spPr>
      </p:pic>
      <p:pic>
        <p:nvPicPr>
          <p:cNvPr id="185" name="Картинка1" descr="internet-md"/>
          <p:cNvPicPr/>
          <p:nvPr/>
        </p:nvPicPr>
        <p:blipFill>
          <a:blip r:embed="rId4"/>
          <a:stretch/>
        </p:blipFill>
        <p:spPr>
          <a:xfrm>
            <a:off x="3048120" y="3733920"/>
            <a:ext cx="2361960" cy="2197080"/>
          </a:xfrm>
          <a:prstGeom prst="rect">
            <a:avLst/>
          </a:prstGeom>
          <a:ln w="0">
            <a:noFill/>
          </a:ln>
        </p:spPr>
      </p:pic>
      <p:sp>
        <p:nvSpPr>
          <p:cNvPr id="186" name="БлокТекста1"/>
          <p:cNvSpPr/>
          <p:nvPr/>
        </p:nvSpPr>
        <p:spPr>
          <a:xfrm>
            <a:off x="4727880" y="5638680"/>
            <a:ext cx="107388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Текста2"/>
          <p:cNvSpPr/>
          <p:nvPr/>
        </p:nvSpPr>
        <p:spPr>
          <a:xfrm>
            <a:off x="7547760" y="6477120"/>
            <a:ext cx="123516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локТекста4"/>
          <p:cNvSpPr/>
          <p:nvPr/>
        </p:nvSpPr>
        <p:spPr>
          <a:xfrm>
            <a:off x="992520" y="6373800"/>
            <a:ext cx="773640" cy="33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woorld"/>
          <p:cNvPicPr/>
          <p:nvPr/>
        </p:nvPicPr>
        <p:blipFill>
          <a:blip r:embed="rId5"/>
          <a:stretch/>
        </p:blipFill>
        <p:spPr>
          <a:xfrm>
            <a:off x="762120" y="4038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90" name="Картинка6" descr="Headphone Icon Hardware Iconset IconShow"/>
          <p:cNvPicPr/>
          <p:nvPr/>
        </p:nvPicPr>
        <p:blipFill>
          <a:blip r:embed="rId6"/>
          <a:stretch/>
        </p:blipFill>
        <p:spPr>
          <a:xfrm>
            <a:off x="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Картинка7" descr="groznikopt - Пять цитат"/>
          <p:cNvPicPr/>
          <p:nvPr/>
        </p:nvPicPr>
        <p:blipFill>
          <a:blip r:embed="rId7"/>
          <a:stretch/>
        </p:blipFill>
        <p:spPr>
          <a:xfrm>
            <a:off x="4140360" y="1844640"/>
            <a:ext cx="2233440" cy="15843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1"/>
          <p:cNvSpPr/>
          <p:nvPr/>
        </p:nvSpPr>
        <p:spPr>
          <a:xfrm>
            <a:off x="3492360" y="115920"/>
            <a:ext cx="5508720" cy="1554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й мир – это огромное количество информации. «Кто владеет информацией, т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еет миром», - заметил американский миллиардер Ротшильд  Обработка информации –  преобразование её в другую, краткую, концентрированную. есть важнейшая задача време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Текста5"/>
          <p:cNvSpPr/>
          <p:nvPr/>
        </p:nvSpPr>
        <p:spPr>
          <a:xfrm>
            <a:off x="2514600" y="6140520"/>
            <a:ext cx="42670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́ция (от лат. informatio — разъяснение, изло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Картинка5" descr="Научно-Популярные"/>
          <p:cNvPicPr/>
          <p:nvPr/>
        </p:nvPicPr>
        <p:blipFill>
          <a:blip r:embed="rId8"/>
          <a:stretch/>
        </p:blipFill>
        <p:spPr>
          <a:xfrm>
            <a:off x="7164360" y="1773360"/>
            <a:ext cx="1655640" cy="1866600"/>
          </a:xfrm>
          <a:prstGeom prst="rect">
            <a:avLst/>
          </a:prstGeom>
          <a:ln w="0">
            <a:noFill/>
          </a:ln>
        </p:spPr>
      </p:pic>
      <p:sp>
        <p:nvSpPr>
          <p:cNvPr id="195" name="БлокТекста6"/>
          <p:cNvSpPr/>
          <p:nvPr/>
        </p:nvSpPr>
        <p:spPr>
          <a:xfrm>
            <a:off x="5027760" y="3581280"/>
            <a:ext cx="1704600" cy="307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зеты и журн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692280"/>
            <a:ext cx="8642160" cy="4717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Тек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это речевое произведение, характеризующееся структур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ысловой завершенностью. Чаще всего текст представляет собой ря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ложений (частей) , связанных по смыслу и грамматически. Важней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знаками текста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Тематическая и композиционная ц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личие единой те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 е. того, что описывается, о чем говорится в тексте; наличие единой идеи, т. е. основного вывода, передающего авторское отношение к теме; возможность подобрать заглавие к тексту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уктурная упорядоченность и членим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озможность дел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едложения, абзацы, главы, разделы, идущие в определенной последовательности, а также на темы, подтемы и микротемы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ысловая и грамматическая 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жду частями текста (последовательность и логичность изложения; наличие специальных средств связи между отдельными частями текста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илистическое един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несенность текста к тому или иному стилю: официально-деловому, научному, публицистическому, художественному, разговорному). Текст может состоять из одного предложения (это микротексты, например: афоризм, пословица, поговорка, реклама, объявление), совокупности предложений, объединенных в абзац, нескольких абзацев, гла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544760" y="189000"/>
            <a:ext cx="5662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текст и как с ним работ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Картинка1" descr="Неотражение доходов в книге учета доходов и расходов по форме 10. - 5 Декабря 2013 - Blog - Megaresurs"/>
          <p:cNvPicPr/>
          <p:nvPr/>
        </p:nvPicPr>
        <p:blipFill>
          <a:blip r:embed="rId1"/>
          <a:stretch/>
        </p:blipFill>
        <p:spPr>
          <a:xfrm>
            <a:off x="8028000" y="189000"/>
            <a:ext cx="792000" cy="1197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0920" y="5551560"/>
            <a:ext cx="8353440" cy="1191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задача в работе с текстом - осмысление темы, проблематики и содержания текста, умение устанавливать связи, не показанные в текс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мую; устанавливать последовательность  основных собы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умение «вычитывать», находить нужную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95280" y="981000"/>
            <a:ext cx="5329080" cy="277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оиск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и понимание прочитанного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ть тему и главную мысль тек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дить в тексте сведения, фак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носить факты с общей идеей тек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авливать связи, не показанные в тек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яму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ить текст на смысловые ча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ять план тек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авливать последова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8000" y="189000"/>
            <a:ext cx="626436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 при работе с текстом: преобразование и интерпретация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76720" y="3933720"/>
            <a:ext cx="540072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орядочивать информацию по задан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ивать, выделяя 2-3 существенных призна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оставлять и обобщать содержащуюся в раз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ях текста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дить аргументы, подтверждающие выв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разование и интерпретация информ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казывать текст подробно и сжат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но и  письм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6" descr="1238580595_ss-vector-mix-00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89000"/>
            <a:ext cx="2577960" cy="37098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24"/>
          <p:cNvSpPr/>
          <p:nvPr/>
        </p:nvSpPr>
        <p:spPr>
          <a:xfrm>
            <a:off x="7167600" y="981000"/>
            <a:ext cx="1558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5"/>
          <p:cNvSpPr/>
          <p:nvPr/>
        </p:nvSpPr>
        <p:spPr>
          <a:xfrm rot="323400">
            <a:off x="7022520" y="1844640"/>
            <a:ext cx="799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0_8345c_b2c9eab9_orig"/>
          <p:cNvPicPr/>
          <p:nvPr/>
        </p:nvPicPr>
        <p:blipFill>
          <a:blip r:embed="rId3"/>
          <a:stretch/>
        </p:blipFill>
        <p:spPr>
          <a:xfrm>
            <a:off x="468360" y="3716280"/>
            <a:ext cx="2643120" cy="2997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902520" y="436572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ек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Картинка1" descr="Times Table Flash Card Game--Mofing App"/>
          <p:cNvPicPr/>
          <p:nvPr/>
        </p:nvPicPr>
        <p:blipFill>
          <a:blip r:embed="rId4"/>
          <a:stretch/>
        </p:blipFill>
        <p:spPr>
          <a:xfrm>
            <a:off x="7740720" y="5877000"/>
            <a:ext cx="1224000" cy="836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5939280" y="6308640"/>
            <a:ext cx="12610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164360" y="645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paste"/>
          <p:cNvPicPr/>
          <p:nvPr/>
        </p:nvPicPr>
        <p:blipFill>
          <a:blip r:embed="rId1"/>
          <a:srcRect l="35435" t="29529" r="0" b="0"/>
          <a:stretch/>
        </p:blipFill>
        <p:spPr>
          <a:xfrm>
            <a:off x="152280" y="152280"/>
            <a:ext cx="1573200" cy="1717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paste"/>
          <p:cNvPicPr/>
          <p:nvPr/>
        </p:nvPicPr>
        <p:blipFill>
          <a:blip r:embed="rId2"/>
          <a:srcRect l="39864" t="19194" r="0" b="0"/>
          <a:stretch/>
        </p:blipFill>
        <p:spPr>
          <a:xfrm>
            <a:off x="304920" y="1523880"/>
            <a:ext cx="1463400" cy="213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1"/>
          <p:cNvSpPr/>
          <p:nvPr/>
        </p:nvSpPr>
        <p:spPr>
          <a:xfrm>
            <a:off x="431280" y="117360"/>
            <a:ext cx="767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3" descr="paste"/>
          <p:cNvPicPr/>
          <p:nvPr/>
        </p:nvPicPr>
        <p:blipFill>
          <a:blip r:embed="rId3"/>
          <a:srcRect l="39864" t="19194" r="0" b="0"/>
          <a:stretch/>
        </p:blipFill>
        <p:spPr>
          <a:xfrm>
            <a:off x="533520" y="2895480"/>
            <a:ext cx="1463400" cy="21351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381600" y="1828800"/>
            <a:ext cx="10890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, о чё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вор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533520" y="3036960"/>
            <a:ext cx="126720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бин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т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paste"/>
          <p:cNvPicPr/>
          <p:nvPr/>
        </p:nvPicPr>
        <p:blipFill>
          <a:blip r:embed="rId4"/>
          <a:srcRect l="39864" t="19194" r="0" b="0"/>
          <a:stretch/>
        </p:blipFill>
        <p:spPr>
          <a:xfrm>
            <a:off x="914400" y="3962520"/>
            <a:ext cx="1463760" cy="2135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9"/>
          <p:cNvSpPr/>
          <p:nvPr/>
        </p:nvSpPr>
        <p:spPr>
          <a:xfrm>
            <a:off x="913680" y="4267080"/>
            <a:ext cx="1357200" cy="11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кротема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именьш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ь об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ы тек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5"/>
          <p:cNvSpPr/>
          <p:nvPr/>
        </p:nvSpPr>
        <p:spPr>
          <a:xfrm>
            <a:off x="277560" y="498600"/>
            <a:ext cx="140904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яз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ложени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ейш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АвтоФигура5"/>
          <p:cNvSpPr/>
          <p:nvPr/>
        </p:nvSpPr>
        <p:spPr>
          <a:xfrm>
            <a:off x="3048120" y="4191120"/>
            <a:ext cx="1981080" cy="685800"/>
          </a:xfrm>
          <a:prstGeom prst="roundRect">
            <a:avLst>
              <a:gd name="adj" fmla="val 166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АвтоФигура4"/>
          <p:cNvSpPr/>
          <p:nvPr/>
        </p:nvSpPr>
        <p:spPr>
          <a:xfrm>
            <a:off x="6858000" y="3200400"/>
            <a:ext cx="1981080" cy="685800"/>
          </a:xfrm>
          <a:prstGeom prst="roundRect">
            <a:avLst>
              <a:gd name="adj" fmla="val 166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АвтоФигура3"/>
          <p:cNvSpPr/>
          <p:nvPr/>
        </p:nvSpPr>
        <p:spPr>
          <a:xfrm>
            <a:off x="4952880" y="2133720"/>
            <a:ext cx="1981440" cy="685800"/>
          </a:xfrm>
          <a:prstGeom prst="roundRect">
            <a:avLst>
              <a:gd name="adj" fmla="val 166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АвтоФигура6"/>
          <p:cNvSpPr/>
          <p:nvPr/>
        </p:nvSpPr>
        <p:spPr>
          <a:xfrm>
            <a:off x="3124080" y="3124080"/>
            <a:ext cx="1828800" cy="685800"/>
          </a:xfrm>
          <a:prstGeom prst="roundRect">
            <a:avLst>
              <a:gd name="adj" fmla="val 166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АвтоФигура7"/>
          <p:cNvSpPr/>
          <p:nvPr/>
        </p:nvSpPr>
        <p:spPr>
          <a:xfrm>
            <a:off x="3276720" y="5334120"/>
            <a:ext cx="2514600" cy="761760"/>
          </a:xfrm>
          <a:prstGeom prst="roundRect">
            <a:avLst>
              <a:gd name="adj" fmla="val 16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Линия7"/>
          <p:cNvSpPr/>
          <p:nvPr/>
        </p:nvSpPr>
        <p:spPr>
          <a:xfrm>
            <a:off x="6095880" y="2819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Линия6"/>
          <p:cNvSpPr/>
          <p:nvPr/>
        </p:nvSpPr>
        <p:spPr>
          <a:xfrm>
            <a:off x="60958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АвтоФигура1"/>
          <p:cNvSpPr/>
          <p:nvPr/>
        </p:nvSpPr>
        <p:spPr>
          <a:xfrm>
            <a:off x="6781680" y="4191120"/>
            <a:ext cx="1981440" cy="685800"/>
          </a:xfrm>
          <a:prstGeom prst="roundRect">
            <a:avLst>
              <a:gd name="adj" fmla="val 1666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Линия2"/>
          <p:cNvSpPr/>
          <p:nvPr/>
        </p:nvSpPr>
        <p:spPr>
          <a:xfrm>
            <a:off x="60958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Линия1"/>
          <p:cNvSpPr/>
          <p:nvPr/>
        </p:nvSpPr>
        <p:spPr>
          <a:xfrm flipH="1">
            <a:off x="50288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Линия3"/>
          <p:cNvSpPr/>
          <p:nvPr/>
        </p:nvSpPr>
        <p:spPr>
          <a:xfrm>
            <a:off x="4648320" y="4952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АвтоФигура2"/>
          <p:cNvSpPr/>
          <p:nvPr/>
        </p:nvSpPr>
        <p:spPr>
          <a:xfrm>
            <a:off x="6172200" y="5334120"/>
            <a:ext cx="2514600" cy="761760"/>
          </a:xfrm>
          <a:prstGeom prst="roundRect">
            <a:avLst>
              <a:gd name="adj" fmla="val 16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Линия5"/>
          <p:cNvSpPr/>
          <p:nvPr/>
        </p:nvSpPr>
        <p:spPr>
          <a:xfrm>
            <a:off x="4648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Линия4"/>
          <p:cNvSpPr/>
          <p:nvPr/>
        </p:nvSpPr>
        <p:spPr>
          <a:xfrm>
            <a:off x="7620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1"/>
          <p:cNvSpPr/>
          <p:nvPr/>
        </p:nvSpPr>
        <p:spPr>
          <a:xfrm>
            <a:off x="3204360" y="31240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6"/>
          <p:cNvSpPr/>
          <p:nvPr/>
        </p:nvSpPr>
        <p:spPr>
          <a:xfrm>
            <a:off x="6937200" y="33526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ч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5"/>
          <p:cNvSpPr/>
          <p:nvPr/>
        </p:nvSpPr>
        <p:spPr>
          <a:xfrm>
            <a:off x="3354840" y="43434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4"/>
          <p:cNvSpPr/>
          <p:nvPr/>
        </p:nvSpPr>
        <p:spPr>
          <a:xfrm>
            <a:off x="7012800" y="41911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7"/>
          <p:cNvSpPr/>
          <p:nvPr/>
        </p:nvSpPr>
        <p:spPr>
          <a:xfrm>
            <a:off x="3507120" y="5486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9"/>
          <p:cNvSpPr/>
          <p:nvPr/>
        </p:nvSpPr>
        <p:spPr>
          <a:xfrm>
            <a:off x="6783120" y="54864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8"/>
          <p:cNvSpPr/>
          <p:nvPr/>
        </p:nvSpPr>
        <p:spPr>
          <a:xfrm>
            <a:off x="5562720" y="220968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БлокТекста3"/>
          <p:cNvSpPr/>
          <p:nvPr/>
        </p:nvSpPr>
        <p:spPr>
          <a:xfrm>
            <a:off x="1763640" y="189000"/>
            <a:ext cx="7247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то обратить внимание при работе с текс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Картинка1" descr="Times Table Flash Card Game--Mofing App"/>
          <p:cNvPicPr/>
          <p:nvPr/>
        </p:nvPicPr>
        <p:blipFill>
          <a:blip r:embed="rId5"/>
          <a:stretch/>
        </p:blipFill>
        <p:spPr>
          <a:xfrm>
            <a:off x="179280" y="6021360"/>
            <a:ext cx="990720" cy="660600"/>
          </a:xfrm>
          <a:prstGeom prst="rect">
            <a:avLst/>
          </a:prstGeom>
          <a:ln w="0">
            <a:noFill/>
          </a:ln>
        </p:spPr>
      </p:pic>
      <p:sp>
        <p:nvSpPr>
          <p:cNvPr id="243" name="БлокТекста1"/>
          <p:cNvSpPr/>
          <p:nvPr/>
        </p:nvSpPr>
        <p:spPr>
          <a:xfrm>
            <a:off x="1187280" y="609300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 в прямом и переносн. .знач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Линия8"/>
          <p:cNvSpPr/>
          <p:nvPr/>
        </p:nvSpPr>
        <p:spPr>
          <a:xfrm flipH="1">
            <a:off x="1294920" y="6400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БлокТекста2"/>
          <p:cNvSpPr/>
          <p:nvPr/>
        </p:nvSpPr>
        <p:spPr>
          <a:xfrm>
            <a:off x="1143000" y="6400800"/>
            <a:ext cx="40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 на значок в формате «Показ слай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АвтоФигура8"/>
          <p:cNvSpPr/>
          <p:nvPr/>
        </p:nvSpPr>
        <p:spPr>
          <a:xfrm>
            <a:off x="2666880" y="914400"/>
            <a:ext cx="6324840" cy="990720"/>
          </a:xfrm>
          <a:prstGeom prst="roundRect">
            <a:avLst>
              <a:gd name="adj" fmla="val 1666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3"/>
          <p:cNvSpPr/>
          <p:nvPr/>
        </p:nvSpPr>
        <p:spPr>
          <a:xfrm>
            <a:off x="2971800" y="9144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лат.textum- ткань; связь, соединение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уппа  предложений, объединённых в целое темой и основной мыс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2:27:51Z</dcterms:created>
  <dc:creator>Администратор</dc:creator>
  <dc:description/>
  <dc:language>en-US</dc:language>
  <cp:lastModifiedBy>Евгения Репина</cp:lastModifiedBy>
  <dcterms:modified xsi:type="dcterms:W3CDTF">2018-01-12T20:34:09Z</dcterms:modified>
  <cp:revision>37</cp:revision>
  <dc:subject/>
  <dc:title>PowerPoint Presentation</dc:title>
</cp:coreProperties>
</file>