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24.jpeg" ContentType="image/jpeg"/>
  <Override PartName="/ppt/media/image8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jpeg" ContentType="image/jpeg"/>
  <Override PartName="/ppt/media/image5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BA93-BDFB-4F16-91D8-6C7DC58938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F44D-84F3-484D-AC06-F08B17A65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8D7-C35B-43B1-B709-21C48D2E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557-437B-4F45-BF14-A263F3AE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3ED-9B7F-440E-87DA-7C84E19F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C30-4CEA-4677-B64F-F18308D9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C967-291D-4FF3-B925-B32B8FEB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8C83-091B-4DD8-BB48-D3694B5E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4994-ED18-4010-BBAD-4F0B85E7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18BF-03F1-4F98-89DC-0E18979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BB54-B643-4E74-9CEF-6EA82877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1B85-DC59-4A4B-B106-6FB6C07A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911C-AD51-42E5-8D84-E771E6A1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351-BC2F-48F8-B865-91FC5DDD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0BC2-8C31-43DC-8A27-DE7E861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7BF7-6E51-44A1-99E0-865B7633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98EB-76D2-4AC4-89C6-48089659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2D7E-A3B3-4EAE-833F-EF8C3B9C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FA18-53BD-451D-B0D9-BAE0BBD1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25EE-EFAF-474D-8E59-79D8AD15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70E8-9712-4D39-A064-34D8C582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F9E1-0DCD-4E36-96B2-EEC0FA2F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378E-7D7F-4C53-ADAC-ABD81094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553D-4987-47FE-8D82-A273FF32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216-E664-47C4-B404-5988A39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966B-56CF-4D9C-95B5-322BA445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1D7B-0586-426F-8ECC-B198348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5D91-B528-4995-89C9-FF149AF2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D445-F3D5-4959-AC44-01D945CD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A28D-FFE4-4F95-9E4E-270720DA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DB59-4849-4E75-8409-D67C4361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E4AC-21E0-4986-939D-01D8D7FC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348F0-1C10-4EFD-BABE-9036F80D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82B2-B938-4FAF-8EA9-B376C28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67BB-3547-4E94-B22F-35C99207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C14-5FA9-417E-888D-86C02288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5257E-9EEA-44DC-86D0-85D261B5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775A-FA13-4A5F-8DC5-85C42B9D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86E6-D4B9-4BC3-B6BD-A4868E78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BFA2-04A9-4328-8753-03D71AD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26C75-DB4B-4414-9E8F-56A096D5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9287-CFEF-424B-932C-4C359803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7487-8775-45A7-8DCE-A3D8EE62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3210-30F0-4298-B040-25CE4FB9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92A2-1DCD-468A-BAD0-BDBE7FE1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F11FF-63E7-49C1-BBB5-8AB9BFAB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537-3009-4291-9276-97BB9C2B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46CEB-AE79-4FA1-8D1D-7D51857A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EEED0-1C02-46EF-8FDB-50846F20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8B8AD-53A2-4BDB-A8B3-A4CA131D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3F570-CE40-4C1B-9A09-9C88BA61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9215B-A730-4AA4-BD05-9E6944E7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E6E0-0790-4771-AD90-751896B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BC4D-EA71-42F7-889D-2E517431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1109F-3620-4F7D-A878-EF7A0DB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4C25-01EE-45A7-AE9F-D1253272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6FA7-704F-43BB-9855-2FD9272B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C41-2972-403C-8D64-F2DCFFE1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CF8A0-DE0E-45C9-B30E-66BC6D60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52D56-54BF-4568-996F-40015F12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D8DAA-D89B-4A33-A4A9-BFEE7729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FFCB1-F42E-4CAA-A8FC-9031ED9C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06FA-2397-4C07-AD0E-AC577766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17181-91C2-49A7-A2BB-9C4AA033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99A1B-8EDA-4769-B892-1897AFA1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ACE6C-58EB-4A2B-8EB1-20FD7106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AE74-20F6-43D7-AD29-C592AE12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0A925-D6B4-4BF4-B218-760080E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0F7-9D0D-4C8A-BDC3-70E839C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27F05-AE08-4FCE-9175-9A028EEC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AEEC1-8C1B-46E0-8CC1-B596BC70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DDF47-F752-4029-82DF-35D77B77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D9E2B-D73E-4A49-A800-BAACD164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F35B4-1179-46EE-BA87-9DFC06C7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D162-7CA7-41C6-80BE-2A78BCC0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8C1F5-915F-4550-B74C-50EFE6C3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14F34-DFE5-4066-8F9D-2A464AC2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B68D-D9CD-4081-9462-0FC8A17D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CE29-36F8-4EC7-B3E7-9F0C402A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600-2C4D-4981-98EF-5B6BAAC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BC6B-1E46-4E4A-BA0B-3699DBD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47C0F-8207-4E0E-9570-4137A012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480F2-882D-42A4-8A6A-9C219DD1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21B60-A929-4AF3-8D6F-C54B9E1B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87294-D03A-46C3-8A8F-37F66A8C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DD0A3-4EA7-4BEA-8894-6BCE5792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03CBD-1215-4DD1-A1DA-91DDB66A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2BAF-73CC-48C5-BEF1-E49A71D9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FD62D-F7A7-4EC4-9814-08796731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4903C-5A4D-4061-84BB-CBED12FF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591-EDEC-4F86-9B03-E57D862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4489D-5AD6-4119-9340-F8E9BBA9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8CEE6-34E9-4FC4-8B6A-9BF28F9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DFDDA-3902-4825-BC6C-EF88F036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C5B06-45CD-43BD-8CF7-75526980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27486-6D05-4FFB-B115-E5A1C408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73BBA-8F40-4A88-B266-286866AA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8C9D6-58B7-4CFF-AEAE-76D818BB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2BC5-B18F-45A0-AAF6-6ABBFC8B51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7067-DB9D-4E0E-9337-2563ECEC61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144-A391-4272-860D-24CC7DE589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EF59-471B-4208-A150-1ABA621D8A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446E-5EFB-44D4-BE22-900FAD7F07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19CA-4A72-4768-94E9-3F1F8C9998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38A3-7BDB-4BE5-8475-E4DADD437D9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E1EF-1270-4EE1-A228-D7BC9281FC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nsportal.ru/sites/default/files/2013/12/03/semeynyy_byudzhet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4"/>
          <p:cNvSpPr txBox="1"/>
          <p:nvPr/>
        </p:nvSpPr>
        <p:spPr>
          <a:xfrm>
            <a:off x="428760" y="857160"/>
            <a:ext cx="7858080" cy="39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4" name="Picture 2" descr="http://www.cbr.ru/fingramota/files/1.jpg"/>
          <p:cNvPicPr/>
          <p:nvPr/>
        </p:nvPicPr>
        <p:blipFill>
          <a:blip r:embed="rId1"/>
          <a:srcRect l="0" t="16063" r="0" b="0"/>
          <a:stretch/>
        </p:blipFill>
        <p:spPr>
          <a:xfrm>
            <a:off x="0" y="3571920"/>
            <a:ext cx="5187960" cy="25970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856880" y="1499760"/>
            <a:ext cx="63579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b0f0"/>
                </a:solidFill>
                <a:latin typeface="Corbel"/>
              </a:rPr>
              <a:t>Финансовая грамотность</a:t>
            </a:r>
            <a:br>
              <a:rPr sz="3900"/>
            </a:br>
            <a:r>
              <a:rPr b="0" lang="ru-RU" sz="3900" spc="-1" strike="noStrike">
                <a:solidFill>
                  <a:srgbClr val="00b0f0"/>
                </a:solidFill>
                <a:latin typeface="Corbel"/>
              </a:rPr>
              <a:t>Тема: «Семейный бюджет» </a:t>
            </a:r>
            <a:br>
              <a:rPr sz="3900"/>
            </a:br>
            <a:r>
              <a:rPr b="0" lang="ru-RU" sz="3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 кла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214960" y="5003640"/>
            <a:ext cx="3571920" cy="1354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Презентацию подготовила: Михайлова Ольга Иосифовна, учитель начальных классов МБОУ «Сунчелеевская СОШ имени академика Н.Т. Саврукова» Аксубаевского района 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минутка «дружная семья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13920" y="1523880"/>
            <a:ext cx="38782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ивет у нас в квартир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могу пересчитать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, мама, брат, сестрен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Мурка, два котен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щегол, сверчок и я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вся наша семья!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2" name="Содержимое 6" descr="https://ceca-blogs-sp.s3.amazonaws.com/blogs/mercantil-andina-seguros.jpg"/>
          <p:cNvPicPr/>
          <p:nvPr/>
        </p:nvPicPr>
        <p:blipFill>
          <a:blip r:embed="rId1"/>
          <a:stretch/>
        </p:blipFill>
        <p:spPr>
          <a:xfrm>
            <a:off x="5214960" y="1857240"/>
            <a:ext cx="365760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Group 51" descr=""/>
          <p:cNvPicPr/>
          <p:nvPr/>
        </p:nvPicPr>
        <p:blipFill>
          <a:blip r:embed="rId1"/>
          <a:stretch/>
        </p:blipFill>
        <p:spPr>
          <a:xfrm>
            <a:off x="566640" y="55440"/>
            <a:ext cx="7937640" cy="6626520"/>
          </a:xfrm>
          <a:prstGeom prst="rect">
            <a:avLst/>
          </a:prstGeom>
          <a:ln w="0">
            <a:noFill/>
          </a:ln>
        </p:spPr>
      </p:pic>
      <p:sp>
        <p:nvSpPr>
          <p:cNvPr id="434" name="WordArt 26"/>
          <p:cNvSpPr txBox="1"/>
          <p:nvPr/>
        </p:nvSpPr>
        <p:spPr>
          <a:xfrm>
            <a:off x="6443640" y="2708280"/>
            <a:ext cx="172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928800" y="214200"/>
          <a:ext cx="7821360" cy="4870440"/>
        </p:xfrm>
        <a:graphic>
          <a:graphicData uri="http://schemas.openxmlformats.org/drawingml/2006/table">
            <a:tbl>
              <a:tblPr/>
              <a:tblGrid>
                <a:gridCol w="3857400"/>
                <a:gridCol w="3963960"/>
              </a:tblGrid>
              <a:tr h="90180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7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WordArt 41"/>
          <p:cNvSpPr txBox="1"/>
          <p:nvPr/>
        </p:nvSpPr>
        <p:spPr>
          <a:xfrm>
            <a:off x="6443640" y="2852640"/>
            <a:ext cx="172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7" name="WordArt 42"/>
          <p:cNvSpPr txBox="1"/>
          <p:nvPr/>
        </p:nvSpPr>
        <p:spPr>
          <a:xfrm>
            <a:off x="2916360" y="2852640"/>
            <a:ext cx="172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4"/>
          <p:cNvSpPr/>
          <p:nvPr/>
        </p:nvSpPr>
        <p:spPr>
          <a:xfrm>
            <a:off x="1214280" y="1500120"/>
            <a:ext cx="2446560" cy="6476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ох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5143680" y="2428920"/>
            <a:ext cx="3000240" cy="64764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расх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6"/>
          <p:cNvSpPr/>
          <p:nvPr/>
        </p:nvSpPr>
        <p:spPr>
          <a:xfrm>
            <a:off x="1214280" y="2643120"/>
            <a:ext cx="2428920" cy="6476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ох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5143680" y="3571920"/>
            <a:ext cx="3047760" cy="64764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1214280" y="3714840"/>
            <a:ext cx="2428920" cy="6476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ох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5072040" y="1428840"/>
            <a:ext cx="3030480" cy="64764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WordArt 10"/>
          <p:cNvSpPr txBox="1"/>
          <p:nvPr/>
        </p:nvSpPr>
        <p:spPr>
          <a:xfrm>
            <a:off x="1357200" y="1643040"/>
            <a:ext cx="21430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f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00b0f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WordArt 12"/>
          <p:cNvSpPr txBox="1"/>
          <p:nvPr/>
        </p:nvSpPr>
        <p:spPr>
          <a:xfrm>
            <a:off x="1357200" y="2571840"/>
            <a:ext cx="19288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f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00b0f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6" name="WordArt 13"/>
          <p:cNvSpPr txBox="1"/>
          <p:nvPr/>
        </p:nvSpPr>
        <p:spPr>
          <a:xfrm>
            <a:off x="1357200" y="3857760"/>
            <a:ext cx="2214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f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00b0f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7" name="WordArt 14"/>
          <p:cNvSpPr txBox="1"/>
          <p:nvPr/>
        </p:nvSpPr>
        <p:spPr>
          <a:xfrm>
            <a:off x="5429160" y="1500120"/>
            <a:ext cx="235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8" name="WordArt 15"/>
          <p:cNvSpPr txBox="1"/>
          <p:nvPr/>
        </p:nvSpPr>
        <p:spPr>
          <a:xfrm rot="20986200">
            <a:off x="5489280" y="2249280"/>
            <a:ext cx="195084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9" name="WordArt 16"/>
          <p:cNvSpPr txBox="1"/>
          <p:nvPr/>
        </p:nvSpPr>
        <p:spPr>
          <a:xfrm>
            <a:off x="5286240" y="3643200"/>
            <a:ext cx="2643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0" name="WordArt 17"/>
          <p:cNvSpPr txBox="1"/>
          <p:nvPr/>
        </p:nvSpPr>
        <p:spPr>
          <a:xfrm>
            <a:off x="1357200" y="571680"/>
            <a:ext cx="30006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1" name="WordArt 19"/>
          <p:cNvSpPr txBox="1"/>
          <p:nvPr/>
        </p:nvSpPr>
        <p:spPr>
          <a:xfrm>
            <a:off x="5500800" y="500040"/>
            <a:ext cx="27144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2" name="WordArt 20"/>
          <p:cNvSpPr txBox="1"/>
          <p:nvPr/>
        </p:nvSpPr>
        <p:spPr>
          <a:xfrm>
            <a:off x="4572000" y="500040"/>
            <a:ext cx="500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3" name="WordArt 22"/>
          <p:cNvSpPr txBox="1"/>
          <p:nvPr/>
        </p:nvSpPr>
        <p:spPr>
          <a:xfrm>
            <a:off x="3857760" y="1643040"/>
            <a:ext cx="928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5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WordArt 23"/>
          <p:cNvSpPr txBox="1"/>
          <p:nvPr/>
        </p:nvSpPr>
        <p:spPr>
          <a:xfrm>
            <a:off x="4000680" y="2714760"/>
            <a:ext cx="8571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&gt;</a:t>
            </a:r>
            <a:endParaRPr b="0" lang="en-US" sz="5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24"/>
          <p:cNvSpPr txBox="1"/>
          <p:nvPr/>
        </p:nvSpPr>
        <p:spPr>
          <a:xfrm>
            <a:off x="4000680" y="3786120"/>
            <a:ext cx="857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&lt;</a:t>
            </a:r>
            <a:endParaRPr b="0" lang="en-US" sz="5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6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2" descr=""/>
          <p:cNvPicPr/>
          <p:nvPr/>
        </p:nvPicPr>
        <p:blipFill>
          <a:blip r:embed="rId1"/>
          <a:stretch/>
        </p:blipFill>
        <p:spPr>
          <a:xfrm>
            <a:off x="3071880" y="4429080"/>
            <a:ext cx="350028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ланируйте семейный бюджет исходя из доходов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41200" y="1981080"/>
            <a:ext cx="73753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Уходя из дома, не забывайте выключать с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Требуя новую игрушку, подумай о семейном бюджет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Проси у родителей новую игрушку к каждому праздни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Экономя семейный бюджет – откажись от экскурсии в муз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ходил в магазин, оставь сдачу себ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Бережно относись к своим веща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Напоминай родителям о своевременной оплате налог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Чаще пользуйтесь услугами такс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Пользуйтесь услугами доставки горячей пицц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Чаще разговаривай по сотовому телефону с друзь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4"/>
          <p:cNvSpPr txBox="1"/>
          <p:nvPr/>
        </p:nvSpPr>
        <p:spPr>
          <a:xfrm rot="20902800">
            <a:off x="1331640" y="549000"/>
            <a:ext cx="60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 не работает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т  не  ес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2" name="Picture 5" descr=""/>
          <p:cNvPicPr/>
          <p:nvPr/>
        </p:nvPicPr>
        <p:blipFill>
          <a:blip r:embed="rId1"/>
          <a:stretch/>
        </p:blipFill>
        <p:spPr>
          <a:xfrm>
            <a:off x="1285920" y="3286080"/>
            <a:ext cx="2857320" cy="3286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2"/>
          <a:stretch/>
        </p:blipFill>
        <p:spPr>
          <a:xfrm>
            <a:off x="6643800" y="1928880"/>
            <a:ext cx="2214360" cy="2714400"/>
          </a:xfrm>
          <a:prstGeom prst="rect">
            <a:avLst/>
          </a:prstGeom>
          <a:ln w="0">
            <a:noFill/>
          </a:ln>
        </p:spPr>
      </p:pic>
      <p:cxnSp>
        <p:nvCxnSpPr>
          <p:cNvPr id="464" name="Прямая со стрелкой 7"/>
          <p:cNvCxnSpPr/>
          <p:nvPr/>
        </p:nvCxnSpPr>
        <p:spPr>
          <a:xfrm flipH="1">
            <a:off x="4571280" y="3570840"/>
            <a:ext cx="1857960" cy="1429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5"/>
          <p:cNvSpPr txBox="1"/>
          <p:nvPr/>
        </p:nvSpPr>
        <p:spPr>
          <a:xfrm>
            <a:off x="1571760" y="500040"/>
            <a:ext cx="628632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ейная экономика -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правильное ведение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ейного хозяйства.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оскажи словечко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, мама, братишка и я – наша дружная ____________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ная плата папы и мамы, стипендия брата – это ___________ нашей семь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купила сыр, масло, хлеб, заплатила за квартиру и подсчитала свой ________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Рисунок 3" descr="C:\Documents and Settings\ученик\Рабочий стол\20.11.2013 будет ли повышение зп.jpg"/>
          <p:cNvPicPr/>
          <p:nvPr/>
        </p:nvPicPr>
        <p:blipFill>
          <a:blip r:embed="rId1"/>
          <a:stretch/>
        </p:blipFill>
        <p:spPr>
          <a:xfrm>
            <a:off x="1000080" y="1357200"/>
            <a:ext cx="2670120" cy="2286000"/>
          </a:xfrm>
          <a:prstGeom prst="rect">
            <a:avLst/>
          </a:prstGeom>
          <a:ln w="0">
            <a:noFill/>
          </a:ln>
        </p:spPr>
      </p:pic>
      <p:pic>
        <p:nvPicPr>
          <p:cNvPr id="471" name="Рисунок 4" descr="C:\Documents and Settings\ученик\Рабочий стол\20.11.2013 будет ли повышение зп.jpg"/>
          <p:cNvPicPr/>
          <p:nvPr/>
        </p:nvPicPr>
        <p:blipFill>
          <a:blip r:embed="rId2"/>
          <a:stretch/>
        </p:blipFill>
        <p:spPr>
          <a:xfrm>
            <a:off x="4500720" y="1500120"/>
            <a:ext cx="2087280" cy="183528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5" descr="C:\Documents and Settings\ученик\Рабочий стол\20.11.2013 будет ли повышение зп.jpg"/>
          <p:cNvPicPr/>
          <p:nvPr/>
        </p:nvPicPr>
        <p:blipFill>
          <a:blip r:embed="rId3"/>
          <a:stretch/>
        </p:blipFill>
        <p:spPr>
          <a:xfrm>
            <a:off x="7072200" y="1714680"/>
            <a:ext cx="1643040" cy="11905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"/>
          <p:cNvSpPr/>
          <p:nvPr/>
        </p:nvSpPr>
        <p:spPr>
          <a:xfrm>
            <a:off x="1332000" y="3480840"/>
            <a:ext cx="2016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меня 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6"/>
          <p:cNvSpPr/>
          <p:nvPr/>
        </p:nvSpPr>
        <p:spPr>
          <a:xfrm>
            <a:off x="7645320" y="312120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берите себе кошелё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Прямоугольник 4"/>
          <p:cNvSpPr/>
          <p:nvPr/>
        </p:nvSpPr>
        <p:spPr>
          <a:xfrm>
            <a:off x="4540320" y="4059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адо е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5"/>
          <p:cNvSpPr/>
          <p:nvPr/>
        </p:nvSpPr>
        <p:spPr>
          <a:xfrm>
            <a:off x="6797520" y="3522600"/>
            <a:ext cx="19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чего не понял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нее задание.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142640" y="1523880"/>
            <a:ext cx="37148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Учебник: прочитать текст на с.75-78,ответить на вопросы раздела  «Проверь себя» на с.78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Рабочая тетрадь: №3-4 (с. 42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tretch/>
        </p:blipFill>
        <p:spPr>
          <a:xfrm>
            <a:off x="5072040" y="1643040"/>
            <a:ext cx="386244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7164360" y="1341360"/>
            <a:ext cx="574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8" name="WordArt 5"/>
          <p:cNvSpPr txBox="1"/>
          <p:nvPr/>
        </p:nvSpPr>
        <p:spPr>
          <a:xfrm>
            <a:off x="8172360" y="1341360"/>
            <a:ext cx="743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WordArt 6"/>
          <p:cNvSpPr txBox="1"/>
          <p:nvPr/>
        </p:nvSpPr>
        <p:spPr>
          <a:xfrm>
            <a:off x="5867280" y="1341360"/>
            <a:ext cx="792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"/>
          <p:cNvSpPr txBox="1"/>
          <p:nvPr/>
        </p:nvSpPr>
        <p:spPr>
          <a:xfrm>
            <a:off x="2700360" y="134136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8"/>
          <p:cNvSpPr txBox="1"/>
          <p:nvPr/>
        </p:nvSpPr>
        <p:spPr>
          <a:xfrm>
            <a:off x="3851280" y="134136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2" name="WordArt 9"/>
          <p:cNvSpPr txBox="1"/>
          <p:nvPr/>
        </p:nvSpPr>
        <p:spPr>
          <a:xfrm>
            <a:off x="4859280" y="134136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3" name="Picture 10" descr="Безимени-7"/>
          <p:cNvPicPr/>
          <p:nvPr/>
        </p:nvPicPr>
        <p:blipFill>
          <a:blip r:embed="rId1"/>
          <a:stretch/>
        </p:blipFill>
        <p:spPr>
          <a:xfrm>
            <a:off x="857160" y="2571840"/>
            <a:ext cx="7358040" cy="4030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4.10405E-006 L -0.56302 4.10405E-006 E">
                                      <p:cBhvr>
                                        <p:cTn id="6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5434 4.10405E-006 E">
                                      <p:cBhvr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L -0.14166 6.7052E-006 E">
                                      <p:cBhvr>
                                        <p:cTn id="10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10405E-006 L 0.42135 4.10405E-006 E">
                                      <p:cBhvr>
                                        <p:cTn id="12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62428E-007 L 0.42517 4.62428E-007 E">
                                      <p:cBhvr>
                                        <p:cTn id="14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4.91329E-006 L 0.42518 -4.91329E-006 E">
                                      <p:cBhvr>
                                        <p:cTn id="16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https://allyslide.com/thumbs/1484ef6227db1c274be4bd287abfcf5c/img12.jpg"/>
          <p:cNvPicPr/>
          <p:nvPr/>
        </p:nvPicPr>
        <p:blipFill>
          <a:blip r:embed="rId1"/>
          <a:stretch/>
        </p:blipFill>
        <p:spPr>
          <a:xfrm>
            <a:off x="1857240" y="500040"/>
            <a:ext cx="6572520" cy="5715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рок окончен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44480" y="4284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Использованная литература и интернет ресурсы: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жегов С.И. и Шведова Н.Ю. толковый словарь русского языка: 80000 слов и фразеологических выражений / Российская академия наук. Институт русского языка им. В.В.Виноградова. – 4-е изд., дополненное. - М.: ООО «ИТИ ТЕХНОЛОГИИ», 2003.- 944стр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лешаков А.А. Окружающий мир. 3 класс. Учебник для общеобразовательных организаций с прил. на электрон. носителе. В 2 ч. Ч. 1/ А.А.Плешаков.-3-е изд.- М.: Просвещение, 2013.-175 с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 Васильева Н.Ю. Поурочные разработки по курсу «Окружающий мир»: 3 класс. – М.:ВАКО, 2013.- 384 с.( В помощь школьному учителю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.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https://nsportal.ru/sites/default/files/2013/12/03/semeynyy_byudzhet.pp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tps://fs01.infourok.ru/uploads/39057032638.docx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един, С. Н. Финансовая грамотность: материалы для учащихся. 2, 3 классы общеобразоват. орг. в 2- х частях. Ч.2/ С.Н. Федин. – М.: ВИТА_ПРЕСС, 2015. –(Дополнительное образование: Серия «Учимся разумному финансовому поведению»).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0000000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отнесите термин с его определением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4280" y="1500120"/>
          <a:ext cx="7167600" cy="2633760"/>
        </p:xfrm>
        <a:graphic>
          <a:graphicData uri="http://schemas.openxmlformats.org/drawingml/2006/table">
            <a:tbl>
              <a:tblPr/>
              <a:tblGrid>
                <a:gridCol w="3584880"/>
                <a:gridCol w="3582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ьги, поступающие в 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ги, которые тратит государ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ные государством плат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071800" y="4357800"/>
            <a:ext cx="4714920" cy="207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785960" y="1521000"/>
            <a:ext cx="3657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Бартер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Сбереж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Рубл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Това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вариа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Зарпла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Долла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Деньг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Копей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8" descr="http://miranimacii.ru/_ph/23/146855650.gif"/>
          <p:cNvPicPr/>
          <p:nvPr/>
        </p:nvPicPr>
        <p:blipFill>
          <a:blip r:embed="rId1"/>
          <a:stretch/>
        </p:blipFill>
        <p:spPr>
          <a:xfrm>
            <a:off x="1285920" y="4214880"/>
            <a:ext cx="2000160" cy="2047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http://miranimacii.ru/_ph/23/146855650.gif"/>
          <p:cNvPicPr/>
          <p:nvPr/>
        </p:nvPicPr>
        <p:blipFill>
          <a:blip r:embed="rId2"/>
          <a:stretch/>
        </p:blipFill>
        <p:spPr>
          <a:xfrm>
            <a:off x="6429240" y="4000680"/>
            <a:ext cx="20005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Безимени-6"/>
          <p:cNvPicPr/>
          <p:nvPr/>
        </p:nvPicPr>
        <p:blipFill>
          <a:blip r:embed="rId1"/>
          <a:stretch/>
        </p:blipFill>
        <p:spPr>
          <a:xfrm>
            <a:off x="2000160" y="2643120"/>
            <a:ext cx="5429520" cy="381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3" name="WordArt 4"/>
          <p:cNvSpPr txBox="1"/>
          <p:nvPr/>
        </p:nvSpPr>
        <p:spPr>
          <a:xfrm>
            <a:off x="928800" y="260280"/>
            <a:ext cx="78184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емейный бюджет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 rot="870000">
            <a:off x="4727160" y="2549520"/>
            <a:ext cx="4033800" cy="1755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3">
            <a:lum bright="-16000"/>
          </a:blip>
          <a:stretch/>
        </p:blipFill>
        <p:spPr>
          <a:xfrm rot="20814600">
            <a:off x="2955600" y="4599000"/>
            <a:ext cx="4253040" cy="1987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bux"/>
          <p:cNvPicPr/>
          <p:nvPr/>
        </p:nvPicPr>
        <p:blipFill>
          <a:blip r:embed="rId4"/>
          <a:stretch/>
        </p:blipFill>
        <p:spPr>
          <a:xfrm>
            <a:off x="1357200" y="4357800"/>
            <a:ext cx="2659320" cy="1773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5">
            <a:lum bright="-16000"/>
          </a:blip>
          <a:stretch/>
        </p:blipFill>
        <p:spPr>
          <a:xfrm rot="20814600">
            <a:off x="526680" y="2455920"/>
            <a:ext cx="4253040" cy="198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7"/>
          <p:cNvSpPr/>
          <p:nvPr/>
        </p:nvSpPr>
        <p:spPr>
          <a:xfrm>
            <a:off x="1643040" y="2143080"/>
            <a:ext cx="5761080" cy="2000160"/>
          </a:xfrm>
          <a:prstGeom prst="wedgeEllipseCallout">
            <a:avLst>
              <a:gd name="adj1" fmla="val -35837"/>
              <a:gd name="adj2" fmla="val 5686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WordArt 4"/>
          <p:cNvSpPr txBox="1"/>
          <p:nvPr/>
        </p:nvSpPr>
        <p:spPr>
          <a:xfrm>
            <a:off x="2000160" y="2492280"/>
            <a:ext cx="4786560" cy="12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2d05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мейный бюджет</a:t>
            </a:r>
            <a:endParaRPr b="1" lang="en-US" sz="1800" spc="1" strike="noStrike">
              <a:ln w="0">
                <a:noFill/>
              </a:ln>
              <a:solidFill>
                <a:srgbClr val="92d05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0" name="AutoShape 5"/>
          <p:cNvSpPr/>
          <p:nvPr/>
        </p:nvSpPr>
        <p:spPr>
          <a:xfrm rot="1143000">
            <a:off x="4211640" y="333360"/>
            <a:ext cx="2952720" cy="1584360"/>
          </a:xfrm>
          <a:custGeom>
            <a:avLst/>
            <a:gdLst>
              <a:gd name="textAreaLeft" fmla="*/ 516600 w 2952720"/>
              <a:gd name="textAreaRight" fmla="*/ 2140920 w 295272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eb80a"/>
          </a:solidFill>
          <a:ln w="2556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6"/>
          <p:cNvSpPr/>
          <p:nvPr/>
        </p:nvSpPr>
        <p:spPr>
          <a:xfrm rot="1153800">
            <a:off x="3497400" y="4787640"/>
            <a:ext cx="3084480" cy="1606320"/>
          </a:xfrm>
          <a:custGeom>
            <a:avLst/>
            <a:gdLst>
              <a:gd name="textAreaLeft" fmla="*/ 519840 w 3084480"/>
              <a:gd name="textAreaRight" fmla="*/ 2229840 w 3084480"/>
              <a:gd name="textAreaTop" fmla="*/ 214920 h 1606320"/>
              <a:gd name="textAreaBottom" fmla="*/ 1391400 h 16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84" hR="21600" stAng="10800000" swAng="-5400000"/>
                <a:lnTo>
                  <a:pt x="11973" y="21600"/>
                </a:lnTo>
                <a:arcTo wR="7284" hR="21600" stAng="5400000" swAng="-2618623"/>
                <a:lnTo>
                  <a:pt x="21183" y="7200"/>
                </a:lnTo>
                <a:lnTo>
                  <a:pt x="16912" y="0"/>
                </a:lnTo>
                <a:lnTo>
                  <a:pt x="11806" y="7200"/>
                </a:lnTo>
                <a:lnTo>
                  <a:pt x="14150" y="7200"/>
                </a:lnTo>
                <a:arcTo wR="7284" hR="21600" stAng="2781377" swAng="2226221"/>
                <a:lnTo>
                  <a:pt x="9628" y="20450"/>
                </a:lnTo>
                <a:arcTo wR="7284" hR="21600" stAng="5792402" swAng="5007598"/>
                <a:close/>
              </a:path>
              <a:path fill="darkenLess" w="21600" h="21600">
                <a:moveTo>
                  <a:pt x="0" y="0"/>
                </a:moveTo>
                <a:arcTo wR="7284" hR="21600" stAng="10800000" swAng="-5400000"/>
                <a:lnTo>
                  <a:pt x="11973" y="21600"/>
                </a:lnTo>
                <a:arcTo wR="7284" hR="21600" stAng="5400000" swAng="392402"/>
                <a:lnTo>
                  <a:pt x="9628" y="20450"/>
                </a:lnTo>
                <a:arcTo wR="7284" hR="21600" stAng="5792402" swAng="5007598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9"/>
          <p:cNvSpPr txBox="1"/>
          <p:nvPr/>
        </p:nvSpPr>
        <p:spPr>
          <a:xfrm>
            <a:off x="6072120" y="4000680"/>
            <a:ext cx="250056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3" name="AutoShape 10"/>
          <p:cNvSpPr/>
          <p:nvPr/>
        </p:nvSpPr>
        <p:spPr>
          <a:xfrm rot="1543800">
            <a:off x="7157520" y="879480"/>
            <a:ext cx="1406520" cy="137628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8"/>
          <p:cNvSpPr txBox="1"/>
          <p:nvPr/>
        </p:nvSpPr>
        <p:spPr>
          <a:xfrm>
            <a:off x="1000080" y="1197000"/>
            <a:ext cx="2928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мейный дохо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857240" y="1357200"/>
            <a:ext cx="671544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1000080" y="5300640"/>
            <a:ext cx="4291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ход семьи</a:t>
            </a:r>
            <a:endParaRPr b="0" lang="en-US" sz="1800" spc="1" strike="noStrike">
              <a:ln w="0">
                <a:noFill/>
              </a:ln>
              <a:solidFill>
                <a:srgbClr val="00b0f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6"/>
          <p:cNvSpPr txBox="1"/>
          <p:nvPr/>
        </p:nvSpPr>
        <p:spPr>
          <a:xfrm>
            <a:off x="2928960" y="981000"/>
            <a:ext cx="18572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нси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WordArt 8"/>
          <p:cNvSpPr txBox="1"/>
          <p:nvPr/>
        </p:nvSpPr>
        <p:spPr>
          <a:xfrm>
            <a:off x="2857680" y="2276640"/>
            <a:ext cx="18572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обие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0" name="WordArt 9"/>
          <p:cNvSpPr txBox="1"/>
          <p:nvPr/>
        </p:nvSpPr>
        <p:spPr>
          <a:xfrm>
            <a:off x="3059280" y="3068640"/>
            <a:ext cx="143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нта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1" name="WordArt 10"/>
          <p:cNvSpPr txBox="1"/>
          <p:nvPr/>
        </p:nvSpPr>
        <p:spPr>
          <a:xfrm>
            <a:off x="2428920" y="3645000"/>
            <a:ext cx="22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цент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258920" y="4941720"/>
            <a:ext cx="40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14"/>
          <p:cNvSpPr txBox="1"/>
          <p:nvPr/>
        </p:nvSpPr>
        <p:spPr>
          <a:xfrm>
            <a:off x="2571840" y="4221000"/>
            <a:ext cx="200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быль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WordArt 16"/>
          <p:cNvSpPr txBox="1"/>
          <p:nvPr/>
        </p:nvSpPr>
        <p:spPr>
          <a:xfrm>
            <a:off x="2643120" y="1628640"/>
            <a:ext cx="2228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пенди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2"/>
          <p:cNvSpPr txBox="1"/>
          <p:nvPr/>
        </p:nvSpPr>
        <p:spPr>
          <a:xfrm>
            <a:off x="1000080" y="1928880"/>
            <a:ext cx="1285920" cy="12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1" lang="en-US" sz="7200" spc="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5"/>
          <p:cNvSpPr txBox="1"/>
          <p:nvPr/>
        </p:nvSpPr>
        <p:spPr>
          <a:xfrm>
            <a:off x="1000080" y="189000"/>
            <a:ext cx="3924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работная плата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7" name="Picture 14" descr="Составляя бюджет, семья при планировании расходов в первую очередь"/>
          <p:cNvPicPr/>
          <p:nvPr/>
        </p:nvPicPr>
        <p:blipFill>
          <a:blip r:embed="rId1"/>
          <a:stretch/>
        </p:blipFill>
        <p:spPr>
          <a:xfrm>
            <a:off x="5214960" y="285840"/>
            <a:ext cx="392904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Group 43" descr=""/>
          <p:cNvPicPr/>
          <p:nvPr/>
        </p:nvPicPr>
        <p:blipFill>
          <a:blip r:embed="rId1"/>
          <a:stretch/>
        </p:blipFill>
        <p:spPr>
          <a:xfrm>
            <a:off x="420840" y="152280"/>
            <a:ext cx="8119800" cy="7182000"/>
          </a:xfrm>
          <a:prstGeom prst="rect">
            <a:avLst/>
          </a:prstGeom>
          <a:ln w="0">
            <a:noFill/>
          </a:ln>
        </p:spPr>
      </p:pic>
      <p:pic>
        <p:nvPicPr>
          <p:cNvPr id="419" name="WordArt 24" descr=""/>
          <p:cNvPicPr/>
          <p:nvPr/>
        </p:nvPicPr>
        <p:blipFill>
          <a:blip r:embed="rId2"/>
          <a:stretch/>
        </p:blipFill>
        <p:spPr>
          <a:xfrm>
            <a:off x="4645080" y="1206360"/>
            <a:ext cx="3816360" cy="689040"/>
          </a:xfrm>
          <a:prstGeom prst="rect">
            <a:avLst/>
          </a:prstGeom>
          <a:ln w="0">
            <a:noFill/>
          </a:ln>
        </p:spPr>
      </p:pic>
      <p:sp>
        <p:nvSpPr>
          <p:cNvPr id="420" name="WordArt 26"/>
          <p:cNvSpPr txBox="1"/>
          <p:nvPr/>
        </p:nvSpPr>
        <p:spPr>
          <a:xfrm>
            <a:off x="4643280" y="2000160"/>
            <a:ext cx="12859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b80a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b80a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1" name="WordArt 27"/>
          <p:cNvSpPr txBox="1"/>
          <p:nvPr/>
        </p:nvSpPr>
        <p:spPr>
          <a:xfrm>
            <a:off x="4643280" y="2571840"/>
            <a:ext cx="12859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ит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WordArt 28"/>
          <p:cNvSpPr txBox="1"/>
          <p:nvPr/>
        </p:nvSpPr>
        <p:spPr>
          <a:xfrm>
            <a:off x="6072120" y="2000160"/>
            <a:ext cx="2000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транспо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3" name="WordArt 29"/>
          <p:cNvSpPr txBox="1"/>
          <p:nvPr/>
        </p:nvSpPr>
        <p:spPr>
          <a:xfrm>
            <a:off x="6072120" y="2428920"/>
            <a:ext cx="235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c76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одежда и обув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c76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4" name="WordArt 30"/>
          <p:cNvSpPr txBox="1"/>
          <p:nvPr/>
        </p:nvSpPr>
        <p:spPr>
          <a:xfrm>
            <a:off x="4714920" y="3143160"/>
            <a:ext cx="3643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ультурный дос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WordArt 31"/>
          <p:cNvSpPr txBox="1"/>
          <p:nvPr/>
        </p:nvSpPr>
        <p:spPr>
          <a:xfrm>
            <a:off x="4714920" y="3714840"/>
            <a:ext cx="16430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b80a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ле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b80a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WordArt 32"/>
          <p:cNvSpPr txBox="1"/>
          <p:nvPr/>
        </p:nvSpPr>
        <p:spPr>
          <a:xfrm>
            <a:off x="4714920" y="4214880"/>
            <a:ext cx="35719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c76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утешест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c76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WordArt 33"/>
          <p:cNvSpPr txBox="1"/>
          <p:nvPr/>
        </p:nvSpPr>
        <p:spPr>
          <a:xfrm>
            <a:off x="6572160" y="3643200"/>
            <a:ext cx="164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меб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WordArt 34"/>
          <p:cNvSpPr txBox="1"/>
          <p:nvPr/>
        </p:nvSpPr>
        <p:spPr>
          <a:xfrm>
            <a:off x="4786200" y="4714920"/>
            <a:ext cx="3357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ытовая 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WordArt 35"/>
          <p:cNvSpPr txBox="1"/>
          <p:nvPr/>
        </p:nvSpPr>
        <p:spPr>
          <a:xfrm>
            <a:off x="4714920" y="5286240"/>
            <a:ext cx="35719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b80a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дметы личной гиги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b80a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4:03:05Z</dcterms:created>
  <dc:creator>Ольга</dc:creator>
  <dc:description/>
  <dc:language>en-US</dc:language>
  <cp:lastModifiedBy>Пользователь Windows</cp:lastModifiedBy>
  <dcterms:modified xsi:type="dcterms:W3CDTF">2020-03-12T08:47:21Z</dcterms:modified>
  <cp:revision>102</cp:revision>
  <dc:subject/>
  <dc:title>Слайд 1</dc:title>
</cp:coreProperties>
</file>